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1597-EF9D-45ED-B52B-FAA485986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C39F-A4F1-487A-939E-B2003E818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1690-2CAD-4892-8622-7E5103A48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6914-9BE6-446E-9B5E-640610A7B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F1DC-C752-4D34-81E9-3397AC514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AEB5-61E4-4FBC-A599-A00EA0069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A07E-4379-4478-BBDD-C5B4F8B14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479F-EA03-4B2E-8329-43FD5A016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DA35-AD25-455B-9A58-CF381BA8E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DDC6-DF49-44AA-B37F-15309C31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6890-C063-4A01-95A0-88A125CC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3FA3-8038-4599-BDDA-F059F63A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60391-2E78-48DA-B83A-22EC2A2762E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9.png"/><Relationship Id="rId9" Type="http://schemas.openxmlformats.org/officeDocument/2006/relationships/image" Target="../media/image12.png"/><Relationship Id="rId10" Type="http://schemas.openxmlformats.org/officeDocument/2006/relationships/hyperlink" Target="http://www.eeppt.com/moban/" TargetMode="External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wps封面1"/>
          <p:cNvPicPr/>
          <p:nvPr/>
        </p:nvPicPr>
        <p:blipFill>
          <a:blip r:embed="rId1"/>
          <a:stretch/>
        </p:blipFill>
        <p:spPr>
          <a:xfrm>
            <a:off x="14400" y="1440"/>
            <a:ext cx="12190320" cy="68551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450720" y="844560"/>
            <a:ext cx="1038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8000"/>
                </a:solidFill>
                <a:latin typeface="Calibri"/>
                <a:ea typeface="微软雅黑"/>
              </a:rPr>
              <a:t>Simple,Powerful</a:t>
            </a:r>
            <a:r>
              <a:rPr b="1" lang="en-US" sz="6600" spc="-1" strike="noStrike">
                <a:solidFill>
                  <a:srgbClr val="006600"/>
                </a:solidFill>
                <a:latin typeface="Calibri"/>
                <a:ea typeface="微软雅黑"/>
              </a:rPr>
              <a:t> </a:t>
            </a:r>
            <a:r>
              <a:rPr b="1" lang="en-US" sz="6600" spc="-1" strike="noStrike">
                <a:solidFill>
                  <a:srgbClr val="ff7c80"/>
                </a:solidFill>
                <a:latin typeface="Calibri"/>
                <a:ea typeface="微软雅黑"/>
              </a:rPr>
              <a:t>and</a:t>
            </a:r>
            <a:r>
              <a:rPr b="1" lang="en-US" sz="6600" spc="-1" strike="noStrike">
                <a:solidFill>
                  <a:srgbClr val="00ff99"/>
                </a:solidFill>
                <a:latin typeface="Calibri"/>
                <a:ea typeface="微软雅黑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00"/>
                </a:solidFill>
                <a:latin typeface="Calibri"/>
                <a:ea typeface="微软雅黑"/>
              </a:rPr>
              <a:t>                                       </a:t>
            </a:r>
            <a:r>
              <a:rPr b="1" lang="en-US" sz="7200" spc="-1" strike="noStrike">
                <a:solidFill>
                  <a:srgbClr val="008000"/>
                </a:solidFill>
                <a:latin typeface="Calibri"/>
                <a:ea typeface="微软雅黑"/>
              </a:rPr>
              <a:t>Fre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987480" y="1006560"/>
            <a:ext cx="463320" cy="1019160"/>
          </a:xfrm>
          <a:prstGeom prst="triangle">
            <a:avLst>
              <a:gd name="adj" fmla="val 0"/>
            </a:avLst>
          </a:prstGeom>
          <a:solidFill>
            <a:srgbClr val="ffffff">
              <a:alpha val="43000"/>
            </a:srgbClr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AutoShape 5"/>
          <p:cNvSpPr/>
          <p:nvPr/>
        </p:nvSpPr>
        <p:spPr>
          <a:xfrm flipV="1">
            <a:off x="3478320" y="1276200"/>
            <a:ext cx="1230120" cy="673200"/>
          </a:xfrm>
          <a:prstGeom prst="triangle">
            <a:avLst>
              <a:gd name="adj" fmla="val 50000"/>
            </a:avLst>
          </a:prstGeom>
          <a:solidFill>
            <a:srgbClr val="ffffff">
              <a:alpha val="43000"/>
            </a:srgbClr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8939160" y="1846440"/>
            <a:ext cx="750960" cy="1035000"/>
          </a:xfrm>
          <a:prstGeom prst="triangle">
            <a:avLst>
              <a:gd name="adj" fmla="val 89815"/>
            </a:avLst>
          </a:prstGeom>
          <a:solidFill>
            <a:srgbClr val="ffffff">
              <a:alpha val="43000"/>
            </a:srgbClr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3484440" y="33336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简洁卡通幻灯片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内容2"/>
          <p:cNvPicPr/>
          <p:nvPr/>
        </p:nvPicPr>
        <p:blipFill>
          <a:blip r:embed="rId1"/>
          <a:stretch/>
        </p:blipFill>
        <p:spPr>
          <a:xfrm>
            <a:off x="0" y="1440"/>
            <a:ext cx="12192120" cy="68551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3"/>
          <p:cNvSpPr/>
          <p:nvPr/>
        </p:nvSpPr>
        <p:spPr>
          <a:xfrm>
            <a:off x="2209680" y="3961440"/>
            <a:ext cx="787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         </a:t>
            </a:r>
            <a:r>
              <a:rPr b="0" lang="en-US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2011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年，英国达人秀的舞台上，</a:t>
            </a:r>
            <a:r>
              <a:rPr b="0" lang="en-US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7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岁女孩</a:t>
            </a:r>
            <a:r>
              <a:rPr b="0" lang="en-US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Olivia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脖子上缠绕着她的好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友</a:t>
            </a:r>
            <a:r>
              <a:rPr b="0" lang="en-US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Lucy——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一条蟒蛇，念了一首自己创作的               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2254320" y="1439640"/>
            <a:ext cx="790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alibri"/>
              </a:rPr>
              <a:t>                            </a:t>
            </a:r>
            <a:r>
              <a:rPr b="0" lang="zh-CN" sz="1800" spc="-1" strike="noStrike">
                <a:solidFill>
                  <a:srgbClr val="008000"/>
                </a:solidFill>
                <a:latin typeface="Calibri"/>
                <a:ea typeface="微软雅黑"/>
              </a:rPr>
              <a:t>以各种形式存在着，从唐诗宋词，到现代诗，多少诗句给予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Calibri"/>
                <a:ea typeface="微软雅黑"/>
              </a:rPr>
              <a:t>我们力量、解答了我们的疑问、直击我们的痛楚、净化我们的心灵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2330280" y="3094200"/>
            <a:ext cx="754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alibri"/>
              </a:rPr>
              <a:t>             </a:t>
            </a:r>
            <a:r>
              <a:rPr b="0" lang="en-US" sz="1800" spc="-1" strike="noStrike">
                <a:solidFill>
                  <a:srgbClr val="008000"/>
                </a:solidFill>
                <a:latin typeface="Calibri"/>
                <a:ea typeface="微软雅黑"/>
              </a:rPr>
              <a:t>              </a:t>
            </a:r>
            <a:r>
              <a:rPr b="0" lang="zh-CN" sz="1800" spc="-1" strike="noStrike">
                <a:solidFill>
                  <a:srgbClr val="008000"/>
                </a:solidFill>
                <a:latin typeface="Calibri"/>
                <a:ea typeface="微软雅黑"/>
              </a:rPr>
              <a:t>句不需要既定的形式，管他诗律、诗格、诗境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Oval 6"/>
          <p:cNvSpPr/>
          <p:nvPr/>
        </p:nvSpPr>
        <p:spPr>
          <a:xfrm>
            <a:off x="2841480" y="1173240"/>
            <a:ext cx="854280" cy="823680"/>
          </a:xfrm>
          <a:prstGeom prst="ellipse">
            <a:avLst/>
          </a:prstGeom>
          <a:solidFill>
            <a:srgbClr val="ffff00">
              <a:alpha val="91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Calibri"/>
                <a:ea typeface="微软雅黑"/>
              </a:rPr>
              <a:t>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Oval 7"/>
          <p:cNvSpPr/>
          <p:nvPr/>
        </p:nvSpPr>
        <p:spPr>
          <a:xfrm>
            <a:off x="2878200" y="2832120"/>
            <a:ext cx="853920" cy="824040"/>
          </a:xfrm>
          <a:prstGeom prst="ellipse">
            <a:avLst/>
          </a:prstGeom>
          <a:solidFill>
            <a:srgbClr val="ffff00">
              <a:alpha val="91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Calibri"/>
                <a:ea typeface="微软雅黑"/>
              </a:rPr>
              <a:t>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Oval 8"/>
          <p:cNvSpPr/>
          <p:nvPr/>
        </p:nvSpPr>
        <p:spPr>
          <a:xfrm>
            <a:off x="6832440" y="4280040"/>
            <a:ext cx="854280" cy="823680"/>
          </a:xfrm>
          <a:prstGeom prst="ellipse">
            <a:avLst/>
          </a:prstGeom>
          <a:solidFill>
            <a:srgbClr val="ffff00">
              <a:alpha val="91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Calibri"/>
                <a:ea typeface="微软雅黑"/>
              </a:rPr>
              <a:t>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40">
                                  <p:stCondLst>
                                    <p:cond delay="2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40">
                                  <p:stCondLst>
                                    <p:cond delay="4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内容2"/>
          <p:cNvPicPr/>
          <p:nvPr/>
        </p:nvPicPr>
        <p:blipFill>
          <a:blip r:embed="rId1"/>
          <a:stretch/>
        </p:blipFill>
        <p:spPr>
          <a:xfrm>
            <a:off x="0" y="1440"/>
            <a:ext cx="12192120" cy="68551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3"/>
          <p:cNvSpPr/>
          <p:nvPr/>
        </p:nvSpPr>
        <p:spPr>
          <a:xfrm>
            <a:off x="3150720" y="901800"/>
            <a:ext cx="6544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Microsoft Sans Serif"/>
              </a:rPr>
              <a:t>Come on,don't you have a </a:t>
            </a:r>
            <a:r>
              <a:rPr b="0" lang="en-US" sz="1800" spc="-1" strike="noStrike">
                <a:solidFill>
                  <a:srgbClr val="ff6699"/>
                </a:solidFill>
                <a:latin typeface="Microsoft Sans Serif"/>
              </a:rPr>
              <a:t>hea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Microsoft Sans Serif"/>
              </a:rPr>
              <a:t>You don't want these animals to </a:t>
            </a:r>
            <a:r>
              <a:rPr b="0" lang="en-US" sz="1800" spc="-1" strike="noStrike">
                <a:solidFill>
                  <a:srgbClr val="ff6699"/>
                </a:solidFill>
                <a:latin typeface="Microsoft Sans Serif"/>
              </a:rPr>
              <a:t>depa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Microsoft Sans Serif"/>
              </a:rPr>
              <a:t>Forget the X Factor and the Top Ten singing </a:t>
            </a:r>
            <a:r>
              <a:rPr b="0" lang="en-US" sz="1800" spc="-1" strike="noStrike">
                <a:solidFill>
                  <a:srgbClr val="ff6699"/>
                </a:solidFill>
                <a:latin typeface="Microsoft Sans Serif"/>
              </a:rPr>
              <a:t>cha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Microsoft Sans Serif"/>
              </a:rPr>
              <a:t>Look at the most endangered animals and the poison </a:t>
            </a:r>
            <a:r>
              <a:rPr b="0" lang="en-US" sz="1800" spc="-1" strike="noStrike">
                <a:solidFill>
                  <a:srgbClr val="ff6699"/>
                </a:solidFill>
                <a:latin typeface="Microsoft Sans Serif"/>
              </a:rPr>
              <a:t>d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Microsoft Sans Serif"/>
              </a:rPr>
              <a:t>The leopard,siberian tiger and the polar b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Microsoft Sans Serif"/>
              </a:rPr>
              <a:t>They're so gorgeous,it is just not fai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Microsoft Sans Serif"/>
              </a:rPr>
              <a:t>If I say their Latin names,will you listen mo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Microsoft Sans Serif"/>
              </a:rPr>
              <a:t>Oh,Louis,please don't say this is bo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Microsoft Sans Serif"/>
              </a:rPr>
              <a:t>Komodo dragon,by the w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Microsoft Sans Serif"/>
              </a:rPr>
              <a:t>Why does man have to take him all aw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Microsoft Sans Serif"/>
              </a:rPr>
              <a:t>Man,you're such a fo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Microsoft Sans Serif"/>
              </a:rPr>
              <a:t>Snakes skinned alive for handbag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Microsoft Sans Serif"/>
              </a:rPr>
              <a:t>That is just not co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Microsoft Sans Serif"/>
              </a:rPr>
              <a:t>Please listen to my pa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Microsoft Sans Serif"/>
              </a:rPr>
              <a:t>although it may not be in fash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Microsoft Sans Serif"/>
              </a:rPr>
              <a:t>I cannot sing it.You might laug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Microsoft Sans Serif"/>
              </a:rPr>
              <a:t>I cannot dance.You'd say that I was </a:t>
            </a:r>
            <a:r>
              <a:rPr b="0" lang="en-US" sz="1800" spc="-1" strike="noStrike">
                <a:solidFill>
                  <a:srgbClr val="ff6699"/>
                </a:solidFill>
                <a:latin typeface="Microsoft Sans Serif"/>
              </a:rPr>
              <a:t>daf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Microsoft Sans Serif"/>
              </a:rPr>
              <a:t>But I am an seven,and I want these animals to</a:t>
            </a:r>
            <a:r>
              <a:rPr b="0" lang="en-US" sz="1800" spc="-1" strike="noStrike">
                <a:solidFill>
                  <a:srgbClr val="ff6699"/>
                </a:solidFill>
                <a:latin typeface="Microsoft Sans Serif"/>
              </a:rPr>
              <a:t> la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灯泡"/>
          <p:cNvPicPr/>
          <p:nvPr/>
        </p:nvPicPr>
        <p:blipFill>
          <a:blip r:embed="rId1"/>
          <a:stretch/>
        </p:blipFill>
        <p:spPr>
          <a:xfrm>
            <a:off x="1965240" y="1755720"/>
            <a:ext cx="3805200" cy="4230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灯泡"/>
          <p:cNvPicPr/>
          <p:nvPr/>
        </p:nvPicPr>
        <p:blipFill>
          <a:blip r:embed="rId2"/>
          <a:stretch/>
        </p:blipFill>
        <p:spPr>
          <a:xfrm>
            <a:off x="10437840" y="-384120"/>
            <a:ext cx="1036440" cy="1149120"/>
          </a:xfrm>
          <a:prstGeom prst="rect">
            <a:avLst/>
          </a:prstGeom>
          <a:ln w="0">
            <a:noFill/>
          </a:ln>
        </p:spPr>
      </p:pic>
      <p:sp>
        <p:nvSpPr>
          <p:cNvPr id="166" name="Oval 4"/>
          <p:cNvSpPr/>
          <p:nvPr/>
        </p:nvSpPr>
        <p:spPr>
          <a:xfrm>
            <a:off x="2795760" y="3314880"/>
            <a:ext cx="2273040" cy="2259000"/>
          </a:xfrm>
          <a:prstGeom prst="ellipse">
            <a:avLst/>
          </a:prstGeom>
          <a:solidFill>
            <a:srgbClr val="ffff00">
              <a:alpha val="91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Calibri"/>
                <a:ea typeface="微软雅黑"/>
              </a:rPr>
              <a:t>创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Microsoft Sans Serif"/>
              </a:rPr>
              <a:t>Id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5" descr="灯泡"/>
          <p:cNvPicPr/>
          <p:nvPr/>
        </p:nvPicPr>
        <p:blipFill>
          <a:blip r:embed="rId3"/>
          <a:stretch/>
        </p:blipFill>
        <p:spPr>
          <a:xfrm>
            <a:off x="7188120" y="2305080"/>
            <a:ext cx="1036800" cy="1152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灯泡"/>
          <p:cNvPicPr/>
          <p:nvPr/>
        </p:nvPicPr>
        <p:blipFill>
          <a:blip r:embed="rId4"/>
          <a:stretch/>
        </p:blipFill>
        <p:spPr>
          <a:xfrm>
            <a:off x="11090160" y="2695680"/>
            <a:ext cx="1036800" cy="1152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灯泡"/>
          <p:cNvPicPr/>
          <p:nvPr/>
        </p:nvPicPr>
        <p:blipFill>
          <a:blip r:embed="rId5"/>
          <a:stretch/>
        </p:blipFill>
        <p:spPr>
          <a:xfrm>
            <a:off x="4195800" y="5762520"/>
            <a:ext cx="1036440" cy="11541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灯泡"/>
          <p:cNvPicPr/>
          <p:nvPr/>
        </p:nvPicPr>
        <p:blipFill>
          <a:blip r:embed="rId6"/>
          <a:stretch/>
        </p:blipFill>
        <p:spPr>
          <a:xfrm>
            <a:off x="8305920" y="5537160"/>
            <a:ext cx="1038240" cy="11541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灯泡"/>
          <p:cNvPicPr/>
          <p:nvPr/>
        </p:nvPicPr>
        <p:blipFill>
          <a:blip r:embed="rId7"/>
          <a:stretch/>
        </p:blipFill>
        <p:spPr>
          <a:xfrm>
            <a:off x="5035680" y="720720"/>
            <a:ext cx="1036440" cy="11541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灯泡"/>
          <p:cNvPicPr/>
          <p:nvPr/>
        </p:nvPicPr>
        <p:blipFill>
          <a:blip r:embed="rId8"/>
          <a:stretch/>
        </p:blipFill>
        <p:spPr>
          <a:xfrm>
            <a:off x="803160" y="4562640"/>
            <a:ext cx="1036800" cy="1152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1" descr="灯泡"/>
          <p:cNvPicPr/>
          <p:nvPr/>
        </p:nvPicPr>
        <p:blipFill>
          <a:blip r:embed="rId9"/>
          <a:stretch/>
        </p:blipFill>
        <p:spPr>
          <a:xfrm>
            <a:off x="-61920" y="90360"/>
            <a:ext cx="1030320" cy="11541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12"/>
          <p:cNvSpPr/>
          <p:nvPr/>
        </p:nvSpPr>
        <p:spPr>
          <a:xfrm>
            <a:off x="5437080" y="4510800"/>
            <a:ext cx="592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Calibri"/>
              </a:rPr>
              <a:t>is simple,powerful and fre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/>
          <p:nvPr/>
        </p:nvSpPr>
        <p:spPr>
          <a:xfrm>
            <a:off x="3929040" y="2142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hlinkClick r:id="rId10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0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0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1" dur="500" autoRev="1" fill="hold"/>
                                        <p:tgtEl>
                                          <p:spTgt spid="1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1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4" dur="500" autoRev="1" fill="hold"/>
                                        <p:tgtEl>
                                          <p:spTgt spid="1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1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7" dur="500" autoRev="1" fill="hold"/>
                                        <p:tgtEl>
                                          <p:spTgt spid="1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1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0" dur="500" autoRev="1" fill="hold"/>
                                        <p:tgtEl>
                                          <p:spTgt spid="1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21" nodeType="with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3" dur="500" autoRev="1" fill="hold"/>
                                        <p:tgtEl>
                                          <p:spTgt spid="1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2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6" dur="250" autoRev="1" fill="hold"/>
                                        <p:tgtEl>
                                          <p:spTgt spid="1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2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9" dur="250" autoRev="1" fill="hold"/>
                                        <p:tgtEl>
                                          <p:spTgt spid="1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3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2" dur="250" autoRev="1" fill="hold"/>
                                        <p:tgtEl>
                                          <p:spTgt spid="1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内容2"/>
          <p:cNvPicPr/>
          <p:nvPr/>
        </p:nvPicPr>
        <p:blipFill>
          <a:blip r:embed="rId1"/>
          <a:stretch/>
        </p:blipFill>
        <p:spPr>
          <a:xfrm>
            <a:off x="15840" y="1440"/>
            <a:ext cx="12192120" cy="685512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3"/>
          <p:cNvSpPr/>
          <p:nvPr/>
        </p:nvSpPr>
        <p:spPr>
          <a:xfrm>
            <a:off x="2328840" y="3013200"/>
            <a:ext cx="772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2533680" y="1739880"/>
            <a:ext cx="795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大                一定是</a:t>
            </a:r>
            <a:r>
              <a:rPr b="0" lang="en-US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simple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的，复杂的是执行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2546280" y="3005640"/>
            <a:ext cx="785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Calibri"/>
                <a:ea typeface="微软雅黑"/>
              </a:rPr>
              <a:t>不是好                   太宏大，只是你还没想到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Calibri"/>
                <a:ea typeface="微软雅黑"/>
              </a:rPr>
              <a:t>世界上没有想不到的</a:t>
            </a:r>
            <a:r>
              <a:rPr b="0" lang="en-US" sz="1800" spc="-1" strike="noStrike">
                <a:solidFill>
                  <a:srgbClr val="008000"/>
                </a:solidFill>
                <a:latin typeface="Calibri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008000"/>
                </a:solidFill>
                <a:latin typeface="Calibri"/>
                <a:ea typeface="微软雅黑"/>
              </a:rPr>
              <a:t>，只有不行动的</a:t>
            </a:r>
            <a:r>
              <a:rPr b="0" lang="en-US" sz="1800" spc="-1" strike="noStrike">
                <a:solidFill>
                  <a:srgbClr val="008000"/>
                </a:solidFill>
                <a:latin typeface="Calibri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8000"/>
                </a:solidFill>
                <a:latin typeface="Calibri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2097000" y="4775040"/>
            <a:ext cx="792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1800" spc="-1" strike="noStrike">
                <a:solidFill>
                  <a:srgbClr val="008000"/>
                </a:solidFill>
                <a:latin typeface="Calibri"/>
                <a:ea typeface="微软雅黑"/>
              </a:rPr>
              <a:t>创意经济时代，创意和市场挂钩，设计正戴着镣铐跳舞，但                  是无限的。不能在生活中自由，至少能在脑海里自由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7" descr="我型我塑gif小"/>
          <p:cNvPicPr/>
          <p:nvPr/>
        </p:nvPicPr>
        <p:blipFill>
          <a:blip r:embed="rId2"/>
          <a:stretch/>
        </p:blipFill>
        <p:spPr>
          <a:xfrm>
            <a:off x="7610400" y="1380960"/>
            <a:ext cx="2089080" cy="2955960"/>
          </a:xfrm>
          <a:prstGeom prst="rect">
            <a:avLst/>
          </a:prstGeom>
          <a:ln w="0">
            <a:noFill/>
          </a:ln>
        </p:spPr>
      </p:pic>
      <p:sp>
        <p:nvSpPr>
          <p:cNvPr id="182" name="Oval 8"/>
          <p:cNvSpPr/>
          <p:nvPr/>
        </p:nvSpPr>
        <p:spPr>
          <a:xfrm>
            <a:off x="3365640" y="2719440"/>
            <a:ext cx="853920" cy="824040"/>
          </a:xfrm>
          <a:prstGeom prst="ellipse">
            <a:avLst/>
          </a:prstGeom>
          <a:solidFill>
            <a:srgbClr val="ffff00">
              <a:alpha val="91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Calibri"/>
                <a:ea typeface="微软雅黑"/>
              </a:rPr>
              <a:t>创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Oval 9"/>
          <p:cNvSpPr/>
          <p:nvPr/>
        </p:nvSpPr>
        <p:spPr>
          <a:xfrm>
            <a:off x="2968560" y="1527120"/>
            <a:ext cx="854280" cy="824040"/>
          </a:xfrm>
          <a:prstGeom prst="ellipse">
            <a:avLst/>
          </a:prstGeom>
          <a:solidFill>
            <a:srgbClr val="ffff00">
              <a:alpha val="91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Calibri"/>
                <a:ea typeface="微软雅黑"/>
              </a:rPr>
              <a:t>创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Oval 10"/>
          <p:cNvSpPr/>
          <p:nvPr/>
        </p:nvSpPr>
        <p:spPr>
          <a:xfrm>
            <a:off x="8610480" y="4378320"/>
            <a:ext cx="854280" cy="824040"/>
          </a:xfrm>
          <a:prstGeom prst="ellipse">
            <a:avLst/>
          </a:prstGeom>
          <a:solidFill>
            <a:srgbClr val="ffff00">
              <a:alpha val="91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Calibri"/>
                <a:ea typeface="微软雅黑"/>
              </a:rPr>
              <a:t>创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35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40">
                                  <p:stCondLst>
                                    <p:cond delay="5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2044800" y="2149920"/>
            <a:ext cx="8373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00"/>
                </a:solidFill>
                <a:latin typeface="微软雅黑"/>
                <a:ea typeface="微软雅黑"/>
              </a:rPr>
              <a:t>远远不只这些</a:t>
            </a:r>
            <a:r>
              <a:rPr b="0" lang="en-US" sz="2400" spc="-1" strike="noStrike">
                <a:solidFill>
                  <a:srgbClr val="008000"/>
                </a:solidFill>
                <a:latin typeface="微软雅黑"/>
                <a:ea typeface="微软雅黑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Microsoft Sans Serif"/>
                <a:ea typeface="微软雅黑"/>
              </a:rPr>
              <a:t>What do you think of according "</a:t>
            </a:r>
            <a:r>
              <a:rPr b="0" lang="en-US" sz="2400" spc="-1" strike="noStrike">
                <a:solidFill>
                  <a:srgbClr val="ff6699"/>
                </a:solidFill>
                <a:latin typeface="Microsoft Sans Serif"/>
                <a:ea typeface="微软雅黑"/>
              </a:rPr>
              <a:t>simple</a:t>
            </a:r>
            <a:r>
              <a:rPr b="0" lang="en-US" sz="2400" spc="-1" strike="noStrike">
                <a:solidFill>
                  <a:srgbClr val="008000"/>
                </a:solidFill>
                <a:latin typeface="Microsoft Sans Serif"/>
                <a:ea typeface="微软雅黑"/>
              </a:rPr>
              <a:t>,</a:t>
            </a:r>
            <a:r>
              <a:rPr b="0" lang="en-US" sz="2400" spc="-1" strike="noStrike">
                <a:solidFill>
                  <a:srgbClr val="ff6699"/>
                </a:solidFill>
                <a:latin typeface="Microsoft Sans Serif"/>
                <a:ea typeface="微软雅黑"/>
              </a:rPr>
              <a:t>powerful</a:t>
            </a:r>
            <a:r>
              <a:rPr b="0" lang="en-US" sz="2400" spc="-1" strike="noStrike">
                <a:solidFill>
                  <a:srgbClr val="008000"/>
                </a:solidFill>
                <a:latin typeface="Microsoft Sans Serif"/>
                <a:ea typeface="微软雅黑"/>
              </a:rPr>
              <a:t> and </a:t>
            </a:r>
            <a:r>
              <a:rPr b="0" lang="en-US" sz="2400" spc="-1" strike="noStrike">
                <a:solidFill>
                  <a:srgbClr val="ff6699"/>
                </a:solidFill>
                <a:latin typeface="Microsoft Sans Serif"/>
                <a:ea typeface="微软雅黑"/>
              </a:rPr>
              <a:t>free"</a:t>
            </a:r>
            <a:r>
              <a:rPr b="0" lang="en-US" sz="2400" spc="-1" strike="noStrike">
                <a:solidFill>
                  <a:srgbClr val="008000"/>
                </a:solidFill>
                <a:latin typeface="Microsoft Sans Serif"/>
                <a:ea typeface="微软雅黑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00"/>
                </a:solidFill>
                <a:latin typeface="微软雅黑"/>
                <a:ea typeface="微软雅黑"/>
              </a:rPr>
              <a:t>这些都是我们创作的源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Microsoft Sans Serif"/>
                <a:ea typeface="微软雅黑"/>
              </a:rPr>
              <a:t>These are the </a:t>
            </a:r>
            <a:r>
              <a:rPr b="0" lang="en-US" sz="2400" spc="-1" strike="noStrike">
                <a:solidFill>
                  <a:srgbClr val="ff6699"/>
                </a:solidFill>
                <a:latin typeface="Microsoft Sans Serif"/>
                <a:ea typeface="微软雅黑"/>
              </a:rPr>
              <a:t>sources </a:t>
            </a:r>
            <a:r>
              <a:rPr b="0" lang="en-US" sz="2400" spc="-1" strike="noStrike">
                <a:solidFill>
                  <a:srgbClr val="008000"/>
                </a:solidFill>
                <a:latin typeface="Microsoft Sans Serif"/>
                <a:ea typeface="微软雅黑"/>
              </a:rPr>
              <a:t>of our cre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0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8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3A47-2C20-447E-AFF3-30F36AB25C4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wps封面1"/>
          <p:cNvPicPr/>
          <p:nvPr/>
        </p:nvPicPr>
        <p:blipFill>
          <a:blip r:embed="rId1"/>
          <a:stretch/>
        </p:blipFill>
        <p:spPr>
          <a:xfrm>
            <a:off x="0" y="1440"/>
            <a:ext cx="12192120" cy="685512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"/>
          <p:cNvSpPr/>
          <p:nvPr/>
        </p:nvSpPr>
        <p:spPr>
          <a:xfrm>
            <a:off x="544680" y="491040"/>
            <a:ext cx="633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8000"/>
                </a:solidFill>
                <a:latin typeface="Calibri"/>
                <a:ea typeface="微软雅黑"/>
              </a:rPr>
              <a:t>谢</a:t>
            </a:r>
            <a:r>
              <a:rPr b="0" lang="zh-CN" sz="8800" spc="-1" strike="noStrike">
                <a:solidFill>
                  <a:srgbClr val="ff6699"/>
                </a:solidFill>
                <a:latin typeface="Calibri"/>
                <a:ea typeface="微软雅黑"/>
              </a:rPr>
              <a:t>谢</a:t>
            </a:r>
            <a:r>
              <a:rPr b="0" lang="zh-CN" sz="8800" spc="-1" strike="noStrike">
                <a:solidFill>
                  <a:srgbClr val="008000"/>
                </a:solidFill>
                <a:latin typeface="Calibri"/>
                <a:ea typeface="微软雅黑"/>
              </a:rPr>
              <a:t>观看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7402680" y="2580840"/>
            <a:ext cx="280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Microsoft Sans Serif"/>
                <a:ea typeface="微软雅黑"/>
              </a:rPr>
              <a:t>TH</a:t>
            </a:r>
            <a:r>
              <a:rPr b="0" lang="en-US" sz="4800" spc="-1" strike="noStrike">
                <a:solidFill>
                  <a:srgbClr val="ff6699"/>
                </a:solidFill>
                <a:latin typeface="Microsoft Sans Serif"/>
                <a:ea typeface="微软雅黑"/>
              </a:rPr>
              <a:t>A</a:t>
            </a:r>
            <a:r>
              <a:rPr b="0" lang="en-US" sz="4800" spc="-1" strike="noStrike">
                <a:solidFill>
                  <a:srgbClr val="008000"/>
                </a:solidFill>
                <a:latin typeface="Microsoft Sans Serif"/>
                <a:ea typeface="微软雅黑"/>
              </a:rPr>
              <a:t>NK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0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38">
                                  <p:stCondLst>
                                    <p:cond delay="5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0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38">
                                  <p:stCondLst>
                                    <p:cond delay="5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wps目录页"/>
          <p:cNvPicPr/>
          <p:nvPr/>
        </p:nvPicPr>
        <p:blipFill>
          <a:blip r:embed="rId1"/>
          <a:stretch/>
        </p:blipFill>
        <p:spPr>
          <a:xfrm>
            <a:off x="0" y="1440"/>
            <a:ext cx="12192120" cy="685512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3"/>
          <p:cNvSpPr/>
          <p:nvPr/>
        </p:nvSpPr>
        <p:spPr>
          <a:xfrm flipH="1">
            <a:off x="5000040" y="2311560"/>
            <a:ext cx="1996920" cy="4622760"/>
          </a:xfrm>
          <a:prstGeom prst="triangle">
            <a:avLst>
              <a:gd name="adj" fmla="val 50000"/>
            </a:avLst>
          </a:prstGeom>
          <a:solidFill>
            <a:srgbClr val="663300"/>
          </a:solidFill>
          <a:ln w="0">
            <a:solidFill>
              <a:srgbClr val="6633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0" name="AutoShape 4"/>
          <p:cNvCxnSpPr>
            <a:stCxn id="49" idx="5"/>
          </p:cNvCxnSpPr>
          <p:nvPr/>
        </p:nvCxnSpPr>
        <p:spPr>
          <a:xfrm rot="10800000">
            <a:off x="3378960" y="3555360"/>
            <a:ext cx="2120040" cy="1067400"/>
          </a:xfrm>
          <a:prstGeom prst="curvedConnector5">
            <a:avLst>
              <a:gd name="adj1" fmla="val 61735"/>
              <a:gd name="adj2" fmla="val 50000"/>
              <a:gd name="adj3" fmla="val 61735"/>
            </a:avLst>
          </a:prstGeom>
          <a:ln w="0">
            <a:solidFill>
              <a:srgbClr val="663300"/>
            </a:solidFill>
          </a:ln>
        </p:spPr>
      </p:cxnSp>
      <p:cxnSp>
        <p:nvCxnSpPr>
          <p:cNvPr id="51" name="AutoShape 5"/>
          <p:cNvCxnSpPr>
            <a:stCxn id="49" idx="1"/>
          </p:cNvCxnSpPr>
          <p:nvPr/>
        </p:nvCxnSpPr>
        <p:spPr>
          <a:xfrm flipV="1">
            <a:off x="6497280" y="3315600"/>
            <a:ext cx="1685160" cy="1307160"/>
          </a:xfrm>
          <a:prstGeom prst="curvedConnector5">
            <a:avLst>
              <a:gd name="adj1" fmla="val 64829"/>
              <a:gd name="adj2" fmla="val 50000"/>
              <a:gd name="adj3" fmla="val 64829"/>
            </a:avLst>
          </a:prstGeom>
          <a:ln w="0">
            <a:solidFill>
              <a:srgbClr val="663300"/>
            </a:solidFill>
          </a:ln>
        </p:spPr>
      </p:cxnSp>
      <p:sp>
        <p:nvSpPr>
          <p:cNvPr id="52" name="曲线 82"/>
          <p:cNvSpPr/>
          <p:nvPr/>
        </p:nvSpPr>
        <p:spPr>
          <a:xfrm>
            <a:off x="4332240" y="2468520"/>
            <a:ext cx="1419120" cy="1109880"/>
          </a:xfrm>
          <a:custGeom>
            <a:avLst/>
            <a:gdLst>
              <a:gd name="textAreaLeft" fmla="*/ 0 w 1419120"/>
              <a:gd name="textAreaRight" fmla="*/ 1419480 w 1419120"/>
              <a:gd name="textAreaTop" fmla="*/ 0 h 1109880"/>
              <a:gd name="textAreaBottom" fmla="*/ 1110240 h 1109880"/>
            </a:gdLst>
            <a:ahLst/>
            <a:rect l="textAreaLeft" t="textAreaTop" r="textAreaRight" b="textAreaBottom"/>
            <a:pathLst>
              <a:path w="21600" h="21600">
                <a:moveTo>
                  <a:pt x="21600" y="20574"/>
                </a:moveTo>
                <a:cubicBezTo>
                  <a:pt x="20913" y="20574"/>
                  <a:pt x="19076" y="21600"/>
                  <a:pt x="17481" y="20574"/>
                </a:cubicBezTo>
                <a:cubicBezTo>
                  <a:pt x="15885" y="19549"/>
                  <a:pt x="14242" y="16153"/>
                  <a:pt x="11998" y="14449"/>
                </a:cubicBezTo>
                <a:cubicBezTo>
                  <a:pt x="9755" y="12745"/>
                  <a:pt x="5907" y="12498"/>
                  <a:pt x="4002" y="10361"/>
                </a:cubicBezTo>
                <a:cubicBezTo>
                  <a:pt x="2098" y="8225"/>
                  <a:pt x="1140" y="3210"/>
                  <a:pt x="570" y="1605"/>
                </a:cubicBezTo>
                <a:cubicBezTo>
                  <a:pt x="0" y="0"/>
                  <a:pt x="570" y="876"/>
                  <a:pt x="570" y="728"/>
                </a:cubicBezTo>
              </a:path>
            </a:pathLst>
          </a:custGeom>
          <a:noFill/>
          <a:ln w="0">
            <a:solidFill>
              <a:srgbClr val="6633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曲线 83"/>
          <p:cNvSpPr/>
          <p:nvPr/>
        </p:nvSpPr>
        <p:spPr>
          <a:xfrm>
            <a:off x="6126120" y="2371680"/>
            <a:ext cx="1246320" cy="824040"/>
          </a:xfrm>
          <a:custGeom>
            <a:avLst/>
            <a:gdLst>
              <a:gd name="textAreaLeft" fmla="*/ 0 w 1246320"/>
              <a:gd name="textAreaRight" fmla="*/ 1246320 w 12463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cubicBezTo>
                  <a:pt x="517" y="20685"/>
                  <a:pt x="1089" y="17343"/>
                  <a:pt x="3126" y="16096"/>
                </a:cubicBezTo>
                <a:cubicBezTo>
                  <a:pt x="5163" y="14848"/>
                  <a:pt x="9148" y="16811"/>
                  <a:pt x="12231" y="14133"/>
                </a:cubicBezTo>
                <a:cubicBezTo>
                  <a:pt x="15313" y="11456"/>
                  <a:pt x="20036" y="2361"/>
                  <a:pt x="21600" y="0"/>
                </a:cubicBezTo>
              </a:path>
            </a:pathLst>
          </a:custGeom>
          <a:noFill/>
          <a:ln w="0">
            <a:solidFill>
              <a:srgbClr val="6633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曲线 84"/>
          <p:cNvSpPr/>
          <p:nvPr/>
        </p:nvSpPr>
        <p:spPr>
          <a:xfrm>
            <a:off x="5499000" y="1530360"/>
            <a:ext cx="536760" cy="930240"/>
          </a:xfrm>
          <a:custGeom>
            <a:avLst/>
            <a:gdLst>
              <a:gd name="textAreaLeft" fmla="*/ 0 w 536760"/>
              <a:gd name="textAreaRight" fmla="*/ 537120 w 536760"/>
              <a:gd name="textAreaTop" fmla="*/ 0 h 930240"/>
              <a:gd name="textAreaBottom" fmla="*/ 930600 h 930240"/>
            </a:gdLst>
            <a:ahLst/>
            <a:rect l="textAreaLeft" t="textAreaTop" r="textAreaRight" b="textAreaBottom"/>
            <a:pathLst>
              <a:path w="21600" h="21600">
                <a:moveTo>
                  <a:pt x="21600" y="21600"/>
                </a:moveTo>
                <a:cubicBezTo>
                  <a:pt x="20809" y="20848"/>
                  <a:pt x="18896" y="18061"/>
                  <a:pt x="16780" y="17073"/>
                </a:cubicBezTo>
                <a:cubicBezTo>
                  <a:pt x="14663" y="16085"/>
                  <a:pt x="11526" y="17545"/>
                  <a:pt x="8925" y="15687"/>
                </a:cubicBezTo>
                <a:cubicBezTo>
                  <a:pt x="6324" y="13829"/>
                  <a:pt x="2193" y="8536"/>
                  <a:pt x="1096" y="5927"/>
                </a:cubicBezTo>
                <a:cubicBezTo>
                  <a:pt x="0" y="3317"/>
                  <a:pt x="2091" y="987"/>
                  <a:pt x="2295" y="0"/>
                </a:cubicBezTo>
              </a:path>
            </a:pathLst>
          </a:custGeom>
          <a:noFill/>
          <a:ln w="0">
            <a:solidFill>
              <a:srgbClr val="6633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Oval 9"/>
          <p:cNvSpPr/>
          <p:nvPr/>
        </p:nvSpPr>
        <p:spPr>
          <a:xfrm>
            <a:off x="2238480" y="3197160"/>
            <a:ext cx="1320840" cy="1216080"/>
          </a:xfrm>
          <a:prstGeom prst="ellipse">
            <a:avLst/>
          </a:prstGeom>
          <a:solidFill>
            <a:srgbClr val="ffff00">
              <a:alpha val="91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2298600" y="3278160"/>
            <a:ext cx="1139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8000"/>
                </a:solidFill>
                <a:latin typeface="Calibri"/>
                <a:ea typeface="微软雅黑"/>
              </a:rPr>
              <a:t>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Microsoft Sans Serif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Oval 11"/>
          <p:cNvSpPr/>
          <p:nvPr/>
        </p:nvSpPr>
        <p:spPr>
          <a:xfrm>
            <a:off x="8183520" y="2732040"/>
            <a:ext cx="1335240" cy="1274760"/>
          </a:xfrm>
          <a:prstGeom prst="ellipse">
            <a:avLst/>
          </a:prstGeom>
          <a:solidFill>
            <a:srgbClr val="ffff00">
              <a:alpha val="91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8211960" y="2902320"/>
            <a:ext cx="124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Calibri"/>
                <a:ea typeface="微软雅黑"/>
              </a:rPr>
              <a:t>眼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Microsoft Sans Serif"/>
              </a:rPr>
              <a:t>Te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val 13"/>
          <p:cNvSpPr/>
          <p:nvPr/>
        </p:nvSpPr>
        <p:spPr>
          <a:xfrm>
            <a:off x="3222720" y="1568520"/>
            <a:ext cx="1320840" cy="1216080"/>
          </a:xfrm>
          <a:prstGeom prst="ellipse">
            <a:avLst/>
          </a:prstGeom>
          <a:solidFill>
            <a:srgbClr val="ffff00">
              <a:alpha val="91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Oval 14"/>
          <p:cNvSpPr/>
          <p:nvPr/>
        </p:nvSpPr>
        <p:spPr>
          <a:xfrm>
            <a:off x="6981840" y="1258920"/>
            <a:ext cx="1320840" cy="1216080"/>
          </a:xfrm>
          <a:prstGeom prst="ellipse">
            <a:avLst/>
          </a:prstGeom>
          <a:solidFill>
            <a:srgbClr val="ffff00">
              <a:alpha val="91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Oval 15"/>
          <p:cNvSpPr/>
          <p:nvPr/>
        </p:nvSpPr>
        <p:spPr>
          <a:xfrm>
            <a:off x="4917960" y="336600"/>
            <a:ext cx="1320840" cy="1216080"/>
          </a:xfrm>
          <a:prstGeom prst="ellipse">
            <a:avLst/>
          </a:prstGeom>
          <a:solidFill>
            <a:srgbClr val="ffff00">
              <a:alpha val="91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16"/>
          <p:cNvSpPr/>
          <p:nvPr/>
        </p:nvSpPr>
        <p:spPr>
          <a:xfrm>
            <a:off x="3335400" y="1709280"/>
            <a:ext cx="104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Calibri"/>
                <a:ea typeface="微软雅黑"/>
              </a:rPr>
              <a:t>拥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Microsoft Sans Serif"/>
              </a:rPr>
              <a:t>Hu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17"/>
          <p:cNvSpPr/>
          <p:nvPr/>
        </p:nvSpPr>
        <p:spPr>
          <a:xfrm>
            <a:off x="7130880" y="1371960"/>
            <a:ext cx="111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微软雅黑"/>
                <a:ea typeface="微软雅黑"/>
              </a:rPr>
              <a:t>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Microsoft Sans Serif"/>
                <a:ea typeface="微软雅黑"/>
              </a:rPr>
              <a:t>Po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18"/>
          <p:cNvSpPr/>
          <p:nvPr/>
        </p:nvSpPr>
        <p:spPr>
          <a:xfrm>
            <a:off x="4986360" y="494280"/>
            <a:ext cx="118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微软雅黑"/>
                <a:ea typeface="微软雅黑"/>
              </a:rPr>
              <a:t>创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Microsoft Sans Serif"/>
                <a:ea typeface="微软雅黑"/>
              </a:rPr>
              <a:t>Id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19"/>
          <p:cNvSpPr/>
          <p:nvPr/>
        </p:nvSpPr>
        <p:spPr>
          <a:xfrm>
            <a:off x="1519200" y="5708880"/>
            <a:ext cx="949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99"/>
                </a:solidFill>
                <a:latin typeface="Microsoft Sans Serif"/>
              </a:rPr>
              <a:t>What's Simple ,Powerful and Fre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20"/>
          <p:cNvSpPr/>
          <p:nvPr/>
        </p:nvSpPr>
        <p:spPr>
          <a:xfrm>
            <a:off x="9875880" y="56847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99"/>
                </a:solidFill>
                <a:latin typeface="Microsoft Sans Serif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760">
                                      <p:cBhvr>
                                        <p:cTn id="2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760">
                                      <p:cBhvr>
                                        <p:cTn id="2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6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6" presetSubtype="1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6" presetSubtype="16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6" presetSubtype="16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6" presetSubtype="16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Oval 2"/>
          <p:cNvSpPr/>
          <p:nvPr/>
        </p:nvSpPr>
        <p:spPr>
          <a:xfrm>
            <a:off x="3124080" y="3465360"/>
            <a:ext cx="2274840" cy="2259000"/>
          </a:xfrm>
          <a:prstGeom prst="ellipse">
            <a:avLst/>
          </a:prstGeom>
          <a:solidFill>
            <a:srgbClr val="ffff00">
              <a:alpha val="91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ZhengBibo_2009-10-13 10:23:45"/>
          <p:cNvSpPr/>
          <p:nvPr/>
        </p:nvSpPr>
        <p:spPr>
          <a:xfrm rot="5400000">
            <a:off x="1767960" y="176040"/>
            <a:ext cx="839520" cy="430200"/>
          </a:xfrm>
          <a:custGeom>
            <a:avLst/>
            <a:gdLst>
              <a:gd name="textAreaLeft" fmla="*/ 0 w 839520"/>
              <a:gd name="textAreaRight" fmla="*/ 839880 w 839520"/>
              <a:gd name="textAreaTop" fmla="*/ 0 h 430200"/>
              <a:gd name="textAreaBottom" fmla="*/ 430560 h 430200"/>
            </a:gdLst>
            <a:ahLst/>
            <a:rect l="textAreaLeft" t="textAreaTop" r="textAreaRight" b="textAreaBottom"/>
            <a:pathLst>
              <a:path w="8000" h="3154">
                <a:moveTo>
                  <a:pt x="8000" y="1577"/>
                </a:moveTo>
                <a:cubicBezTo>
                  <a:pt x="8000" y="1818"/>
                  <a:pt x="7931" y="2087"/>
                  <a:pt x="7804" y="2300"/>
                </a:cubicBezTo>
                <a:cubicBezTo>
                  <a:pt x="7677" y="2513"/>
                  <a:pt x="7478" y="2717"/>
                  <a:pt x="7236" y="2853"/>
                </a:cubicBezTo>
                <a:cubicBezTo>
                  <a:pt x="6994" y="2989"/>
                  <a:pt x="6684" y="3082"/>
                  <a:pt x="6351" y="3118"/>
                </a:cubicBezTo>
                <a:cubicBezTo>
                  <a:pt x="6018" y="3154"/>
                  <a:pt x="5628" y="3128"/>
                  <a:pt x="5236" y="3071"/>
                </a:cubicBezTo>
                <a:cubicBezTo>
                  <a:pt x="4844" y="3014"/>
                  <a:pt x="4412" y="2895"/>
                  <a:pt x="4000" y="2777"/>
                </a:cubicBezTo>
                <a:cubicBezTo>
                  <a:pt x="3588" y="2659"/>
                  <a:pt x="3156" y="2499"/>
                  <a:pt x="2764" y="2366"/>
                </a:cubicBezTo>
                <a:cubicBezTo>
                  <a:pt x="2372" y="2233"/>
                  <a:pt x="1982" y="2086"/>
                  <a:pt x="1649" y="1977"/>
                </a:cubicBezTo>
                <a:cubicBezTo>
                  <a:pt x="1316" y="1868"/>
                  <a:pt x="1006" y="1776"/>
                  <a:pt x="764" y="1712"/>
                </a:cubicBezTo>
                <a:cubicBezTo>
                  <a:pt x="522" y="1648"/>
                  <a:pt x="323" y="1617"/>
                  <a:pt x="196" y="1595"/>
                </a:cubicBezTo>
                <a:cubicBezTo>
                  <a:pt x="69" y="1573"/>
                  <a:pt x="0" y="1571"/>
                  <a:pt x="0" y="1577"/>
                </a:cubicBezTo>
                <a:cubicBezTo>
                  <a:pt x="0" y="1583"/>
                  <a:pt x="69" y="1581"/>
                  <a:pt x="196" y="1559"/>
                </a:cubicBezTo>
                <a:cubicBezTo>
                  <a:pt x="323" y="1537"/>
                  <a:pt x="522" y="1506"/>
                  <a:pt x="764" y="1442"/>
                </a:cubicBezTo>
                <a:cubicBezTo>
                  <a:pt x="1006" y="1378"/>
                  <a:pt x="1316" y="1286"/>
                  <a:pt x="1649" y="1177"/>
                </a:cubicBezTo>
                <a:cubicBezTo>
                  <a:pt x="1982" y="1068"/>
                  <a:pt x="2372" y="921"/>
                  <a:pt x="2764" y="788"/>
                </a:cubicBezTo>
                <a:cubicBezTo>
                  <a:pt x="3156" y="655"/>
                  <a:pt x="3588" y="495"/>
                  <a:pt x="4000" y="377"/>
                </a:cubicBezTo>
                <a:cubicBezTo>
                  <a:pt x="4412" y="259"/>
                  <a:pt x="4844" y="140"/>
                  <a:pt x="5236" y="83"/>
                </a:cubicBezTo>
                <a:cubicBezTo>
                  <a:pt x="5628" y="26"/>
                  <a:pt x="6018" y="0"/>
                  <a:pt x="6351" y="36"/>
                </a:cubicBezTo>
                <a:cubicBezTo>
                  <a:pt x="6684" y="72"/>
                  <a:pt x="6994" y="165"/>
                  <a:pt x="7236" y="301"/>
                </a:cubicBezTo>
                <a:cubicBezTo>
                  <a:pt x="7478" y="437"/>
                  <a:pt x="7677" y="641"/>
                  <a:pt x="7804" y="854"/>
                </a:cubicBezTo>
                <a:cubicBezTo>
                  <a:pt x="7931" y="1067"/>
                  <a:pt x="8000" y="1336"/>
                  <a:pt x="8000" y="1577"/>
                </a:cubicBezTo>
                <a:close/>
              </a:path>
            </a:pathLst>
          </a:custGeom>
          <a:gradFill rotWithShape="0">
            <a:gsLst>
              <a:gs pos="0">
                <a:srgbClr val="ff7c80">
                  <a:alpha val="86274"/>
                </a:srgbClr>
              </a:gs>
              <a:gs pos="100000">
                <a:srgbClr val="e06d70"/>
              </a:gs>
            </a:gsLst>
            <a:lin ang="5400000"/>
          </a:gra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曲线 112"/>
          <p:cNvSpPr/>
          <p:nvPr/>
        </p:nvSpPr>
        <p:spPr>
          <a:xfrm>
            <a:off x="3352680" y="15840"/>
            <a:ext cx="1078200" cy="3478320"/>
          </a:xfrm>
          <a:custGeom>
            <a:avLst/>
            <a:gdLst>
              <a:gd name="textAreaLeft" fmla="*/ 0 w 1078200"/>
              <a:gd name="textAreaRight" fmla="*/ 1078200 w 1078200"/>
              <a:gd name="textAreaTop" fmla="*/ 0 h 3478320"/>
              <a:gd name="textAreaBottom" fmla="*/ 3478680 h 3478320"/>
            </a:gdLst>
            <a:ahLst/>
            <a:rect l="textAreaLeft" t="textAreaTop" r="textAreaRight" b="textAreaBottom"/>
            <a:pathLst>
              <a:path w="21600" h="21600">
                <a:moveTo>
                  <a:pt x="13903" y="0"/>
                </a:moveTo>
                <a:cubicBezTo>
                  <a:pt x="11905" y="656"/>
                  <a:pt x="3656" y="2500"/>
                  <a:pt x="1828" y="3960"/>
                </a:cubicBezTo>
                <a:cubicBezTo>
                  <a:pt x="0" y="5420"/>
                  <a:pt x="1020" y="7593"/>
                  <a:pt x="2848" y="8746"/>
                </a:cubicBezTo>
                <a:cubicBezTo>
                  <a:pt x="4677" y="9898"/>
                  <a:pt x="9864" y="9870"/>
                  <a:pt x="12883" y="10890"/>
                </a:cubicBezTo>
                <a:cubicBezTo>
                  <a:pt x="15902" y="11910"/>
                  <a:pt x="20239" y="13286"/>
                  <a:pt x="20919" y="14858"/>
                </a:cubicBezTo>
                <a:cubicBezTo>
                  <a:pt x="21600" y="16430"/>
                  <a:pt x="17220" y="19210"/>
                  <a:pt x="16880" y="20307"/>
                </a:cubicBezTo>
                <a:cubicBezTo>
                  <a:pt x="16540" y="21404"/>
                  <a:pt x="18581" y="21320"/>
                  <a:pt x="18921" y="21460"/>
                </a:cubicBezTo>
                <a:cubicBezTo>
                  <a:pt x="19261" y="21600"/>
                  <a:pt x="18921" y="21187"/>
                  <a:pt x="18921" y="21131"/>
                </a:cubicBezTo>
              </a:path>
            </a:pathLst>
          </a:custGeom>
          <a:noFill/>
          <a:ln w="0">
            <a:solidFill>
              <a:srgbClr val="6633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ZhengBibo_2009-10-13 10:23:45"/>
          <p:cNvSpPr/>
          <p:nvPr/>
        </p:nvSpPr>
        <p:spPr>
          <a:xfrm rot="5400000">
            <a:off x="8345160" y="749160"/>
            <a:ext cx="846000" cy="430200"/>
          </a:xfrm>
          <a:custGeom>
            <a:avLst/>
            <a:gdLst>
              <a:gd name="textAreaLeft" fmla="*/ 0 w 846000"/>
              <a:gd name="textAreaRight" fmla="*/ 846360 w 846000"/>
              <a:gd name="textAreaTop" fmla="*/ 0 h 430200"/>
              <a:gd name="textAreaBottom" fmla="*/ 430560 h 430200"/>
            </a:gdLst>
            <a:ahLst/>
            <a:rect l="textAreaLeft" t="textAreaTop" r="textAreaRight" b="textAreaBottom"/>
            <a:pathLst>
              <a:path w="8000" h="3154">
                <a:moveTo>
                  <a:pt x="8000" y="1577"/>
                </a:moveTo>
                <a:cubicBezTo>
                  <a:pt x="8000" y="1818"/>
                  <a:pt x="7931" y="2087"/>
                  <a:pt x="7804" y="2300"/>
                </a:cubicBezTo>
                <a:cubicBezTo>
                  <a:pt x="7677" y="2513"/>
                  <a:pt x="7478" y="2717"/>
                  <a:pt x="7236" y="2853"/>
                </a:cubicBezTo>
                <a:cubicBezTo>
                  <a:pt x="6994" y="2989"/>
                  <a:pt x="6684" y="3082"/>
                  <a:pt x="6351" y="3118"/>
                </a:cubicBezTo>
                <a:cubicBezTo>
                  <a:pt x="6018" y="3154"/>
                  <a:pt x="5628" y="3128"/>
                  <a:pt x="5236" y="3071"/>
                </a:cubicBezTo>
                <a:cubicBezTo>
                  <a:pt x="4844" y="3014"/>
                  <a:pt x="4412" y="2895"/>
                  <a:pt x="4000" y="2777"/>
                </a:cubicBezTo>
                <a:cubicBezTo>
                  <a:pt x="3588" y="2659"/>
                  <a:pt x="3156" y="2499"/>
                  <a:pt x="2764" y="2366"/>
                </a:cubicBezTo>
                <a:cubicBezTo>
                  <a:pt x="2372" y="2233"/>
                  <a:pt x="1982" y="2086"/>
                  <a:pt x="1649" y="1977"/>
                </a:cubicBezTo>
                <a:cubicBezTo>
                  <a:pt x="1316" y="1868"/>
                  <a:pt x="1006" y="1776"/>
                  <a:pt x="764" y="1712"/>
                </a:cubicBezTo>
                <a:cubicBezTo>
                  <a:pt x="522" y="1648"/>
                  <a:pt x="323" y="1617"/>
                  <a:pt x="196" y="1595"/>
                </a:cubicBezTo>
                <a:cubicBezTo>
                  <a:pt x="69" y="1573"/>
                  <a:pt x="0" y="1571"/>
                  <a:pt x="0" y="1577"/>
                </a:cubicBezTo>
                <a:cubicBezTo>
                  <a:pt x="0" y="1583"/>
                  <a:pt x="69" y="1581"/>
                  <a:pt x="196" y="1559"/>
                </a:cubicBezTo>
                <a:cubicBezTo>
                  <a:pt x="323" y="1537"/>
                  <a:pt x="522" y="1506"/>
                  <a:pt x="764" y="1442"/>
                </a:cubicBezTo>
                <a:cubicBezTo>
                  <a:pt x="1006" y="1378"/>
                  <a:pt x="1316" y="1286"/>
                  <a:pt x="1649" y="1177"/>
                </a:cubicBezTo>
                <a:cubicBezTo>
                  <a:pt x="1982" y="1068"/>
                  <a:pt x="2372" y="921"/>
                  <a:pt x="2764" y="788"/>
                </a:cubicBezTo>
                <a:cubicBezTo>
                  <a:pt x="3156" y="655"/>
                  <a:pt x="3588" y="495"/>
                  <a:pt x="4000" y="377"/>
                </a:cubicBezTo>
                <a:cubicBezTo>
                  <a:pt x="4412" y="259"/>
                  <a:pt x="4844" y="140"/>
                  <a:pt x="5236" y="83"/>
                </a:cubicBezTo>
                <a:cubicBezTo>
                  <a:pt x="5628" y="26"/>
                  <a:pt x="6018" y="0"/>
                  <a:pt x="6351" y="36"/>
                </a:cubicBezTo>
                <a:cubicBezTo>
                  <a:pt x="6684" y="72"/>
                  <a:pt x="6994" y="165"/>
                  <a:pt x="7236" y="301"/>
                </a:cubicBezTo>
                <a:cubicBezTo>
                  <a:pt x="7478" y="437"/>
                  <a:pt x="7677" y="641"/>
                  <a:pt x="7804" y="854"/>
                </a:cubicBezTo>
                <a:cubicBezTo>
                  <a:pt x="7931" y="1067"/>
                  <a:pt x="8000" y="1336"/>
                  <a:pt x="8000" y="1577"/>
                </a:cubicBezTo>
                <a:close/>
              </a:path>
            </a:pathLst>
          </a:custGeom>
          <a:gradFill rotWithShape="0">
            <a:gsLst>
              <a:gs pos="0">
                <a:srgbClr val="ff7c80">
                  <a:alpha val="86274"/>
                </a:srgbClr>
              </a:gs>
              <a:gs pos="100000">
                <a:srgbClr val="e06d70"/>
              </a:gs>
            </a:gsLst>
            <a:lin ang="5400000"/>
          </a:gra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ZhengBibo_2009-10-13 10:23:45"/>
          <p:cNvSpPr/>
          <p:nvPr/>
        </p:nvSpPr>
        <p:spPr>
          <a:xfrm rot="5400000">
            <a:off x="2567520" y="3013560"/>
            <a:ext cx="846360" cy="432000"/>
          </a:xfrm>
          <a:custGeom>
            <a:avLst/>
            <a:gdLst>
              <a:gd name="textAreaLeft" fmla="*/ 0 w 846360"/>
              <a:gd name="textAreaRight" fmla="*/ 846720 w 84636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8000" h="3154">
                <a:moveTo>
                  <a:pt x="8000" y="1577"/>
                </a:moveTo>
                <a:cubicBezTo>
                  <a:pt x="8000" y="1818"/>
                  <a:pt x="7931" y="2087"/>
                  <a:pt x="7804" y="2300"/>
                </a:cubicBezTo>
                <a:cubicBezTo>
                  <a:pt x="7677" y="2513"/>
                  <a:pt x="7478" y="2717"/>
                  <a:pt x="7236" y="2853"/>
                </a:cubicBezTo>
                <a:cubicBezTo>
                  <a:pt x="6994" y="2989"/>
                  <a:pt x="6684" y="3082"/>
                  <a:pt x="6351" y="3118"/>
                </a:cubicBezTo>
                <a:cubicBezTo>
                  <a:pt x="6018" y="3154"/>
                  <a:pt x="5628" y="3128"/>
                  <a:pt x="5236" y="3071"/>
                </a:cubicBezTo>
                <a:cubicBezTo>
                  <a:pt x="4844" y="3014"/>
                  <a:pt x="4412" y="2895"/>
                  <a:pt x="4000" y="2777"/>
                </a:cubicBezTo>
                <a:cubicBezTo>
                  <a:pt x="3588" y="2659"/>
                  <a:pt x="3156" y="2499"/>
                  <a:pt x="2764" y="2366"/>
                </a:cubicBezTo>
                <a:cubicBezTo>
                  <a:pt x="2372" y="2233"/>
                  <a:pt x="1982" y="2086"/>
                  <a:pt x="1649" y="1977"/>
                </a:cubicBezTo>
                <a:cubicBezTo>
                  <a:pt x="1316" y="1868"/>
                  <a:pt x="1006" y="1776"/>
                  <a:pt x="764" y="1712"/>
                </a:cubicBezTo>
                <a:cubicBezTo>
                  <a:pt x="522" y="1648"/>
                  <a:pt x="323" y="1617"/>
                  <a:pt x="196" y="1595"/>
                </a:cubicBezTo>
                <a:cubicBezTo>
                  <a:pt x="69" y="1573"/>
                  <a:pt x="0" y="1571"/>
                  <a:pt x="0" y="1577"/>
                </a:cubicBezTo>
                <a:cubicBezTo>
                  <a:pt x="0" y="1583"/>
                  <a:pt x="69" y="1581"/>
                  <a:pt x="196" y="1559"/>
                </a:cubicBezTo>
                <a:cubicBezTo>
                  <a:pt x="323" y="1537"/>
                  <a:pt x="522" y="1506"/>
                  <a:pt x="764" y="1442"/>
                </a:cubicBezTo>
                <a:cubicBezTo>
                  <a:pt x="1006" y="1378"/>
                  <a:pt x="1316" y="1286"/>
                  <a:pt x="1649" y="1177"/>
                </a:cubicBezTo>
                <a:cubicBezTo>
                  <a:pt x="1982" y="1068"/>
                  <a:pt x="2372" y="921"/>
                  <a:pt x="2764" y="788"/>
                </a:cubicBezTo>
                <a:cubicBezTo>
                  <a:pt x="3156" y="655"/>
                  <a:pt x="3588" y="495"/>
                  <a:pt x="4000" y="377"/>
                </a:cubicBezTo>
                <a:cubicBezTo>
                  <a:pt x="4412" y="259"/>
                  <a:pt x="4844" y="140"/>
                  <a:pt x="5236" y="83"/>
                </a:cubicBezTo>
                <a:cubicBezTo>
                  <a:pt x="5628" y="26"/>
                  <a:pt x="6018" y="0"/>
                  <a:pt x="6351" y="36"/>
                </a:cubicBezTo>
                <a:cubicBezTo>
                  <a:pt x="6684" y="72"/>
                  <a:pt x="6994" y="165"/>
                  <a:pt x="7236" y="301"/>
                </a:cubicBezTo>
                <a:cubicBezTo>
                  <a:pt x="7478" y="437"/>
                  <a:pt x="7677" y="641"/>
                  <a:pt x="7804" y="854"/>
                </a:cubicBezTo>
                <a:cubicBezTo>
                  <a:pt x="7931" y="1067"/>
                  <a:pt x="8000" y="1336"/>
                  <a:pt x="8000" y="1577"/>
                </a:cubicBezTo>
                <a:close/>
              </a:path>
            </a:pathLst>
          </a:custGeom>
          <a:gradFill rotWithShape="0">
            <a:gsLst>
              <a:gs pos="0">
                <a:srgbClr val="ff7c80">
                  <a:alpha val="86274"/>
                </a:srgbClr>
              </a:gs>
              <a:gs pos="100000">
                <a:srgbClr val="e06d70"/>
              </a:gs>
            </a:gsLst>
            <a:lin ang="5400000"/>
          </a:gra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hengBibo_2009-10-13 10:23:45"/>
          <p:cNvSpPr/>
          <p:nvPr/>
        </p:nvSpPr>
        <p:spPr>
          <a:xfrm rot="5400000">
            <a:off x="9913680" y="3862080"/>
            <a:ext cx="847800" cy="432000"/>
          </a:xfrm>
          <a:custGeom>
            <a:avLst/>
            <a:gdLst>
              <a:gd name="textAreaLeft" fmla="*/ 0 w 847800"/>
              <a:gd name="textAreaRight" fmla="*/ 848160 w 84780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8000" h="3154">
                <a:moveTo>
                  <a:pt x="8000" y="1577"/>
                </a:moveTo>
                <a:cubicBezTo>
                  <a:pt x="8000" y="1818"/>
                  <a:pt x="7931" y="2087"/>
                  <a:pt x="7804" y="2300"/>
                </a:cubicBezTo>
                <a:cubicBezTo>
                  <a:pt x="7677" y="2513"/>
                  <a:pt x="7478" y="2717"/>
                  <a:pt x="7236" y="2853"/>
                </a:cubicBezTo>
                <a:cubicBezTo>
                  <a:pt x="6994" y="2989"/>
                  <a:pt x="6684" y="3082"/>
                  <a:pt x="6351" y="3118"/>
                </a:cubicBezTo>
                <a:cubicBezTo>
                  <a:pt x="6018" y="3154"/>
                  <a:pt x="5628" y="3128"/>
                  <a:pt x="5236" y="3071"/>
                </a:cubicBezTo>
                <a:cubicBezTo>
                  <a:pt x="4844" y="3014"/>
                  <a:pt x="4412" y="2895"/>
                  <a:pt x="4000" y="2777"/>
                </a:cubicBezTo>
                <a:cubicBezTo>
                  <a:pt x="3588" y="2659"/>
                  <a:pt x="3156" y="2499"/>
                  <a:pt x="2764" y="2366"/>
                </a:cubicBezTo>
                <a:cubicBezTo>
                  <a:pt x="2372" y="2233"/>
                  <a:pt x="1982" y="2086"/>
                  <a:pt x="1649" y="1977"/>
                </a:cubicBezTo>
                <a:cubicBezTo>
                  <a:pt x="1316" y="1868"/>
                  <a:pt x="1006" y="1776"/>
                  <a:pt x="764" y="1712"/>
                </a:cubicBezTo>
                <a:cubicBezTo>
                  <a:pt x="522" y="1648"/>
                  <a:pt x="323" y="1617"/>
                  <a:pt x="196" y="1595"/>
                </a:cubicBezTo>
                <a:cubicBezTo>
                  <a:pt x="69" y="1573"/>
                  <a:pt x="0" y="1571"/>
                  <a:pt x="0" y="1577"/>
                </a:cubicBezTo>
                <a:cubicBezTo>
                  <a:pt x="0" y="1583"/>
                  <a:pt x="69" y="1581"/>
                  <a:pt x="196" y="1559"/>
                </a:cubicBezTo>
                <a:cubicBezTo>
                  <a:pt x="323" y="1537"/>
                  <a:pt x="522" y="1506"/>
                  <a:pt x="764" y="1442"/>
                </a:cubicBezTo>
                <a:cubicBezTo>
                  <a:pt x="1006" y="1378"/>
                  <a:pt x="1316" y="1286"/>
                  <a:pt x="1649" y="1177"/>
                </a:cubicBezTo>
                <a:cubicBezTo>
                  <a:pt x="1982" y="1068"/>
                  <a:pt x="2372" y="921"/>
                  <a:pt x="2764" y="788"/>
                </a:cubicBezTo>
                <a:cubicBezTo>
                  <a:pt x="3156" y="655"/>
                  <a:pt x="3588" y="495"/>
                  <a:pt x="4000" y="377"/>
                </a:cubicBezTo>
                <a:cubicBezTo>
                  <a:pt x="4412" y="259"/>
                  <a:pt x="4844" y="140"/>
                  <a:pt x="5236" y="83"/>
                </a:cubicBezTo>
                <a:cubicBezTo>
                  <a:pt x="5628" y="26"/>
                  <a:pt x="6018" y="0"/>
                  <a:pt x="6351" y="36"/>
                </a:cubicBezTo>
                <a:cubicBezTo>
                  <a:pt x="6684" y="72"/>
                  <a:pt x="6994" y="165"/>
                  <a:pt x="7236" y="301"/>
                </a:cubicBezTo>
                <a:cubicBezTo>
                  <a:pt x="7478" y="437"/>
                  <a:pt x="7677" y="641"/>
                  <a:pt x="7804" y="854"/>
                </a:cubicBezTo>
                <a:cubicBezTo>
                  <a:pt x="7931" y="1067"/>
                  <a:pt x="8000" y="1336"/>
                  <a:pt x="8000" y="1577"/>
                </a:cubicBezTo>
                <a:close/>
              </a:path>
            </a:pathLst>
          </a:custGeom>
          <a:gradFill rotWithShape="0">
            <a:gsLst>
              <a:gs pos="0">
                <a:srgbClr val="ff7c80">
                  <a:alpha val="86274"/>
                </a:srgbClr>
              </a:gs>
              <a:gs pos="100000">
                <a:srgbClr val="e06d70"/>
              </a:gs>
            </a:gsLst>
            <a:lin ang="5400000"/>
          </a:gra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hengBibo_2009-10-13 10:23:45"/>
          <p:cNvSpPr/>
          <p:nvPr/>
        </p:nvSpPr>
        <p:spPr>
          <a:xfrm rot="5400000">
            <a:off x="534240" y="3564000"/>
            <a:ext cx="846360" cy="430200"/>
          </a:xfrm>
          <a:custGeom>
            <a:avLst/>
            <a:gdLst>
              <a:gd name="textAreaLeft" fmla="*/ 0 w 846360"/>
              <a:gd name="textAreaRight" fmla="*/ 846720 w 846360"/>
              <a:gd name="textAreaTop" fmla="*/ 0 h 430200"/>
              <a:gd name="textAreaBottom" fmla="*/ 430560 h 430200"/>
            </a:gdLst>
            <a:ahLst/>
            <a:rect l="textAreaLeft" t="textAreaTop" r="textAreaRight" b="textAreaBottom"/>
            <a:pathLst>
              <a:path w="8000" h="3154">
                <a:moveTo>
                  <a:pt x="8000" y="1577"/>
                </a:moveTo>
                <a:cubicBezTo>
                  <a:pt x="8000" y="1818"/>
                  <a:pt x="7931" y="2087"/>
                  <a:pt x="7804" y="2300"/>
                </a:cubicBezTo>
                <a:cubicBezTo>
                  <a:pt x="7677" y="2513"/>
                  <a:pt x="7478" y="2717"/>
                  <a:pt x="7236" y="2853"/>
                </a:cubicBezTo>
                <a:cubicBezTo>
                  <a:pt x="6994" y="2989"/>
                  <a:pt x="6684" y="3082"/>
                  <a:pt x="6351" y="3118"/>
                </a:cubicBezTo>
                <a:cubicBezTo>
                  <a:pt x="6018" y="3154"/>
                  <a:pt x="5628" y="3128"/>
                  <a:pt x="5236" y="3071"/>
                </a:cubicBezTo>
                <a:cubicBezTo>
                  <a:pt x="4844" y="3014"/>
                  <a:pt x="4412" y="2895"/>
                  <a:pt x="4000" y="2777"/>
                </a:cubicBezTo>
                <a:cubicBezTo>
                  <a:pt x="3588" y="2659"/>
                  <a:pt x="3156" y="2499"/>
                  <a:pt x="2764" y="2366"/>
                </a:cubicBezTo>
                <a:cubicBezTo>
                  <a:pt x="2372" y="2233"/>
                  <a:pt x="1982" y="2086"/>
                  <a:pt x="1649" y="1977"/>
                </a:cubicBezTo>
                <a:cubicBezTo>
                  <a:pt x="1316" y="1868"/>
                  <a:pt x="1006" y="1776"/>
                  <a:pt x="764" y="1712"/>
                </a:cubicBezTo>
                <a:cubicBezTo>
                  <a:pt x="522" y="1648"/>
                  <a:pt x="323" y="1617"/>
                  <a:pt x="196" y="1595"/>
                </a:cubicBezTo>
                <a:cubicBezTo>
                  <a:pt x="69" y="1573"/>
                  <a:pt x="0" y="1571"/>
                  <a:pt x="0" y="1577"/>
                </a:cubicBezTo>
                <a:cubicBezTo>
                  <a:pt x="0" y="1583"/>
                  <a:pt x="69" y="1581"/>
                  <a:pt x="196" y="1559"/>
                </a:cubicBezTo>
                <a:cubicBezTo>
                  <a:pt x="323" y="1537"/>
                  <a:pt x="522" y="1506"/>
                  <a:pt x="764" y="1442"/>
                </a:cubicBezTo>
                <a:cubicBezTo>
                  <a:pt x="1006" y="1378"/>
                  <a:pt x="1316" y="1286"/>
                  <a:pt x="1649" y="1177"/>
                </a:cubicBezTo>
                <a:cubicBezTo>
                  <a:pt x="1982" y="1068"/>
                  <a:pt x="2372" y="921"/>
                  <a:pt x="2764" y="788"/>
                </a:cubicBezTo>
                <a:cubicBezTo>
                  <a:pt x="3156" y="655"/>
                  <a:pt x="3588" y="495"/>
                  <a:pt x="4000" y="377"/>
                </a:cubicBezTo>
                <a:cubicBezTo>
                  <a:pt x="4412" y="259"/>
                  <a:pt x="4844" y="140"/>
                  <a:pt x="5236" y="83"/>
                </a:cubicBezTo>
                <a:cubicBezTo>
                  <a:pt x="5628" y="26"/>
                  <a:pt x="6018" y="0"/>
                  <a:pt x="6351" y="36"/>
                </a:cubicBezTo>
                <a:cubicBezTo>
                  <a:pt x="6684" y="72"/>
                  <a:pt x="6994" y="165"/>
                  <a:pt x="7236" y="301"/>
                </a:cubicBezTo>
                <a:cubicBezTo>
                  <a:pt x="7478" y="437"/>
                  <a:pt x="7677" y="641"/>
                  <a:pt x="7804" y="854"/>
                </a:cubicBezTo>
                <a:cubicBezTo>
                  <a:pt x="7931" y="1067"/>
                  <a:pt x="8000" y="1336"/>
                  <a:pt x="8000" y="1577"/>
                </a:cubicBezTo>
                <a:close/>
              </a:path>
            </a:pathLst>
          </a:custGeom>
          <a:gradFill rotWithShape="0">
            <a:gsLst>
              <a:gs pos="0">
                <a:srgbClr val="ff7c80">
                  <a:alpha val="86274"/>
                </a:srgbClr>
              </a:gs>
              <a:gs pos="100000">
                <a:srgbClr val="e06d70"/>
              </a:gs>
            </a:gsLst>
            <a:lin ang="5400000"/>
          </a:gra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hengBibo_2009-10-13 10:23:45"/>
          <p:cNvSpPr/>
          <p:nvPr/>
        </p:nvSpPr>
        <p:spPr>
          <a:xfrm rot="5400000">
            <a:off x="4916880" y="6098400"/>
            <a:ext cx="846360" cy="431640"/>
          </a:xfrm>
          <a:custGeom>
            <a:avLst/>
            <a:gdLst>
              <a:gd name="textAreaLeft" fmla="*/ 0 w 846360"/>
              <a:gd name="textAreaRight" fmla="*/ 846720 w 84636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8000" h="3154">
                <a:moveTo>
                  <a:pt x="8000" y="1577"/>
                </a:moveTo>
                <a:cubicBezTo>
                  <a:pt x="8000" y="1818"/>
                  <a:pt x="7931" y="2087"/>
                  <a:pt x="7804" y="2300"/>
                </a:cubicBezTo>
                <a:cubicBezTo>
                  <a:pt x="7677" y="2513"/>
                  <a:pt x="7478" y="2717"/>
                  <a:pt x="7236" y="2853"/>
                </a:cubicBezTo>
                <a:cubicBezTo>
                  <a:pt x="6994" y="2989"/>
                  <a:pt x="6684" y="3082"/>
                  <a:pt x="6351" y="3118"/>
                </a:cubicBezTo>
                <a:cubicBezTo>
                  <a:pt x="6018" y="3154"/>
                  <a:pt x="5628" y="3128"/>
                  <a:pt x="5236" y="3071"/>
                </a:cubicBezTo>
                <a:cubicBezTo>
                  <a:pt x="4844" y="3014"/>
                  <a:pt x="4412" y="2895"/>
                  <a:pt x="4000" y="2777"/>
                </a:cubicBezTo>
                <a:cubicBezTo>
                  <a:pt x="3588" y="2659"/>
                  <a:pt x="3156" y="2499"/>
                  <a:pt x="2764" y="2366"/>
                </a:cubicBezTo>
                <a:cubicBezTo>
                  <a:pt x="2372" y="2233"/>
                  <a:pt x="1982" y="2086"/>
                  <a:pt x="1649" y="1977"/>
                </a:cubicBezTo>
                <a:cubicBezTo>
                  <a:pt x="1316" y="1868"/>
                  <a:pt x="1006" y="1776"/>
                  <a:pt x="764" y="1712"/>
                </a:cubicBezTo>
                <a:cubicBezTo>
                  <a:pt x="522" y="1648"/>
                  <a:pt x="323" y="1617"/>
                  <a:pt x="196" y="1595"/>
                </a:cubicBezTo>
                <a:cubicBezTo>
                  <a:pt x="69" y="1573"/>
                  <a:pt x="0" y="1571"/>
                  <a:pt x="0" y="1577"/>
                </a:cubicBezTo>
                <a:cubicBezTo>
                  <a:pt x="0" y="1583"/>
                  <a:pt x="69" y="1581"/>
                  <a:pt x="196" y="1559"/>
                </a:cubicBezTo>
                <a:cubicBezTo>
                  <a:pt x="323" y="1537"/>
                  <a:pt x="522" y="1506"/>
                  <a:pt x="764" y="1442"/>
                </a:cubicBezTo>
                <a:cubicBezTo>
                  <a:pt x="1006" y="1378"/>
                  <a:pt x="1316" y="1286"/>
                  <a:pt x="1649" y="1177"/>
                </a:cubicBezTo>
                <a:cubicBezTo>
                  <a:pt x="1982" y="1068"/>
                  <a:pt x="2372" y="921"/>
                  <a:pt x="2764" y="788"/>
                </a:cubicBezTo>
                <a:cubicBezTo>
                  <a:pt x="3156" y="655"/>
                  <a:pt x="3588" y="495"/>
                  <a:pt x="4000" y="377"/>
                </a:cubicBezTo>
                <a:cubicBezTo>
                  <a:pt x="4412" y="259"/>
                  <a:pt x="4844" y="140"/>
                  <a:pt x="5236" y="83"/>
                </a:cubicBezTo>
                <a:cubicBezTo>
                  <a:pt x="5628" y="26"/>
                  <a:pt x="6018" y="0"/>
                  <a:pt x="6351" y="36"/>
                </a:cubicBezTo>
                <a:cubicBezTo>
                  <a:pt x="6684" y="72"/>
                  <a:pt x="6994" y="165"/>
                  <a:pt x="7236" y="301"/>
                </a:cubicBezTo>
                <a:cubicBezTo>
                  <a:pt x="7478" y="437"/>
                  <a:pt x="7677" y="641"/>
                  <a:pt x="7804" y="854"/>
                </a:cubicBezTo>
                <a:cubicBezTo>
                  <a:pt x="7931" y="1067"/>
                  <a:pt x="8000" y="1336"/>
                  <a:pt x="8000" y="1577"/>
                </a:cubicBezTo>
                <a:close/>
              </a:path>
            </a:pathLst>
          </a:custGeom>
          <a:gradFill rotWithShape="0">
            <a:gsLst>
              <a:gs pos="0">
                <a:srgbClr val="ff7c80">
                  <a:alpha val="86274"/>
                </a:srgbClr>
              </a:gs>
              <a:gs pos="100000">
                <a:srgbClr val="e06d70"/>
              </a:gs>
            </a:gsLst>
            <a:lin ang="5400000"/>
          </a:gra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ZhengBibo_2009-10-13 10:23:45"/>
          <p:cNvSpPr/>
          <p:nvPr/>
        </p:nvSpPr>
        <p:spPr>
          <a:xfrm rot="5400000">
            <a:off x="6476400" y="2887560"/>
            <a:ext cx="846000" cy="430200"/>
          </a:xfrm>
          <a:custGeom>
            <a:avLst/>
            <a:gdLst>
              <a:gd name="textAreaLeft" fmla="*/ 0 w 846000"/>
              <a:gd name="textAreaRight" fmla="*/ 846360 w 846000"/>
              <a:gd name="textAreaTop" fmla="*/ 0 h 430200"/>
              <a:gd name="textAreaBottom" fmla="*/ 430560 h 430200"/>
            </a:gdLst>
            <a:ahLst/>
            <a:rect l="textAreaLeft" t="textAreaTop" r="textAreaRight" b="textAreaBottom"/>
            <a:pathLst>
              <a:path w="8000" h="3154">
                <a:moveTo>
                  <a:pt x="8000" y="1577"/>
                </a:moveTo>
                <a:cubicBezTo>
                  <a:pt x="8000" y="1818"/>
                  <a:pt x="7931" y="2087"/>
                  <a:pt x="7804" y="2300"/>
                </a:cubicBezTo>
                <a:cubicBezTo>
                  <a:pt x="7677" y="2513"/>
                  <a:pt x="7478" y="2717"/>
                  <a:pt x="7236" y="2853"/>
                </a:cubicBezTo>
                <a:cubicBezTo>
                  <a:pt x="6994" y="2989"/>
                  <a:pt x="6684" y="3082"/>
                  <a:pt x="6351" y="3118"/>
                </a:cubicBezTo>
                <a:cubicBezTo>
                  <a:pt x="6018" y="3154"/>
                  <a:pt x="5628" y="3128"/>
                  <a:pt x="5236" y="3071"/>
                </a:cubicBezTo>
                <a:cubicBezTo>
                  <a:pt x="4844" y="3014"/>
                  <a:pt x="4412" y="2895"/>
                  <a:pt x="4000" y="2777"/>
                </a:cubicBezTo>
                <a:cubicBezTo>
                  <a:pt x="3588" y="2659"/>
                  <a:pt x="3156" y="2499"/>
                  <a:pt x="2764" y="2366"/>
                </a:cubicBezTo>
                <a:cubicBezTo>
                  <a:pt x="2372" y="2233"/>
                  <a:pt x="1982" y="2086"/>
                  <a:pt x="1649" y="1977"/>
                </a:cubicBezTo>
                <a:cubicBezTo>
                  <a:pt x="1316" y="1868"/>
                  <a:pt x="1006" y="1776"/>
                  <a:pt x="764" y="1712"/>
                </a:cubicBezTo>
                <a:cubicBezTo>
                  <a:pt x="522" y="1648"/>
                  <a:pt x="323" y="1617"/>
                  <a:pt x="196" y="1595"/>
                </a:cubicBezTo>
                <a:cubicBezTo>
                  <a:pt x="69" y="1573"/>
                  <a:pt x="0" y="1571"/>
                  <a:pt x="0" y="1577"/>
                </a:cubicBezTo>
                <a:cubicBezTo>
                  <a:pt x="0" y="1583"/>
                  <a:pt x="69" y="1581"/>
                  <a:pt x="196" y="1559"/>
                </a:cubicBezTo>
                <a:cubicBezTo>
                  <a:pt x="323" y="1537"/>
                  <a:pt x="522" y="1506"/>
                  <a:pt x="764" y="1442"/>
                </a:cubicBezTo>
                <a:cubicBezTo>
                  <a:pt x="1006" y="1378"/>
                  <a:pt x="1316" y="1286"/>
                  <a:pt x="1649" y="1177"/>
                </a:cubicBezTo>
                <a:cubicBezTo>
                  <a:pt x="1982" y="1068"/>
                  <a:pt x="2372" y="921"/>
                  <a:pt x="2764" y="788"/>
                </a:cubicBezTo>
                <a:cubicBezTo>
                  <a:pt x="3156" y="655"/>
                  <a:pt x="3588" y="495"/>
                  <a:pt x="4000" y="377"/>
                </a:cubicBezTo>
                <a:cubicBezTo>
                  <a:pt x="4412" y="259"/>
                  <a:pt x="4844" y="140"/>
                  <a:pt x="5236" y="83"/>
                </a:cubicBezTo>
                <a:cubicBezTo>
                  <a:pt x="5628" y="26"/>
                  <a:pt x="6018" y="0"/>
                  <a:pt x="6351" y="36"/>
                </a:cubicBezTo>
                <a:cubicBezTo>
                  <a:pt x="6684" y="72"/>
                  <a:pt x="6994" y="165"/>
                  <a:pt x="7236" y="301"/>
                </a:cubicBezTo>
                <a:cubicBezTo>
                  <a:pt x="7478" y="437"/>
                  <a:pt x="7677" y="641"/>
                  <a:pt x="7804" y="854"/>
                </a:cubicBezTo>
                <a:cubicBezTo>
                  <a:pt x="7931" y="1067"/>
                  <a:pt x="8000" y="1336"/>
                  <a:pt x="8000" y="1577"/>
                </a:cubicBezTo>
                <a:close/>
              </a:path>
            </a:pathLst>
          </a:custGeom>
          <a:gradFill rotWithShape="0">
            <a:gsLst>
              <a:gs pos="0">
                <a:srgbClr val="ff7c80">
                  <a:alpha val="86274"/>
                </a:srgbClr>
              </a:gs>
              <a:gs pos="100000">
                <a:srgbClr val="e06d70"/>
              </a:gs>
            </a:gsLst>
            <a:lin ang="5400000"/>
          </a:gra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hengBibo_2009-10-13 10:23:45"/>
          <p:cNvSpPr/>
          <p:nvPr/>
        </p:nvSpPr>
        <p:spPr>
          <a:xfrm rot="5400000">
            <a:off x="10888920" y="1205640"/>
            <a:ext cx="846000" cy="431640"/>
          </a:xfrm>
          <a:custGeom>
            <a:avLst/>
            <a:gdLst>
              <a:gd name="textAreaLeft" fmla="*/ 0 w 846000"/>
              <a:gd name="textAreaRight" fmla="*/ 846360 w 84600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8000" h="3154">
                <a:moveTo>
                  <a:pt x="8000" y="1577"/>
                </a:moveTo>
                <a:cubicBezTo>
                  <a:pt x="8000" y="1818"/>
                  <a:pt x="7931" y="2087"/>
                  <a:pt x="7804" y="2300"/>
                </a:cubicBezTo>
                <a:cubicBezTo>
                  <a:pt x="7677" y="2513"/>
                  <a:pt x="7478" y="2717"/>
                  <a:pt x="7236" y="2853"/>
                </a:cubicBezTo>
                <a:cubicBezTo>
                  <a:pt x="6994" y="2989"/>
                  <a:pt x="6684" y="3082"/>
                  <a:pt x="6351" y="3118"/>
                </a:cubicBezTo>
                <a:cubicBezTo>
                  <a:pt x="6018" y="3154"/>
                  <a:pt x="5628" y="3128"/>
                  <a:pt x="5236" y="3071"/>
                </a:cubicBezTo>
                <a:cubicBezTo>
                  <a:pt x="4844" y="3014"/>
                  <a:pt x="4412" y="2895"/>
                  <a:pt x="4000" y="2777"/>
                </a:cubicBezTo>
                <a:cubicBezTo>
                  <a:pt x="3588" y="2659"/>
                  <a:pt x="3156" y="2499"/>
                  <a:pt x="2764" y="2366"/>
                </a:cubicBezTo>
                <a:cubicBezTo>
                  <a:pt x="2372" y="2233"/>
                  <a:pt x="1982" y="2086"/>
                  <a:pt x="1649" y="1977"/>
                </a:cubicBezTo>
                <a:cubicBezTo>
                  <a:pt x="1316" y="1868"/>
                  <a:pt x="1006" y="1776"/>
                  <a:pt x="764" y="1712"/>
                </a:cubicBezTo>
                <a:cubicBezTo>
                  <a:pt x="522" y="1648"/>
                  <a:pt x="323" y="1617"/>
                  <a:pt x="196" y="1595"/>
                </a:cubicBezTo>
                <a:cubicBezTo>
                  <a:pt x="69" y="1573"/>
                  <a:pt x="0" y="1571"/>
                  <a:pt x="0" y="1577"/>
                </a:cubicBezTo>
                <a:cubicBezTo>
                  <a:pt x="0" y="1583"/>
                  <a:pt x="69" y="1581"/>
                  <a:pt x="196" y="1559"/>
                </a:cubicBezTo>
                <a:cubicBezTo>
                  <a:pt x="323" y="1537"/>
                  <a:pt x="522" y="1506"/>
                  <a:pt x="764" y="1442"/>
                </a:cubicBezTo>
                <a:cubicBezTo>
                  <a:pt x="1006" y="1378"/>
                  <a:pt x="1316" y="1286"/>
                  <a:pt x="1649" y="1177"/>
                </a:cubicBezTo>
                <a:cubicBezTo>
                  <a:pt x="1982" y="1068"/>
                  <a:pt x="2372" y="921"/>
                  <a:pt x="2764" y="788"/>
                </a:cubicBezTo>
                <a:cubicBezTo>
                  <a:pt x="3156" y="655"/>
                  <a:pt x="3588" y="495"/>
                  <a:pt x="4000" y="377"/>
                </a:cubicBezTo>
                <a:cubicBezTo>
                  <a:pt x="4412" y="259"/>
                  <a:pt x="4844" y="140"/>
                  <a:pt x="5236" y="83"/>
                </a:cubicBezTo>
                <a:cubicBezTo>
                  <a:pt x="5628" y="26"/>
                  <a:pt x="6018" y="0"/>
                  <a:pt x="6351" y="36"/>
                </a:cubicBezTo>
                <a:cubicBezTo>
                  <a:pt x="6684" y="72"/>
                  <a:pt x="6994" y="165"/>
                  <a:pt x="7236" y="301"/>
                </a:cubicBezTo>
                <a:cubicBezTo>
                  <a:pt x="7478" y="437"/>
                  <a:pt x="7677" y="641"/>
                  <a:pt x="7804" y="854"/>
                </a:cubicBezTo>
                <a:cubicBezTo>
                  <a:pt x="7931" y="1067"/>
                  <a:pt x="8000" y="1336"/>
                  <a:pt x="8000" y="1577"/>
                </a:cubicBezTo>
                <a:close/>
              </a:path>
            </a:pathLst>
          </a:custGeom>
          <a:gradFill rotWithShape="0">
            <a:gsLst>
              <a:gs pos="0">
                <a:srgbClr val="ff7c80">
                  <a:alpha val="86274"/>
                </a:srgbClr>
              </a:gs>
              <a:gs pos="100000">
                <a:srgbClr val="e06d70"/>
              </a:gs>
            </a:gsLst>
            <a:lin ang="5400000"/>
          </a:gra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ZhengBibo_2009-10-13 10:23:45"/>
          <p:cNvSpPr/>
          <p:nvPr/>
        </p:nvSpPr>
        <p:spPr>
          <a:xfrm rot="5400000">
            <a:off x="4361400" y="1281600"/>
            <a:ext cx="846360" cy="432000"/>
          </a:xfrm>
          <a:custGeom>
            <a:avLst/>
            <a:gdLst>
              <a:gd name="textAreaLeft" fmla="*/ 0 w 846360"/>
              <a:gd name="textAreaRight" fmla="*/ 846720 w 84636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8000" h="3154">
                <a:moveTo>
                  <a:pt x="8000" y="1577"/>
                </a:moveTo>
                <a:cubicBezTo>
                  <a:pt x="8000" y="1818"/>
                  <a:pt x="7931" y="2087"/>
                  <a:pt x="7804" y="2300"/>
                </a:cubicBezTo>
                <a:cubicBezTo>
                  <a:pt x="7677" y="2513"/>
                  <a:pt x="7478" y="2717"/>
                  <a:pt x="7236" y="2853"/>
                </a:cubicBezTo>
                <a:cubicBezTo>
                  <a:pt x="6994" y="2989"/>
                  <a:pt x="6684" y="3082"/>
                  <a:pt x="6351" y="3118"/>
                </a:cubicBezTo>
                <a:cubicBezTo>
                  <a:pt x="6018" y="3154"/>
                  <a:pt x="5628" y="3128"/>
                  <a:pt x="5236" y="3071"/>
                </a:cubicBezTo>
                <a:cubicBezTo>
                  <a:pt x="4844" y="3014"/>
                  <a:pt x="4412" y="2895"/>
                  <a:pt x="4000" y="2777"/>
                </a:cubicBezTo>
                <a:cubicBezTo>
                  <a:pt x="3588" y="2659"/>
                  <a:pt x="3156" y="2499"/>
                  <a:pt x="2764" y="2366"/>
                </a:cubicBezTo>
                <a:cubicBezTo>
                  <a:pt x="2372" y="2233"/>
                  <a:pt x="1982" y="2086"/>
                  <a:pt x="1649" y="1977"/>
                </a:cubicBezTo>
                <a:cubicBezTo>
                  <a:pt x="1316" y="1868"/>
                  <a:pt x="1006" y="1776"/>
                  <a:pt x="764" y="1712"/>
                </a:cubicBezTo>
                <a:cubicBezTo>
                  <a:pt x="522" y="1648"/>
                  <a:pt x="323" y="1617"/>
                  <a:pt x="196" y="1595"/>
                </a:cubicBezTo>
                <a:cubicBezTo>
                  <a:pt x="69" y="1573"/>
                  <a:pt x="0" y="1571"/>
                  <a:pt x="0" y="1577"/>
                </a:cubicBezTo>
                <a:cubicBezTo>
                  <a:pt x="0" y="1583"/>
                  <a:pt x="69" y="1581"/>
                  <a:pt x="196" y="1559"/>
                </a:cubicBezTo>
                <a:cubicBezTo>
                  <a:pt x="323" y="1537"/>
                  <a:pt x="522" y="1506"/>
                  <a:pt x="764" y="1442"/>
                </a:cubicBezTo>
                <a:cubicBezTo>
                  <a:pt x="1006" y="1378"/>
                  <a:pt x="1316" y="1286"/>
                  <a:pt x="1649" y="1177"/>
                </a:cubicBezTo>
                <a:cubicBezTo>
                  <a:pt x="1982" y="1068"/>
                  <a:pt x="2372" y="921"/>
                  <a:pt x="2764" y="788"/>
                </a:cubicBezTo>
                <a:cubicBezTo>
                  <a:pt x="3156" y="655"/>
                  <a:pt x="3588" y="495"/>
                  <a:pt x="4000" y="377"/>
                </a:cubicBezTo>
                <a:cubicBezTo>
                  <a:pt x="4412" y="259"/>
                  <a:pt x="4844" y="140"/>
                  <a:pt x="5236" y="83"/>
                </a:cubicBezTo>
                <a:cubicBezTo>
                  <a:pt x="5628" y="26"/>
                  <a:pt x="6018" y="0"/>
                  <a:pt x="6351" y="36"/>
                </a:cubicBezTo>
                <a:cubicBezTo>
                  <a:pt x="6684" y="72"/>
                  <a:pt x="6994" y="165"/>
                  <a:pt x="7236" y="301"/>
                </a:cubicBezTo>
                <a:cubicBezTo>
                  <a:pt x="7478" y="437"/>
                  <a:pt x="7677" y="641"/>
                  <a:pt x="7804" y="854"/>
                </a:cubicBezTo>
                <a:cubicBezTo>
                  <a:pt x="7931" y="1067"/>
                  <a:pt x="8000" y="1336"/>
                  <a:pt x="8000" y="1577"/>
                </a:cubicBezTo>
                <a:close/>
              </a:path>
            </a:pathLst>
          </a:custGeom>
          <a:gradFill rotWithShape="0">
            <a:gsLst>
              <a:gs pos="0">
                <a:srgbClr val="ff7c80">
                  <a:alpha val="86274"/>
                </a:srgbClr>
              </a:gs>
              <a:gs pos="100000">
                <a:srgbClr val="e06d70"/>
              </a:gs>
            </a:gsLst>
            <a:lin ang="5400000"/>
          </a:gra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ZhengBibo_2009-10-13 10:23:45"/>
          <p:cNvSpPr/>
          <p:nvPr/>
        </p:nvSpPr>
        <p:spPr>
          <a:xfrm rot="5400000">
            <a:off x="8323560" y="5874480"/>
            <a:ext cx="846000" cy="431640"/>
          </a:xfrm>
          <a:custGeom>
            <a:avLst/>
            <a:gdLst>
              <a:gd name="textAreaLeft" fmla="*/ 0 w 846000"/>
              <a:gd name="textAreaRight" fmla="*/ 846360 w 84600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8000" h="3154">
                <a:moveTo>
                  <a:pt x="8000" y="1577"/>
                </a:moveTo>
                <a:cubicBezTo>
                  <a:pt x="8000" y="1818"/>
                  <a:pt x="7931" y="2087"/>
                  <a:pt x="7804" y="2300"/>
                </a:cubicBezTo>
                <a:cubicBezTo>
                  <a:pt x="7677" y="2513"/>
                  <a:pt x="7478" y="2717"/>
                  <a:pt x="7236" y="2853"/>
                </a:cubicBezTo>
                <a:cubicBezTo>
                  <a:pt x="6994" y="2989"/>
                  <a:pt x="6684" y="3082"/>
                  <a:pt x="6351" y="3118"/>
                </a:cubicBezTo>
                <a:cubicBezTo>
                  <a:pt x="6018" y="3154"/>
                  <a:pt x="5628" y="3128"/>
                  <a:pt x="5236" y="3071"/>
                </a:cubicBezTo>
                <a:cubicBezTo>
                  <a:pt x="4844" y="3014"/>
                  <a:pt x="4412" y="2895"/>
                  <a:pt x="4000" y="2777"/>
                </a:cubicBezTo>
                <a:cubicBezTo>
                  <a:pt x="3588" y="2659"/>
                  <a:pt x="3156" y="2499"/>
                  <a:pt x="2764" y="2366"/>
                </a:cubicBezTo>
                <a:cubicBezTo>
                  <a:pt x="2372" y="2233"/>
                  <a:pt x="1982" y="2086"/>
                  <a:pt x="1649" y="1977"/>
                </a:cubicBezTo>
                <a:cubicBezTo>
                  <a:pt x="1316" y="1868"/>
                  <a:pt x="1006" y="1776"/>
                  <a:pt x="764" y="1712"/>
                </a:cubicBezTo>
                <a:cubicBezTo>
                  <a:pt x="522" y="1648"/>
                  <a:pt x="323" y="1617"/>
                  <a:pt x="196" y="1595"/>
                </a:cubicBezTo>
                <a:cubicBezTo>
                  <a:pt x="69" y="1573"/>
                  <a:pt x="0" y="1571"/>
                  <a:pt x="0" y="1577"/>
                </a:cubicBezTo>
                <a:cubicBezTo>
                  <a:pt x="0" y="1583"/>
                  <a:pt x="69" y="1581"/>
                  <a:pt x="196" y="1559"/>
                </a:cubicBezTo>
                <a:cubicBezTo>
                  <a:pt x="323" y="1537"/>
                  <a:pt x="522" y="1506"/>
                  <a:pt x="764" y="1442"/>
                </a:cubicBezTo>
                <a:cubicBezTo>
                  <a:pt x="1006" y="1378"/>
                  <a:pt x="1316" y="1286"/>
                  <a:pt x="1649" y="1177"/>
                </a:cubicBezTo>
                <a:cubicBezTo>
                  <a:pt x="1982" y="1068"/>
                  <a:pt x="2372" y="921"/>
                  <a:pt x="2764" y="788"/>
                </a:cubicBezTo>
                <a:cubicBezTo>
                  <a:pt x="3156" y="655"/>
                  <a:pt x="3588" y="495"/>
                  <a:pt x="4000" y="377"/>
                </a:cubicBezTo>
                <a:cubicBezTo>
                  <a:pt x="4412" y="259"/>
                  <a:pt x="4844" y="140"/>
                  <a:pt x="5236" y="83"/>
                </a:cubicBezTo>
                <a:cubicBezTo>
                  <a:pt x="5628" y="26"/>
                  <a:pt x="6018" y="0"/>
                  <a:pt x="6351" y="36"/>
                </a:cubicBezTo>
                <a:cubicBezTo>
                  <a:pt x="6684" y="72"/>
                  <a:pt x="6994" y="165"/>
                  <a:pt x="7236" y="301"/>
                </a:cubicBezTo>
                <a:cubicBezTo>
                  <a:pt x="7478" y="437"/>
                  <a:pt x="7677" y="641"/>
                  <a:pt x="7804" y="854"/>
                </a:cubicBezTo>
                <a:cubicBezTo>
                  <a:pt x="7931" y="1067"/>
                  <a:pt x="8000" y="1336"/>
                  <a:pt x="8000" y="1577"/>
                </a:cubicBezTo>
                <a:close/>
              </a:path>
            </a:pathLst>
          </a:custGeom>
          <a:gradFill rotWithShape="0">
            <a:gsLst>
              <a:gs pos="0">
                <a:srgbClr val="ff7c80">
                  <a:alpha val="86274"/>
                </a:srgbClr>
              </a:gs>
              <a:gs pos="100000">
                <a:srgbClr val="e06d70"/>
              </a:gs>
            </a:gsLst>
            <a:lin ang="5400000"/>
          </a:gra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hengBibo_2009-10-13 10:23:45"/>
          <p:cNvSpPr/>
          <p:nvPr/>
        </p:nvSpPr>
        <p:spPr>
          <a:xfrm rot="5400000">
            <a:off x="999720" y="6294240"/>
            <a:ext cx="846000" cy="430200"/>
          </a:xfrm>
          <a:custGeom>
            <a:avLst/>
            <a:gdLst>
              <a:gd name="textAreaLeft" fmla="*/ 0 w 846000"/>
              <a:gd name="textAreaRight" fmla="*/ 846360 w 846000"/>
              <a:gd name="textAreaTop" fmla="*/ 0 h 430200"/>
              <a:gd name="textAreaBottom" fmla="*/ 430560 h 430200"/>
            </a:gdLst>
            <a:ahLst/>
            <a:rect l="textAreaLeft" t="textAreaTop" r="textAreaRight" b="textAreaBottom"/>
            <a:pathLst>
              <a:path w="8000" h="3154">
                <a:moveTo>
                  <a:pt x="8000" y="1577"/>
                </a:moveTo>
                <a:cubicBezTo>
                  <a:pt x="8000" y="1818"/>
                  <a:pt x="7931" y="2087"/>
                  <a:pt x="7804" y="2300"/>
                </a:cubicBezTo>
                <a:cubicBezTo>
                  <a:pt x="7677" y="2513"/>
                  <a:pt x="7478" y="2717"/>
                  <a:pt x="7236" y="2853"/>
                </a:cubicBezTo>
                <a:cubicBezTo>
                  <a:pt x="6994" y="2989"/>
                  <a:pt x="6684" y="3082"/>
                  <a:pt x="6351" y="3118"/>
                </a:cubicBezTo>
                <a:cubicBezTo>
                  <a:pt x="6018" y="3154"/>
                  <a:pt x="5628" y="3128"/>
                  <a:pt x="5236" y="3071"/>
                </a:cubicBezTo>
                <a:cubicBezTo>
                  <a:pt x="4844" y="3014"/>
                  <a:pt x="4412" y="2895"/>
                  <a:pt x="4000" y="2777"/>
                </a:cubicBezTo>
                <a:cubicBezTo>
                  <a:pt x="3588" y="2659"/>
                  <a:pt x="3156" y="2499"/>
                  <a:pt x="2764" y="2366"/>
                </a:cubicBezTo>
                <a:cubicBezTo>
                  <a:pt x="2372" y="2233"/>
                  <a:pt x="1982" y="2086"/>
                  <a:pt x="1649" y="1977"/>
                </a:cubicBezTo>
                <a:cubicBezTo>
                  <a:pt x="1316" y="1868"/>
                  <a:pt x="1006" y="1776"/>
                  <a:pt x="764" y="1712"/>
                </a:cubicBezTo>
                <a:cubicBezTo>
                  <a:pt x="522" y="1648"/>
                  <a:pt x="323" y="1617"/>
                  <a:pt x="196" y="1595"/>
                </a:cubicBezTo>
                <a:cubicBezTo>
                  <a:pt x="69" y="1573"/>
                  <a:pt x="0" y="1571"/>
                  <a:pt x="0" y="1577"/>
                </a:cubicBezTo>
                <a:cubicBezTo>
                  <a:pt x="0" y="1583"/>
                  <a:pt x="69" y="1581"/>
                  <a:pt x="196" y="1559"/>
                </a:cubicBezTo>
                <a:cubicBezTo>
                  <a:pt x="323" y="1537"/>
                  <a:pt x="522" y="1506"/>
                  <a:pt x="764" y="1442"/>
                </a:cubicBezTo>
                <a:cubicBezTo>
                  <a:pt x="1006" y="1378"/>
                  <a:pt x="1316" y="1286"/>
                  <a:pt x="1649" y="1177"/>
                </a:cubicBezTo>
                <a:cubicBezTo>
                  <a:pt x="1982" y="1068"/>
                  <a:pt x="2372" y="921"/>
                  <a:pt x="2764" y="788"/>
                </a:cubicBezTo>
                <a:cubicBezTo>
                  <a:pt x="3156" y="655"/>
                  <a:pt x="3588" y="495"/>
                  <a:pt x="4000" y="377"/>
                </a:cubicBezTo>
                <a:cubicBezTo>
                  <a:pt x="4412" y="259"/>
                  <a:pt x="4844" y="140"/>
                  <a:pt x="5236" y="83"/>
                </a:cubicBezTo>
                <a:cubicBezTo>
                  <a:pt x="5628" y="26"/>
                  <a:pt x="6018" y="0"/>
                  <a:pt x="6351" y="36"/>
                </a:cubicBezTo>
                <a:cubicBezTo>
                  <a:pt x="6684" y="72"/>
                  <a:pt x="6994" y="165"/>
                  <a:pt x="7236" y="301"/>
                </a:cubicBezTo>
                <a:cubicBezTo>
                  <a:pt x="7478" y="437"/>
                  <a:pt x="7677" y="641"/>
                  <a:pt x="7804" y="854"/>
                </a:cubicBezTo>
                <a:cubicBezTo>
                  <a:pt x="7931" y="1067"/>
                  <a:pt x="8000" y="1336"/>
                  <a:pt x="8000" y="1577"/>
                </a:cubicBezTo>
                <a:close/>
              </a:path>
            </a:pathLst>
          </a:custGeom>
          <a:gradFill rotWithShape="0">
            <a:gsLst>
              <a:gs pos="0">
                <a:srgbClr val="ff7c80">
                  <a:alpha val="86274"/>
                </a:srgbClr>
              </a:gs>
              <a:gs pos="100000">
                <a:srgbClr val="e06d70"/>
              </a:gs>
            </a:gsLst>
            <a:lin ang="5400000"/>
          </a:gra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ZhengBibo_2009-10-13 10:23:45"/>
          <p:cNvSpPr/>
          <p:nvPr/>
        </p:nvSpPr>
        <p:spPr>
          <a:xfrm rot="5400000">
            <a:off x="10978920" y="6399000"/>
            <a:ext cx="847800" cy="432000"/>
          </a:xfrm>
          <a:custGeom>
            <a:avLst/>
            <a:gdLst>
              <a:gd name="textAreaLeft" fmla="*/ 0 w 847800"/>
              <a:gd name="textAreaRight" fmla="*/ 848160 w 84780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8000" h="3154">
                <a:moveTo>
                  <a:pt x="8000" y="1577"/>
                </a:moveTo>
                <a:cubicBezTo>
                  <a:pt x="8000" y="1818"/>
                  <a:pt x="7931" y="2087"/>
                  <a:pt x="7804" y="2300"/>
                </a:cubicBezTo>
                <a:cubicBezTo>
                  <a:pt x="7677" y="2513"/>
                  <a:pt x="7478" y="2717"/>
                  <a:pt x="7236" y="2853"/>
                </a:cubicBezTo>
                <a:cubicBezTo>
                  <a:pt x="6994" y="2989"/>
                  <a:pt x="6684" y="3082"/>
                  <a:pt x="6351" y="3118"/>
                </a:cubicBezTo>
                <a:cubicBezTo>
                  <a:pt x="6018" y="3154"/>
                  <a:pt x="5628" y="3128"/>
                  <a:pt x="5236" y="3071"/>
                </a:cubicBezTo>
                <a:cubicBezTo>
                  <a:pt x="4844" y="3014"/>
                  <a:pt x="4412" y="2895"/>
                  <a:pt x="4000" y="2777"/>
                </a:cubicBezTo>
                <a:cubicBezTo>
                  <a:pt x="3588" y="2659"/>
                  <a:pt x="3156" y="2499"/>
                  <a:pt x="2764" y="2366"/>
                </a:cubicBezTo>
                <a:cubicBezTo>
                  <a:pt x="2372" y="2233"/>
                  <a:pt x="1982" y="2086"/>
                  <a:pt x="1649" y="1977"/>
                </a:cubicBezTo>
                <a:cubicBezTo>
                  <a:pt x="1316" y="1868"/>
                  <a:pt x="1006" y="1776"/>
                  <a:pt x="764" y="1712"/>
                </a:cubicBezTo>
                <a:cubicBezTo>
                  <a:pt x="522" y="1648"/>
                  <a:pt x="323" y="1617"/>
                  <a:pt x="196" y="1595"/>
                </a:cubicBezTo>
                <a:cubicBezTo>
                  <a:pt x="69" y="1573"/>
                  <a:pt x="0" y="1571"/>
                  <a:pt x="0" y="1577"/>
                </a:cubicBezTo>
                <a:cubicBezTo>
                  <a:pt x="0" y="1583"/>
                  <a:pt x="69" y="1581"/>
                  <a:pt x="196" y="1559"/>
                </a:cubicBezTo>
                <a:cubicBezTo>
                  <a:pt x="323" y="1537"/>
                  <a:pt x="522" y="1506"/>
                  <a:pt x="764" y="1442"/>
                </a:cubicBezTo>
                <a:cubicBezTo>
                  <a:pt x="1006" y="1378"/>
                  <a:pt x="1316" y="1286"/>
                  <a:pt x="1649" y="1177"/>
                </a:cubicBezTo>
                <a:cubicBezTo>
                  <a:pt x="1982" y="1068"/>
                  <a:pt x="2372" y="921"/>
                  <a:pt x="2764" y="788"/>
                </a:cubicBezTo>
                <a:cubicBezTo>
                  <a:pt x="3156" y="655"/>
                  <a:pt x="3588" y="495"/>
                  <a:pt x="4000" y="377"/>
                </a:cubicBezTo>
                <a:cubicBezTo>
                  <a:pt x="4412" y="259"/>
                  <a:pt x="4844" y="140"/>
                  <a:pt x="5236" y="83"/>
                </a:cubicBezTo>
                <a:cubicBezTo>
                  <a:pt x="5628" y="26"/>
                  <a:pt x="6018" y="0"/>
                  <a:pt x="6351" y="36"/>
                </a:cubicBezTo>
                <a:cubicBezTo>
                  <a:pt x="6684" y="72"/>
                  <a:pt x="6994" y="165"/>
                  <a:pt x="7236" y="301"/>
                </a:cubicBezTo>
                <a:cubicBezTo>
                  <a:pt x="7478" y="437"/>
                  <a:pt x="7677" y="641"/>
                  <a:pt x="7804" y="854"/>
                </a:cubicBezTo>
                <a:cubicBezTo>
                  <a:pt x="7931" y="1067"/>
                  <a:pt x="8000" y="1336"/>
                  <a:pt x="8000" y="1577"/>
                </a:cubicBezTo>
                <a:close/>
              </a:path>
            </a:pathLst>
          </a:custGeom>
          <a:gradFill rotWithShape="0">
            <a:gsLst>
              <a:gs pos="0">
                <a:srgbClr val="ff7c80">
                  <a:alpha val="86274"/>
                </a:srgbClr>
              </a:gs>
              <a:gs pos="100000">
                <a:srgbClr val="e06d70"/>
              </a:gs>
            </a:gsLst>
            <a:lin ang="5400000"/>
          </a:gra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3619440" y="4094280"/>
            <a:ext cx="13064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微软雅黑"/>
                <a:ea typeface="微软雅黑"/>
              </a:rPr>
              <a:t>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Microsoft Sans Serif"/>
                <a:ea typeface="微软雅黑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17"/>
          <p:cNvSpPr/>
          <p:nvPr/>
        </p:nvSpPr>
        <p:spPr>
          <a:xfrm>
            <a:off x="5721480" y="4676040"/>
            <a:ext cx="777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Calibri"/>
              </a:rPr>
              <a:t>is simple,powerful and fre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0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6" presetSubtype="16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内容2"/>
          <p:cNvPicPr/>
          <p:nvPr/>
        </p:nvPicPr>
        <p:blipFill>
          <a:blip r:embed="rId1"/>
          <a:stretch/>
        </p:blipFill>
        <p:spPr>
          <a:xfrm>
            <a:off x="3240" y="1440"/>
            <a:ext cx="12185640" cy="6855120"/>
          </a:xfrm>
          <a:prstGeom prst="rect">
            <a:avLst/>
          </a:prstGeom>
          <a:ln w="0">
            <a:noFill/>
          </a:ln>
        </p:spPr>
      </p:pic>
      <p:sp>
        <p:nvSpPr>
          <p:cNvPr id="84" name="Oval 3"/>
          <p:cNvSpPr/>
          <p:nvPr/>
        </p:nvSpPr>
        <p:spPr>
          <a:xfrm>
            <a:off x="2104920" y="3736800"/>
            <a:ext cx="854280" cy="824040"/>
          </a:xfrm>
          <a:prstGeom prst="ellipse">
            <a:avLst/>
          </a:prstGeom>
          <a:solidFill>
            <a:srgbClr val="ffff00">
              <a:alpha val="91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Calibri"/>
                <a:ea typeface="微软雅黑"/>
              </a:rPr>
              <a:t>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1325520" y="2389320"/>
            <a:ext cx="967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         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在人类的童年时期，对于              兼有养育与毁灭能力、不可捉摸的性情，产生了又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又怕的感情，产生了水崇拜。通过赋予水以神的灵性，祈祷水给人类带来安宁、丰收和幸福。</a:t>
            </a:r>
            <a:r>
              <a:rPr b="0" lang="en-US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It's more</a:t>
            </a:r>
            <a:r>
              <a:rPr b="0" lang="en-US" sz="1800" spc="-1" strike="noStrike">
                <a:solidFill>
                  <a:srgbClr val="ff6699"/>
                </a:solidFill>
                <a:latin typeface="微软雅黑"/>
                <a:ea typeface="微软雅黑"/>
              </a:rPr>
              <a:t> powerful</a:t>
            </a:r>
            <a:r>
              <a:rPr b="0" lang="en-US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 than you thought.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val 5"/>
          <p:cNvSpPr/>
          <p:nvPr/>
        </p:nvSpPr>
        <p:spPr>
          <a:xfrm>
            <a:off x="2631960" y="1082520"/>
            <a:ext cx="854280" cy="825480"/>
          </a:xfrm>
          <a:prstGeom prst="ellipse">
            <a:avLst/>
          </a:prstGeom>
          <a:solidFill>
            <a:srgbClr val="ffff00">
              <a:alpha val="91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Calibri"/>
                <a:ea typeface="微软雅黑"/>
              </a:rPr>
              <a:t>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3484440" y="1376640"/>
            <a:ext cx="70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H₂O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）由氢（</a:t>
            </a:r>
            <a:r>
              <a:rPr b="0" lang="en-US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H)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、氧</a:t>
            </a:r>
            <a:r>
              <a:rPr b="0" lang="en-US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(O)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两种元素组成。</a:t>
            </a:r>
            <a:r>
              <a:rPr b="0" lang="en-US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It's </a:t>
            </a:r>
            <a:r>
              <a:rPr b="0" lang="en-US" sz="1800" spc="-1" strike="noStrike">
                <a:solidFill>
                  <a:srgbClr val="ff6699"/>
                </a:solidFill>
                <a:latin typeface="微软雅黑"/>
                <a:ea typeface="微软雅黑"/>
              </a:rPr>
              <a:t>simple </a:t>
            </a:r>
            <a:r>
              <a:rPr b="0" lang="en-US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enough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Oval 7"/>
          <p:cNvSpPr/>
          <p:nvPr/>
        </p:nvSpPr>
        <p:spPr>
          <a:xfrm>
            <a:off x="4587840" y="1987560"/>
            <a:ext cx="855720" cy="825480"/>
          </a:xfrm>
          <a:prstGeom prst="ellipse">
            <a:avLst/>
          </a:prstGeom>
          <a:solidFill>
            <a:srgbClr val="ffff00">
              <a:alpha val="91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Calibri"/>
                <a:ea typeface="微软雅黑"/>
              </a:rPr>
              <a:t>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1368360" y="4028040"/>
            <a:ext cx="975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                  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，由于它的灿烂透明，它的淡青色的光辉而令人迷恋，水把周围的一切如画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反映出来，把这一切委曲的摇曳着，我们看到的水是第一流的写生家。—— </a:t>
            </a:r>
            <a:r>
              <a:rPr b="0" lang="zh-CN" sz="1800" spc="-1" strike="noStrike">
                <a:solidFill>
                  <a:srgbClr val="008000"/>
                </a:solidFill>
                <a:latin typeface="Calibri"/>
              </a:rPr>
              <a:t>车尔尼雪夫斯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alibri"/>
              </a:rPr>
              <a:t>         </a:t>
            </a:r>
            <a:r>
              <a:rPr b="0" lang="en-US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35766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0">
                                  <p:stCondLst>
                                    <p:cond delay="2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0">
                                  <p:stCondLst>
                                    <p:cond delay="10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过渡2"/>
          <p:cNvPicPr/>
          <p:nvPr/>
        </p:nvPicPr>
        <p:blipFill>
          <a:blip r:embed="rId1"/>
          <a:stretch/>
        </p:blipFill>
        <p:spPr>
          <a:xfrm>
            <a:off x="-744480" y="1440"/>
            <a:ext cx="12183840" cy="6855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过渡2"/>
          <p:cNvPicPr/>
          <p:nvPr/>
        </p:nvPicPr>
        <p:blipFill>
          <a:blip r:embed="rId2"/>
          <a:stretch/>
        </p:blipFill>
        <p:spPr>
          <a:xfrm>
            <a:off x="5062680" y="0"/>
            <a:ext cx="12152160" cy="68356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"/>
          <p:cNvSpPr/>
          <p:nvPr/>
        </p:nvSpPr>
        <p:spPr>
          <a:xfrm>
            <a:off x="5437080" y="4510800"/>
            <a:ext cx="592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Calibri"/>
              </a:rPr>
              <a:t>is simple,powerful and fre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hengBibo_2009-10-13 10:23:45"/>
          <p:cNvSpPr/>
          <p:nvPr/>
        </p:nvSpPr>
        <p:spPr>
          <a:xfrm rot="5400000">
            <a:off x="1914840" y="1116720"/>
            <a:ext cx="846000" cy="431640"/>
          </a:xfrm>
          <a:custGeom>
            <a:avLst/>
            <a:gdLst>
              <a:gd name="textAreaLeft" fmla="*/ 0 w 846000"/>
              <a:gd name="textAreaRight" fmla="*/ 846360 w 84600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8000" h="3154">
                <a:moveTo>
                  <a:pt x="8000" y="1577"/>
                </a:moveTo>
                <a:cubicBezTo>
                  <a:pt x="8000" y="1818"/>
                  <a:pt x="7931" y="2087"/>
                  <a:pt x="7804" y="2300"/>
                </a:cubicBezTo>
                <a:cubicBezTo>
                  <a:pt x="7677" y="2513"/>
                  <a:pt x="7478" y="2717"/>
                  <a:pt x="7236" y="2853"/>
                </a:cubicBezTo>
                <a:cubicBezTo>
                  <a:pt x="6994" y="2989"/>
                  <a:pt x="6684" y="3082"/>
                  <a:pt x="6351" y="3118"/>
                </a:cubicBezTo>
                <a:cubicBezTo>
                  <a:pt x="6018" y="3154"/>
                  <a:pt x="5628" y="3128"/>
                  <a:pt x="5236" y="3071"/>
                </a:cubicBezTo>
                <a:cubicBezTo>
                  <a:pt x="4844" y="3014"/>
                  <a:pt x="4412" y="2895"/>
                  <a:pt x="4000" y="2777"/>
                </a:cubicBezTo>
                <a:cubicBezTo>
                  <a:pt x="3588" y="2659"/>
                  <a:pt x="3156" y="2499"/>
                  <a:pt x="2764" y="2366"/>
                </a:cubicBezTo>
                <a:cubicBezTo>
                  <a:pt x="2372" y="2233"/>
                  <a:pt x="1982" y="2086"/>
                  <a:pt x="1649" y="1977"/>
                </a:cubicBezTo>
                <a:cubicBezTo>
                  <a:pt x="1316" y="1868"/>
                  <a:pt x="1006" y="1776"/>
                  <a:pt x="764" y="1712"/>
                </a:cubicBezTo>
                <a:cubicBezTo>
                  <a:pt x="522" y="1648"/>
                  <a:pt x="323" y="1617"/>
                  <a:pt x="196" y="1595"/>
                </a:cubicBezTo>
                <a:cubicBezTo>
                  <a:pt x="69" y="1573"/>
                  <a:pt x="0" y="1571"/>
                  <a:pt x="0" y="1577"/>
                </a:cubicBezTo>
                <a:cubicBezTo>
                  <a:pt x="0" y="1583"/>
                  <a:pt x="69" y="1581"/>
                  <a:pt x="196" y="1559"/>
                </a:cubicBezTo>
                <a:cubicBezTo>
                  <a:pt x="323" y="1537"/>
                  <a:pt x="522" y="1506"/>
                  <a:pt x="764" y="1442"/>
                </a:cubicBezTo>
                <a:cubicBezTo>
                  <a:pt x="1006" y="1378"/>
                  <a:pt x="1316" y="1286"/>
                  <a:pt x="1649" y="1177"/>
                </a:cubicBezTo>
                <a:cubicBezTo>
                  <a:pt x="1982" y="1068"/>
                  <a:pt x="2372" y="921"/>
                  <a:pt x="2764" y="788"/>
                </a:cubicBezTo>
                <a:cubicBezTo>
                  <a:pt x="3156" y="655"/>
                  <a:pt x="3588" y="495"/>
                  <a:pt x="4000" y="377"/>
                </a:cubicBezTo>
                <a:cubicBezTo>
                  <a:pt x="4412" y="259"/>
                  <a:pt x="4844" y="140"/>
                  <a:pt x="5236" y="83"/>
                </a:cubicBezTo>
                <a:cubicBezTo>
                  <a:pt x="5628" y="26"/>
                  <a:pt x="6018" y="0"/>
                  <a:pt x="6351" y="36"/>
                </a:cubicBezTo>
                <a:cubicBezTo>
                  <a:pt x="6684" y="72"/>
                  <a:pt x="6994" y="165"/>
                  <a:pt x="7236" y="301"/>
                </a:cubicBezTo>
                <a:cubicBezTo>
                  <a:pt x="7478" y="437"/>
                  <a:pt x="7677" y="641"/>
                  <a:pt x="7804" y="854"/>
                </a:cubicBezTo>
                <a:cubicBezTo>
                  <a:pt x="7931" y="1067"/>
                  <a:pt x="8000" y="1336"/>
                  <a:pt x="8000" y="1577"/>
                </a:cubicBezTo>
                <a:close/>
              </a:path>
            </a:pathLst>
          </a:custGeom>
          <a:gradFill rotWithShape="0">
            <a:gsLst>
              <a:gs pos="0">
                <a:srgbClr val="ff7c80">
                  <a:alpha val="86274"/>
                </a:srgbClr>
              </a:gs>
              <a:gs pos="100000">
                <a:srgbClr val="e06d70"/>
              </a:gs>
            </a:gsLst>
            <a:lin ang="5400000"/>
          </a:gra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ZhengBibo_2009-10-13 10:23:45"/>
          <p:cNvSpPr/>
          <p:nvPr/>
        </p:nvSpPr>
        <p:spPr>
          <a:xfrm rot="5400000">
            <a:off x="1937160" y="2608920"/>
            <a:ext cx="846000" cy="431640"/>
          </a:xfrm>
          <a:custGeom>
            <a:avLst/>
            <a:gdLst>
              <a:gd name="textAreaLeft" fmla="*/ 0 w 846000"/>
              <a:gd name="textAreaRight" fmla="*/ 846360 w 84600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8000" h="3154">
                <a:moveTo>
                  <a:pt x="8000" y="1577"/>
                </a:moveTo>
                <a:cubicBezTo>
                  <a:pt x="8000" y="1818"/>
                  <a:pt x="7931" y="2087"/>
                  <a:pt x="7804" y="2300"/>
                </a:cubicBezTo>
                <a:cubicBezTo>
                  <a:pt x="7677" y="2513"/>
                  <a:pt x="7478" y="2717"/>
                  <a:pt x="7236" y="2853"/>
                </a:cubicBezTo>
                <a:cubicBezTo>
                  <a:pt x="6994" y="2989"/>
                  <a:pt x="6684" y="3082"/>
                  <a:pt x="6351" y="3118"/>
                </a:cubicBezTo>
                <a:cubicBezTo>
                  <a:pt x="6018" y="3154"/>
                  <a:pt x="5628" y="3128"/>
                  <a:pt x="5236" y="3071"/>
                </a:cubicBezTo>
                <a:cubicBezTo>
                  <a:pt x="4844" y="3014"/>
                  <a:pt x="4412" y="2895"/>
                  <a:pt x="4000" y="2777"/>
                </a:cubicBezTo>
                <a:cubicBezTo>
                  <a:pt x="3588" y="2659"/>
                  <a:pt x="3156" y="2499"/>
                  <a:pt x="2764" y="2366"/>
                </a:cubicBezTo>
                <a:cubicBezTo>
                  <a:pt x="2372" y="2233"/>
                  <a:pt x="1982" y="2086"/>
                  <a:pt x="1649" y="1977"/>
                </a:cubicBezTo>
                <a:cubicBezTo>
                  <a:pt x="1316" y="1868"/>
                  <a:pt x="1006" y="1776"/>
                  <a:pt x="764" y="1712"/>
                </a:cubicBezTo>
                <a:cubicBezTo>
                  <a:pt x="522" y="1648"/>
                  <a:pt x="323" y="1617"/>
                  <a:pt x="196" y="1595"/>
                </a:cubicBezTo>
                <a:cubicBezTo>
                  <a:pt x="69" y="1573"/>
                  <a:pt x="0" y="1571"/>
                  <a:pt x="0" y="1577"/>
                </a:cubicBezTo>
                <a:cubicBezTo>
                  <a:pt x="0" y="1583"/>
                  <a:pt x="69" y="1581"/>
                  <a:pt x="196" y="1559"/>
                </a:cubicBezTo>
                <a:cubicBezTo>
                  <a:pt x="323" y="1537"/>
                  <a:pt x="522" y="1506"/>
                  <a:pt x="764" y="1442"/>
                </a:cubicBezTo>
                <a:cubicBezTo>
                  <a:pt x="1006" y="1378"/>
                  <a:pt x="1316" y="1286"/>
                  <a:pt x="1649" y="1177"/>
                </a:cubicBezTo>
                <a:cubicBezTo>
                  <a:pt x="1982" y="1068"/>
                  <a:pt x="2372" y="921"/>
                  <a:pt x="2764" y="788"/>
                </a:cubicBezTo>
                <a:cubicBezTo>
                  <a:pt x="3156" y="655"/>
                  <a:pt x="3588" y="495"/>
                  <a:pt x="4000" y="377"/>
                </a:cubicBezTo>
                <a:cubicBezTo>
                  <a:pt x="4412" y="259"/>
                  <a:pt x="4844" y="140"/>
                  <a:pt x="5236" y="83"/>
                </a:cubicBezTo>
                <a:cubicBezTo>
                  <a:pt x="5628" y="26"/>
                  <a:pt x="6018" y="0"/>
                  <a:pt x="6351" y="36"/>
                </a:cubicBezTo>
                <a:cubicBezTo>
                  <a:pt x="6684" y="72"/>
                  <a:pt x="6994" y="165"/>
                  <a:pt x="7236" y="301"/>
                </a:cubicBezTo>
                <a:cubicBezTo>
                  <a:pt x="7478" y="437"/>
                  <a:pt x="7677" y="641"/>
                  <a:pt x="7804" y="854"/>
                </a:cubicBezTo>
                <a:cubicBezTo>
                  <a:pt x="7931" y="1067"/>
                  <a:pt x="8000" y="1336"/>
                  <a:pt x="8000" y="1577"/>
                </a:cubicBezTo>
                <a:close/>
              </a:path>
            </a:pathLst>
          </a:custGeom>
          <a:gradFill rotWithShape="0">
            <a:gsLst>
              <a:gs pos="0">
                <a:srgbClr val="ff7c80">
                  <a:alpha val="86274"/>
                </a:srgbClr>
              </a:gs>
              <a:gs pos="100000">
                <a:srgbClr val="e06d70"/>
              </a:gs>
            </a:gsLst>
            <a:lin ang="5400000"/>
          </a:gra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ZhengBibo_2009-10-13 10:23:45"/>
          <p:cNvSpPr/>
          <p:nvPr/>
        </p:nvSpPr>
        <p:spPr>
          <a:xfrm rot="5400000">
            <a:off x="1929600" y="4177440"/>
            <a:ext cx="846000" cy="432000"/>
          </a:xfrm>
          <a:custGeom>
            <a:avLst/>
            <a:gdLst>
              <a:gd name="textAreaLeft" fmla="*/ 0 w 846000"/>
              <a:gd name="textAreaRight" fmla="*/ 846360 w 84600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8000" h="3154">
                <a:moveTo>
                  <a:pt x="8000" y="1577"/>
                </a:moveTo>
                <a:cubicBezTo>
                  <a:pt x="8000" y="1818"/>
                  <a:pt x="7931" y="2087"/>
                  <a:pt x="7804" y="2300"/>
                </a:cubicBezTo>
                <a:cubicBezTo>
                  <a:pt x="7677" y="2513"/>
                  <a:pt x="7478" y="2717"/>
                  <a:pt x="7236" y="2853"/>
                </a:cubicBezTo>
                <a:cubicBezTo>
                  <a:pt x="6994" y="2989"/>
                  <a:pt x="6684" y="3082"/>
                  <a:pt x="6351" y="3118"/>
                </a:cubicBezTo>
                <a:cubicBezTo>
                  <a:pt x="6018" y="3154"/>
                  <a:pt x="5628" y="3128"/>
                  <a:pt x="5236" y="3071"/>
                </a:cubicBezTo>
                <a:cubicBezTo>
                  <a:pt x="4844" y="3014"/>
                  <a:pt x="4412" y="2895"/>
                  <a:pt x="4000" y="2777"/>
                </a:cubicBezTo>
                <a:cubicBezTo>
                  <a:pt x="3588" y="2659"/>
                  <a:pt x="3156" y="2499"/>
                  <a:pt x="2764" y="2366"/>
                </a:cubicBezTo>
                <a:cubicBezTo>
                  <a:pt x="2372" y="2233"/>
                  <a:pt x="1982" y="2086"/>
                  <a:pt x="1649" y="1977"/>
                </a:cubicBezTo>
                <a:cubicBezTo>
                  <a:pt x="1316" y="1868"/>
                  <a:pt x="1006" y="1776"/>
                  <a:pt x="764" y="1712"/>
                </a:cubicBezTo>
                <a:cubicBezTo>
                  <a:pt x="522" y="1648"/>
                  <a:pt x="323" y="1617"/>
                  <a:pt x="196" y="1595"/>
                </a:cubicBezTo>
                <a:cubicBezTo>
                  <a:pt x="69" y="1573"/>
                  <a:pt x="0" y="1571"/>
                  <a:pt x="0" y="1577"/>
                </a:cubicBezTo>
                <a:cubicBezTo>
                  <a:pt x="0" y="1583"/>
                  <a:pt x="69" y="1581"/>
                  <a:pt x="196" y="1559"/>
                </a:cubicBezTo>
                <a:cubicBezTo>
                  <a:pt x="323" y="1537"/>
                  <a:pt x="522" y="1506"/>
                  <a:pt x="764" y="1442"/>
                </a:cubicBezTo>
                <a:cubicBezTo>
                  <a:pt x="1006" y="1378"/>
                  <a:pt x="1316" y="1286"/>
                  <a:pt x="1649" y="1177"/>
                </a:cubicBezTo>
                <a:cubicBezTo>
                  <a:pt x="1982" y="1068"/>
                  <a:pt x="2372" y="921"/>
                  <a:pt x="2764" y="788"/>
                </a:cubicBezTo>
                <a:cubicBezTo>
                  <a:pt x="3156" y="655"/>
                  <a:pt x="3588" y="495"/>
                  <a:pt x="4000" y="377"/>
                </a:cubicBezTo>
                <a:cubicBezTo>
                  <a:pt x="4412" y="259"/>
                  <a:pt x="4844" y="140"/>
                  <a:pt x="5236" y="83"/>
                </a:cubicBezTo>
                <a:cubicBezTo>
                  <a:pt x="5628" y="26"/>
                  <a:pt x="6018" y="0"/>
                  <a:pt x="6351" y="36"/>
                </a:cubicBezTo>
                <a:cubicBezTo>
                  <a:pt x="6684" y="72"/>
                  <a:pt x="6994" y="165"/>
                  <a:pt x="7236" y="301"/>
                </a:cubicBezTo>
                <a:cubicBezTo>
                  <a:pt x="7478" y="437"/>
                  <a:pt x="7677" y="641"/>
                  <a:pt x="7804" y="854"/>
                </a:cubicBezTo>
                <a:cubicBezTo>
                  <a:pt x="7931" y="1067"/>
                  <a:pt x="8000" y="1336"/>
                  <a:pt x="8000" y="1577"/>
                </a:cubicBezTo>
                <a:close/>
              </a:path>
            </a:pathLst>
          </a:custGeom>
          <a:gradFill rotWithShape="0">
            <a:gsLst>
              <a:gs pos="0">
                <a:srgbClr val="ff7c80">
                  <a:alpha val="86274"/>
                </a:srgbClr>
              </a:gs>
              <a:gs pos="100000">
                <a:srgbClr val="e06d70"/>
              </a:gs>
            </a:gsLst>
            <a:lin ang="5400000"/>
          </a:gra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ZhengBibo_2009-10-13 10:23:45"/>
          <p:cNvSpPr/>
          <p:nvPr/>
        </p:nvSpPr>
        <p:spPr>
          <a:xfrm rot="5400000">
            <a:off x="1958400" y="5813280"/>
            <a:ext cx="846000" cy="430200"/>
          </a:xfrm>
          <a:custGeom>
            <a:avLst/>
            <a:gdLst>
              <a:gd name="textAreaLeft" fmla="*/ 0 w 846000"/>
              <a:gd name="textAreaRight" fmla="*/ 846360 w 846000"/>
              <a:gd name="textAreaTop" fmla="*/ 0 h 430200"/>
              <a:gd name="textAreaBottom" fmla="*/ 430560 h 430200"/>
            </a:gdLst>
            <a:ahLst/>
            <a:rect l="textAreaLeft" t="textAreaTop" r="textAreaRight" b="textAreaBottom"/>
            <a:pathLst>
              <a:path w="8000" h="3154">
                <a:moveTo>
                  <a:pt x="8000" y="1577"/>
                </a:moveTo>
                <a:cubicBezTo>
                  <a:pt x="8000" y="1818"/>
                  <a:pt x="7931" y="2087"/>
                  <a:pt x="7804" y="2300"/>
                </a:cubicBezTo>
                <a:cubicBezTo>
                  <a:pt x="7677" y="2513"/>
                  <a:pt x="7478" y="2717"/>
                  <a:pt x="7236" y="2853"/>
                </a:cubicBezTo>
                <a:cubicBezTo>
                  <a:pt x="6994" y="2989"/>
                  <a:pt x="6684" y="3082"/>
                  <a:pt x="6351" y="3118"/>
                </a:cubicBezTo>
                <a:cubicBezTo>
                  <a:pt x="6018" y="3154"/>
                  <a:pt x="5628" y="3128"/>
                  <a:pt x="5236" y="3071"/>
                </a:cubicBezTo>
                <a:cubicBezTo>
                  <a:pt x="4844" y="3014"/>
                  <a:pt x="4412" y="2895"/>
                  <a:pt x="4000" y="2777"/>
                </a:cubicBezTo>
                <a:cubicBezTo>
                  <a:pt x="3588" y="2659"/>
                  <a:pt x="3156" y="2499"/>
                  <a:pt x="2764" y="2366"/>
                </a:cubicBezTo>
                <a:cubicBezTo>
                  <a:pt x="2372" y="2233"/>
                  <a:pt x="1982" y="2086"/>
                  <a:pt x="1649" y="1977"/>
                </a:cubicBezTo>
                <a:cubicBezTo>
                  <a:pt x="1316" y="1868"/>
                  <a:pt x="1006" y="1776"/>
                  <a:pt x="764" y="1712"/>
                </a:cubicBezTo>
                <a:cubicBezTo>
                  <a:pt x="522" y="1648"/>
                  <a:pt x="323" y="1617"/>
                  <a:pt x="196" y="1595"/>
                </a:cubicBezTo>
                <a:cubicBezTo>
                  <a:pt x="69" y="1573"/>
                  <a:pt x="0" y="1571"/>
                  <a:pt x="0" y="1577"/>
                </a:cubicBezTo>
                <a:cubicBezTo>
                  <a:pt x="0" y="1583"/>
                  <a:pt x="69" y="1581"/>
                  <a:pt x="196" y="1559"/>
                </a:cubicBezTo>
                <a:cubicBezTo>
                  <a:pt x="323" y="1537"/>
                  <a:pt x="522" y="1506"/>
                  <a:pt x="764" y="1442"/>
                </a:cubicBezTo>
                <a:cubicBezTo>
                  <a:pt x="1006" y="1378"/>
                  <a:pt x="1316" y="1286"/>
                  <a:pt x="1649" y="1177"/>
                </a:cubicBezTo>
                <a:cubicBezTo>
                  <a:pt x="1982" y="1068"/>
                  <a:pt x="2372" y="921"/>
                  <a:pt x="2764" y="788"/>
                </a:cubicBezTo>
                <a:cubicBezTo>
                  <a:pt x="3156" y="655"/>
                  <a:pt x="3588" y="495"/>
                  <a:pt x="4000" y="377"/>
                </a:cubicBezTo>
                <a:cubicBezTo>
                  <a:pt x="4412" y="259"/>
                  <a:pt x="4844" y="140"/>
                  <a:pt x="5236" y="83"/>
                </a:cubicBezTo>
                <a:cubicBezTo>
                  <a:pt x="5628" y="26"/>
                  <a:pt x="6018" y="0"/>
                  <a:pt x="6351" y="36"/>
                </a:cubicBezTo>
                <a:cubicBezTo>
                  <a:pt x="6684" y="72"/>
                  <a:pt x="6994" y="165"/>
                  <a:pt x="7236" y="301"/>
                </a:cubicBezTo>
                <a:cubicBezTo>
                  <a:pt x="7478" y="437"/>
                  <a:pt x="7677" y="641"/>
                  <a:pt x="7804" y="854"/>
                </a:cubicBezTo>
                <a:cubicBezTo>
                  <a:pt x="7931" y="1067"/>
                  <a:pt x="8000" y="1336"/>
                  <a:pt x="8000" y="1577"/>
                </a:cubicBezTo>
                <a:close/>
              </a:path>
            </a:pathLst>
          </a:custGeom>
          <a:gradFill rotWithShape="0">
            <a:gsLst>
              <a:gs pos="0">
                <a:srgbClr val="ff7c80">
                  <a:alpha val="86274"/>
                </a:srgbClr>
              </a:gs>
              <a:gs pos="100000">
                <a:srgbClr val="e06d70"/>
              </a:gs>
            </a:gsLst>
            <a:lin ang="5400000"/>
          </a:gra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ZhengBibo_2009-10-13 10:23:45"/>
          <p:cNvSpPr/>
          <p:nvPr/>
        </p:nvSpPr>
        <p:spPr>
          <a:xfrm rot="5400000">
            <a:off x="9267480" y="966600"/>
            <a:ext cx="846000" cy="430200"/>
          </a:xfrm>
          <a:custGeom>
            <a:avLst/>
            <a:gdLst>
              <a:gd name="textAreaLeft" fmla="*/ 0 w 846000"/>
              <a:gd name="textAreaRight" fmla="*/ 846360 w 846000"/>
              <a:gd name="textAreaTop" fmla="*/ 0 h 430200"/>
              <a:gd name="textAreaBottom" fmla="*/ 430560 h 430200"/>
            </a:gdLst>
            <a:ahLst/>
            <a:rect l="textAreaLeft" t="textAreaTop" r="textAreaRight" b="textAreaBottom"/>
            <a:pathLst>
              <a:path w="8000" h="3154">
                <a:moveTo>
                  <a:pt x="8000" y="1577"/>
                </a:moveTo>
                <a:cubicBezTo>
                  <a:pt x="8000" y="1818"/>
                  <a:pt x="7931" y="2087"/>
                  <a:pt x="7804" y="2300"/>
                </a:cubicBezTo>
                <a:cubicBezTo>
                  <a:pt x="7677" y="2513"/>
                  <a:pt x="7478" y="2717"/>
                  <a:pt x="7236" y="2853"/>
                </a:cubicBezTo>
                <a:cubicBezTo>
                  <a:pt x="6994" y="2989"/>
                  <a:pt x="6684" y="3082"/>
                  <a:pt x="6351" y="3118"/>
                </a:cubicBezTo>
                <a:cubicBezTo>
                  <a:pt x="6018" y="3154"/>
                  <a:pt x="5628" y="3128"/>
                  <a:pt x="5236" y="3071"/>
                </a:cubicBezTo>
                <a:cubicBezTo>
                  <a:pt x="4844" y="3014"/>
                  <a:pt x="4412" y="2895"/>
                  <a:pt x="4000" y="2777"/>
                </a:cubicBezTo>
                <a:cubicBezTo>
                  <a:pt x="3588" y="2659"/>
                  <a:pt x="3156" y="2499"/>
                  <a:pt x="2764" y="2366"/>
                </a:cubicBezTo>
                <a:cubicBezTo>
                  <a:pt x="2372" y="2233"/>
                  <a:pt x="1982" y="2086"/>
                  <a:pt x="1649" y="1977"/>
                </a:cubicBezTo>
                <a:cubicBezTo>
                  <a:pt x="1316" y="1868"/>
                  <a:pt x="1006" y="1776"/>
                  <a:pt x="764" y="1712"/>
                </a:cubicBezTo>
                <a:cubicBezTo>
                  <a:pt x="522" y="1648"/>
                  <a:pt x="323" y="1617"/>
                  <a:pt x="196" y="1595"/>
                </a:cubicBezTo>
                <a:cubicBezTo>
                  <a:pt x="69" y="1573"/>
                  <a:pt x="0" y="1571"/>
                  <a:pt x="0" y="1577"/>
                </a:cubicBezTo>
                <a:cubicBezTo>
                  <a:pt x="0" y="1583"/>
                  <a:pt x="69" y="1581"/>
                  <a:pt x="196" y="1559"/>
                </a:cubicBezTo>
                <a:cubicBezTo>
                  <a:pt x="323" y="1537"/>
                  <a:pt x="522" y="1506"/>
                  <a:pt x="764" y="1442"/>
                </a:cubicBezTo>
                <a:cubicBezTo>
                  <a:pt x="1006" y="1378"/>
                  <a:pt x="1316" y="1286"/>
                  <a:pt x="1649" y="1177"/>
                </a:cubicBezTo>
                <a:cubicBezTo>
                  <a:pt x="1982" y="1068"/>
                  <a:pt x="2372" y="921"/>
                  <a:pt x="2764" y="788"/>
                </a:cubicBezTo>
                <a:cubicBezTo>
                  <a:pt x="3156" y="655"/>
                  <a:pt x="3588" y="495"/>
                  <a:pt x="4000" y="377"/>
                </a:cubicBezTo>
                <a:cubicBezTo>
                  <a:pt x="4412" y="259"/>
                  <a:pt x="4844" y="140"/>
                  <a:pt x="5236" y="83"/>
                </a:cubicBezTo>
                <a:cubicBezTo>
                  <a:pt x="5628" y="26"/>
                  <a:pt x="6018" y="0"/>
                  <a:pt x="6351" y="36"/>
                </a:cubicBezTo>
                <a:cubicBezTo>
                  <a:pt x="6684" y="72"/>
                  <a:pt x="6994" y="165"/>
                  <a:pt x="7236" y="301"/>
                </a:cubicBezTo>
                <a:cubicBezTo>
                  <a:pt x="7478" y="437"/>
                  <a:pt x="7677" y="641"/>
                  <a:pt x="7804" y="854"/>
                </a:cubicBezTo>
                <a:cubicBezTo>
                  <a:pt x="7931" y="1067"/>
                  <a:pt x="8000" y="1336"/>
                  <a:pt x="8000" y="1577"/>
                </a:cubicBezTo>
                <a:close/>
              </a:path>
            </a:pathLst>
          </a:custGeom>
          <a:gradFill rotWithShape="0">
            <a:gsLst>
              <a:gs pos="0">
                <a:srgbClr val="ff7c80">
                  <a:alpha val="86274"/>
                </a:srgbClr>
              </a:gs>
              <a:gs pos="100000">
                <a:srgbClr val="e06d70"/>
              </a:gs>
            </a:gsLst>
            <a:lin ang="5400000"/>
          </a:gra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ZhengBibo_2009-10-13 10:23:45"/>
          <p:cNvSpPr/>
          <p:nvPr/>
        </p:nvSpPr>
        <p:spPr>
          <a:xfrm rot="5400000">
            <a:off x="9297360" y="2452680"/>
            <a:ext cx="846360" cy="430200"/>
          </a:xfrm>
          <a:custGeom>
            <a:avLst/>
            <a:gdLst>
              <a:gd name="textAreaLeft" fmla="*/ 0 w 846360"/>
              <a:gd name="textAreaRight" fmla="*/ 846720 w 846360"/>
              <a:gd name="textAreaTop" fmla="*/ 0 h 430200"/>
              <a:gd name="textAreaBottom" fmla="*/ 430560 h 430200"/>
            </a:gdLst>
            <a:ahLst/>
            <a:rect l="textAreaLeft" t="textAreaTop" r="textAreaRight" b="textAreaBottom"/>
            <a:pathLst>
              <a:path w="8000" h="3154">
                <a:moveTo>
                  <a:pt x="8000" y="1577"/>
                </a:moveTo>
                <a:cubicBezTo>
                  <a:pt x="8000" y="1818"/>
                  <a:pt x="7931" y="2087"/>
                  <a:pt x="7804" y="2300"/>
                </a:cubicBezTo>
                <a:cubicBezTo>
                  <a:pt x="7677" y="2513"/>
                  <a:pt x="7478" y="2717"/>
                  <a:pt x="7236" y="2853"/>
                </a:cubicBezTo>
                <a:cubicBezTo>
                  <a:pt x="6994" y="2989"/>
                  <a:pt x="6684" y="3082"/>
                  <a:pt x="6351" y="3118"/>
                </a:cubicBezTo>
                <a:cubicBezTo>
                  <a:pt x="6018" y="3154"/>
                  <a:pt x="5628" y="3128"/>
                  <a:pt x="5236" y="3071"/>
                </a:cubicBezTo>
                <a:cubicBezTo>
                  <a:pt x="4844" y="3014"/>
                  <a:pt x="4412" y="2895"/>
                  <a:pt x="4000" y="2777"/>
                </a:cubicBezTo>
                <a:cubicBezTo>
                  <a:pt x="3588" y="2659"/>
                  <a:pt x="3156" y="2499"/>
                  <a:pt x="2764" y="2366"/>
                </a:cubicBezTo>
                <a:cubicBezTo>
                  <a:pt x="2372" y="2233"/>
                  <a:pt x="1982" y="2086"/>
                  <a:pt x="1649" y="1977"/>
                </a:cubicBezTo>
                <a:cubicBezTo>
                  <a:pt x="1316" y="1868"/>
                  <a:pt x="1006" y="1776"/>
                  <a:pt x="764" y="1712"/>
                </a:cubicBezTo>
                <a:cubicBezTo>
                  <a:pt x="522" y="1648"/>
                  <a:pt x="323" y="1617"/>
                  <a:pt x="196" y="1595"/>
                </a:cubicBezTo>
                <a:cubicBezTo>
                  <a:pt x="69" y="1573"/>
                  <a:pt x="0" y="1571"/>
                  <a:pt x="0" y="1577"/>
                </a:cubicBezTo>
                <a:cubicBezTo>
                  <a:pt x="0" y="1583"/>
                  <a:pt x="69" y="1581"/>
                  <a:pt x="196" y="1559"/>
                </a:cubicBezTo>
                <a:cubicBezTo>
                  <a:pt x="323" y="1537"/>
                  <a:pt x="522" y="1506"/>
                  <a:pt x="764" y="1442"/>
                </a:cubicBezTo>
                <a:cubicBezTo>
                  <a:pt x="1006" y="1378"/>
                  <a:pt x="1316" y="1286"/>
                  <a:pt x="1649" y="1177"/>
                </a:cubicBezTo>
                <a:cubicBezTo>
                  <a:pt x="1982" y="1068"/>
                  <a:pt x="2372" y="921"/>
                  <a:pt x="2764" y="788"/>
                </a:cubicBezTo>
                <a:cubicBezTo>
                  <a:pt x="3156" y="655"/>
                  <a:pt x="3588" y="495"/>
                  <a:pt x="4000" y="377"/>
                </a:cubicBezTo>
                <a:cubicBezTo>
                  <a:pt x="4412" y="259"/>
                  <a:pt x="4844" y="140"/>
                  <a:pt x="5236" y="83"/>
                </a:cubicBezTo>
                <a:cubicBezTo>
                  <a:pt x="5628" y="26"/>
                  <a:pt x="6018" y="0"/>
                  <a:pt x="6351" y="36"/>
                </a:cubicBezTo>
                <a:cubicBezTo>
                  <a:pt x="6684" y="72"/>
                  <a:pt x="6994" y="165"/>
                  <a:pt x="7236" y="301"/>
                </a:cubicBezTo>
                <a:cubicBezTo>
                  <a:pt x="7478" y="437"/>
                  <a:pt x="7677" y="641"/>
                  <a:pt x="7804" y="854"/>
                </a:cubicBezTo>
                <a:cubicBezTo>
                  <a:pt x="7931" y="1067"/>
                  <a:pt x="8000" y="1336"/>
                  <a:pt x="8000" y="1577"/>
                </a:cubicBezTo>
                <a:close/>
              </a:path>
            </a:pathLst>
          </a:custGeom>
          <a:gradFill rotWithShape="0">
            <a:gsLst>
              <a:gs pos="0">
                <a:srgbClr val="ff7c80">
                  <a:alpha val="86274"/>
                </a:srgbClr>
              </a:gs>
              <a:gs pos="100000">
                <a:srgbClr val="e06d70"/>
              </a:gs>
            </a:gsLst>
            <a:lin ang="5400000"/>
          </a:gra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ZhengBibo_2009-10-13 10:23:45"/>
          <p:cNvSpPr/>
          <p:nvPr/>
        </p:nvSpPr>
        <p:spPr>
          <a:xfrm rot="5400000">
            <a:off x="9357840" y="3922560"/>
            <a:ext cx="846000" cy="430200"/>
          </a:xfrm>
          <a:custGeom>
            <a:avLst/>
            <a:gdLst>
              <a:gd name="textAreaLeft" fmla="*/ 0 w 846000"/>
              <a:gd name="textAreaRight" fmla="*/ 846360 w 846000"/>
              <a:gd name="textAreaTop" fmla="*/ 0 h 430200"/>
              <a:gd name="textAreaBottom" fmla="*/ 430560 h 430200"/>
            </a:gdLst>
            <a:ahLst/>
            <a:rect l="textAreaLeft" t="textAreaTop" r="textAreaRight" b="textAreaBottom"/>
            <a:pathLst>
              <a:path w="8000" h="3154">
                <a:moveTo>
                  <a:pt x="8000" y="1577"/>
                </a:moveTo>
                <a:cubicBezTo>
                  <a:pt x="8000" y="1818"/>
                  <a:pt x="7931" y="2087"/>
                  <a:pt x="7804" y="2300"/>
                </a:cubicBezTo>
                <a:cubicBezTo>
                  <a:pt x="7677" y="2513"/>
                  <a:pt x="7478" y="2717"/>
                  <a:pt x="7236" y="2853"/>
                </a:cubicBezTo>
                <a:cubicBezTo>
                  <a:pt x="6994" y="2989"/>
                  <a:pt x="6684" y="3082"/>
                  <a:pt x="6351" y="3118"/>
                </a:cubicBezTo>
                <a:cubicBezTo>
                  <a:pt x="6018" y="3154"/>
                  <a:pt x="5628" y="3128"/>
                  <a:pt x="5236" y="3071"/>
                </a:cubicBezTo>
                <a:cubicBezTo>
                  <a:pt x="4844" y="3014"/>
                  <a:pt x="4412" y="2895"/>
                  <a:pt x="4000" y="2777"/>
                </a:cubicBezTo>
                <a:cubicBezTo>
                  <a:pt x="3588" y="2659"/>
                  <a:pt x="3156" y="2499"/>
                  <a:pt x="2764" y="2366"/>
                </a:cubicBezTo>
                <a:cubicBezTo>
                  <a:pt x="2372" y="2233"/>
                  <a:pt x="1982" y="2086"/>
                  <a:pt x="1649" y="1977"/>
                </a:cubicBezTo>
                <a:cubicBezTo>
                  <a:pt x="1316" y="1868"/>
                  <a:pt x="1006" y="1776"/>
                  <a:pt x="764" y="1712"/>
                </a:cubicBezTo>
                <a:cubicBezTo>
                  <a:pt x="522" y="1648"/>
                  <a:pt x="323" y="1617"/>
                  <a:pt x="196" y="1595"/>
                </a:cubicBezTo>
                <a:cubicBezTo>
                  <a:pt x="69" y="1573"/>
                  <a:pt x="0" y="1571"/>
                  <a:pt x="0" y="1577"/>
                </a:cubicBezTo>
                <a:cubicBezTo>
                  <a:pt x="0" y="1583"/>
                  <a:pt x="69" y="1581"/>
                  <a:pt x="196" y="1559"/>
                </a:cubicBezTo>
                <a:cubicBezTo>
                  <a:pt x="323" y="1537"/>
                  <a:pt x="522" y="1506"/>
                  <a:pt x="764" y="1442"/>
                </a:cubicBezTo>
                <a:cubicBezTo>
                  <a:pt x="1006" y="1378"/>
                  <a:pt x="1316" y="1286"/>
                  <a:pt x="1649" y="1177"/>
                </a:cubicBezTo>
                <a:cubicBezTo>
                  <a:pt x="1982" y="1068"/>
                  <a:pt x="2372" y="921"/>
                  <a:pt x="2764" y="788"/>
                </a:cubicBezTo>
                <a:cubicBezTo>
                  <a:pt x="3156" y="655"/>
                  <a:pt x="3588" y="495"/>
                  <a:pt x="4000" y="377"/>
                </a:cubicBezTo>
                <a:cubicBezTo>
                  <a:pt x="4412" y="259"/>
                  <a:pt x="4844" y="140"/>
                  <a:pt x="5236" y="83"/>
                </a:cubicBezTo>
                <a:cubicBezTo>
                  <a:pt x="5628" y="26"/>
                  <a:pt x="6018" y="0"/>
                  <a:pt x="6351" y="36"/>
                </a:cubicBezTo>
                <a:cubicBezTo>
                  <a:pt x="6684" y="72"/>
                  <a:pt x="6994" y="165"/>
                  <a:pt x="7236" y="301"/>
                </a:cubicBezTo>
                <a:cubicBezTo>
                  <a:pt x="7478" y="437"/>
                  <a:pt x="7677" y="641"/>
                  <a:pt x="7804" y="854"/>
                </a:cubicBezTo>
                <a:cubicBezTo>
                  <a:pt x="7931" y="1067"/>
                  <a:pt x="8000" y="1336"/>
                  <a:pt x="8000" y="1577"/>
                </a:cubicBezTo>
                <a:close/>
              </a:path>
            </a:pathLst>
          </a:custGeom>
          <a:gradFill rotWithShape="0">
            <a:gsLst>
              <a:gs pos="0">
                <a:srgbClr val="ff7c80">
                  <a:alpha val="86274"/>
                </a:srgbClr>
              </a:gs>
              <a:gs pos="100000">
                <a:srgbClr val="e06d70"/>
              </a:gs>
            </a:gsLst>
            <a:lin ang="5400000"/>
          </a:gra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ZhengBibo_2009-10-13 10:23:45"/>
          <p:cNvSpPr/>
          <p:nvPr/>
        </p:nvSpPr>
        <p:spPr>
          <a:xfrm rot="5400000">
            <a:off x="9357120" y="5693400"/>
            <a:ext cx="846000" cy="431640"/>
          </a:xfrm>
          <a:custGeom>
            <a:avLst/>
            <a:gdLst>
              <a:gd name="textAreaLeft" fmla="*/ 0 w 846000"/>
              <a:gd name="textAreaRight" fmla="*/ 846360 w 84600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8000" h="3154">
                <a:moveTo>
                  <a:pt x="8000" y="1577"/>
                </a:moveTo>
                <a:cubicBezTo>
                  <a:pt x="8000" y="1818"/>
                  <a:pt x="7931" y="2087"/>
                  <a:pt x="7804" y="2300"/>
                </a:cubicBezTo>
                <a:cubicBezTo>
                  <a:pt x="7677" y="2513"/>
                  <a:pt x="7478" y="2717"/>
                  <a:pt x="7236" y="2853"/>
                </a:cubicBezTo>
                <a:cubicBezTo>
                  <a:pt x="6994" y="2989"/>
                  <a:pt x="6684" y="3082"/>
                  <a:pt x="6351" y="3118"/>
                </a:cubicBezTo>
                <a:cubicBezTo>
                  <a:pt x="6018" y="3154"/>
                  <a:pt x="5628" y="3128"/>
                  <a:pt x="5236" y="3071"/>
                </a:cubicBezTo>
                <a:cubicBezTo>
                  <a:pt x="4844" y="3014"/>
                  <a:pt x="4412" y="2895"/>
                  <a:pt x="4000" y="2777"/>
                </a:cubicBezTo>
                <a:cubicBezTo>
                  <a:pt x="3588" y="2659"/>
                  <a:pt x="3156" y="2499"/>
                  <a:pt x="2764" y="2366"/>
                </a:cubicBezTo>
                <a:cubicBezTo>
                  <a:pt x="2372" y="2233"/>
                  <a:pt x="1982" y="2086"/>
                  <a:pt x="1649" y="1977"/>
                </a:cubicBezTo>
                <a:cubicBezTo>
                  <a:pt x="1316" y="1868"/>
                  <a:pt x="1006" y="1776"/>
                  <a:pt x="764" y="1712"/>
                </a:cubicBezTo>
                <a:cubicBezTo>
                  <a:pt x="522" y="1648"/>
                  <a:pt x="323" y="1617"/>
                  <a:pt x="196" y="1595"/>
                </a:cubicBezTo>
                <a:cubicBezTo>
                  <a:pt x="69" y="1573"/>
                  <a:pt x="0" y="1571"/>
                  <a:pt x="0" y="1577"/>
                </a:cubicBezTo>
                <a:cubicBezTo>
                  <a:pt x="0" y="1583"/>
                  <a:pt x="69" y="1581"/>
                  <a:pt x="196" y="1559"/>
                </a:cubicBezTo>
                <a:cubicBezTo>
                  <a:pt x="323" y="1537"/>
                  <a:pt x="522" y="1506"/>
                  <a:pt x="764" y="1442"/>
                </a:cubicBezTo>
                <a:cubicBezTo>
                  <a:pt x="1006" y="1378"/>
                  <a:pt x="1316" y="1286"/>
                  <a:pt x="1649" y="1177"/>
                </a:cubicBezTo>
                <a:cubicBezTo>
                  <a:pt x="1982" y="1068"/>
                  <a:pt x="2372" y="921"/>
                  <a:pt x="2764" y="788"/>
                </a:cubicBezTo>
                <a:cubicBezTo>
                  <a:pt x="3156" y="655"/>
                  <a:pt x="3588" y="495"/>
                  <a:pt x="4000" y="377"/>
                </a:cubicBezTo>
                <a:cubicBezTo>
                  <a:pt x="4412" y="259"/>
                  <a:pt x="4844" y="140"/>
                  <a:pt x="5236" y="83"/>
                </a:cubicBezTo>
                <a:cubicBezTo>
                  <a:pt x="5628" y="26"/>
                  <a:pt x="6018" y="0"/>
                  <a:pt x="6351" y="36"/>
                </a:cubicBezTo>
                <a:cubicBezTo>
                  <a:pt x="6684" y="72"/>
                  <a:pt x="6994" y="165"/>
                  <a:pt x="7236" y="301"/>
                </a:cubicBezTo>
                <a:cubicBezTo>
                  <a:pt x="7478" y="437"/>
                  <a:pt x="7677" y="641"/>
                  <a:pt x="7804" y="854"/>
                </a:cubicBezTo>
                <a:cubicBezTo>
                  <a:pt x="7931" y="1067"/>
                  <a:pt x="8000" y="1336"/>
                  <a:pt x="8000" y="1577"/>
                </a:cubicBezTo>
                <a:close/>
              </a:path>
            </a:pathLst>
          </a:custGeom>
          <a:gradFill rotWithShape="0">
            <a:gsLst>
              <a:gs pos="0">
                <a:srgbClr val="ff7c80">
                  <a:alpha val="86274"/>
                </a:srgbClr>
              </a:gs>
              <a:gs pos="100000">
                <a:srgbClr val="e06d70"/>
              </a:gs>
            </a:gsLst>
            <a:lin ang="5400000"/>
          </a:gra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曲线 200"/>
          <p:cNvSpPr/>
          <p:nvPr/>
        </p:nvSpPr>
        <p:spPr>
          <a:xfrm>
            <a:off x="4044960" y="-9360"/>
            <a:ext cx="1805040" cy="3355920"/>
          </a:xfrm>
          <a:custGeom>
            <a:avLst/>
            <a:gdLst>
              <a:gd name="textAreaLeft" fmla="*/ 0 w 1805040"/>
              <a:gd name="textAreaRight" fmla="*/ 1805400 w 1805040"/>
              <a:gd name="textAreaTop" fmla="*/ 0 h 3355920"/>
              <a:gd name="textAreaBottom" fmla="*/ 3356280 h 3355920"/>
            </a:gdLst>
            <a:ahLst/>
            <a:rect l="textAreaLeft" t="textAreaTop" r="textAreaRight" b="textAreaBottom"/>
            <a:pathLst>
              <a:path w="21600" h="21600">
                <a:moveTo>
                  <a:pt x="21090" y="0"/>
                </a:moveTo>
                <a:cubicBezTo>
                  <a:pt x="21090" y="738"/>
                  <a:pt x="21600" y="2990"/>
                  <a:pt x="21090" y="4435"/>
                </a:cubicBezTo>
                <a:cubicBezTo>
                  <a:pt x="20581" y="5879"/>
                  <a:pt x="19503" y="7278"/>
                  <a:pt x="18036" y="8678"/>
                </a:cubicBezTo>
                <a:cubicBezTo>
                  <a:pt x="16570" y="10077"/>
                  <a:pt x="14473" y="11424"/>
                  <a:pt x="12292" y="12823"/>
                </a:cubicBezTo>
                <a:cubicBezTo>
                  <a:pt x="10112" y="14223"/>
                  <a:pt x="6693" y="16087"/>
                  <a:pt x="4930" y="17067"/>
                </a:cubicBezTo>
                <a:cubicBezTo>
                  <a:pt x="3168" y="18046"/>
                  <a:pt x="2476" y="18050"/>
                  <a:pt x="1701" y="18707"/>
                </a:cubicBezTo>
                <a:cubicBezTo>
                  <a:pt x="926" y="19364"/>
                  <a:pt x="531" y="20539"/>
                  <a:pt x="265" y="21020"/>
                </a:cubicBezTo>
                <a:cubicBezTo>
                  <a:pt x="0" y="21502"/>
                  <a:pt x="113" y="21502"/>
                  <a:pt x="83" y="21600"/>
                </a:cubicBezTo>
              </a:path>
            </a:pathLst>
          </a:custGeom>
          <a:noFill/>
          <a:ln w="0">
            <a:solidFill>
              <a:srgbClr val="6633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Oval 14"/>
          <p:cNvSpPr/>
          <p:nvPr/>
        </p:nvSpPr>
        <p:spPr>
          <a:xfrm>
            <a:off x="2795760" y="3314880"/>
            <a:ext cx="2273040" cy="2259000"/>
          </a:xfrm>
          <a:prstGeom prst="ellipse">
            <a:avLst/>
          </a:prstGeom>
          <a:solidFill>
            <a:srgbClr val="ffff00">
              <a:alpha val="91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Calibri"/>
                <a:ea typeface="微软雅黑"/>
              </a:rPr>
              <a:t>眼泪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Microsoft Sans Serif"/>
              </a:rPr>
              <a:t>Tea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6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内容2"/>
          <p:cNvPicPr/>
          <p:nvPr/>
        </p:nvPicPr>
        <p:blipFill>
          <a:blip r:embed="rId1"/>
          <a:stretch/>
        </p:blipFill>
        <p:spPr>
          <a:xfrm>
            <a:off x="0" y="1440"/>
            <a:ext cx="12192120" cy="68551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2314440" y="1738800"/>
            <a:ext cx="808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是一种略咸的透明液体，每个人的眼睛里都有制造眼泪的“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工厂”——“泪腺”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2270160" y="2957040"/>
            <a:ext cx="816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zh-CN" sz="1800" spc="-1" strike="noStrike">
                <a:solidFill>
                  <a:srgbClr val="008000"/>
                </a:solidFill>
                <a:latin typeface="Microsoft Sans Serif"/>
                <a:ea typeface="微软雅黑"/>
              </a:rPr>
              <a:t>严厉的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爸爸只要看见女儿的              心就融化了，好强的男生看见女生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眼泪就什么都愿意去做。</a:t>
            </a:r>
            <a:r>
              <a:rPr b="0" lang="en-US" sz="1800" spc="-1" strike="noStrike">
                <a:solidFill>
                  <a:srgbClr val="008000"/>
                </a:solidFill>
                <a:latin typeface="Microsoft Sans Serif"/>
                <a:ea typeface="微软雅黑"/>
              </a:rPr>
              <a:t>It's </a:t>
            </a:r>
            <a:r>
              <a:rPr b="0" lang="en-US" sz="1800" spc="-1" strike="noStrike">
                <a:solidFill>
                  <a:srgbClr val="ff6699"/>
                </a:solidFill>
                <a:latin typeface="Microsoft Sans Serif"/>
                <a:ea typeface="微软雅黑"/>
              </a:rPr>
              <a:t>simple</a:t>
            </a:r>
            <a:r>
              <a:rPr b="0" lang="en-US" sz="1800" spc="-1" strike="noStrike">
                <a:solidFill>
                  <a:srgbClr val="008000"/>
                </a:solidFill>
                <a:latin typeface="Microsoft Sans Serif"/>
                <a:ea typeface="微软雅黑"/>
              </a:rPr>
              <a:t> but </a:t>
            </a:r>
            <a:r>
              <a:rPr b="0" lang="en-US" sz="1800" spc="-1" strike="noStrike">
                <a:solidFill>
                  <a:srgbClr val="ff6699"/>
                </a:solidFill>
                <a:latin typeface="Microsoft Sans Serif"/>
                <a:ea typeface="微软雅黑"/>
              </a:rPr>
              <a:t>powerfu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2809800" y="4450680"/>
            <a:ext cx="811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强忍              不利于健康。</a:t>
            </a:r>
            <a:r>
              <a:rPr b="0" lang="en-US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You are</a:t>
            </a:r>
            <a:r>
              <a:rPr b="0" lang="en-US" sz="1800" spc="-1" strike="noStrike">
                <a:solidFill>
                  <a:srgbClr val="ff6699"/>
                </a:solidFill>
                <a:latin typeface="微软雅黑"/>
                <a:ea typeface="微软雅黑"/>
              </a:rPr>
              <a:t> free</a:t>
            </a:r>
            <a:r>
              <a:rPr b="0" lang="en-US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 to let it ou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val 6"/>
          <p:cNvSpPr/>
          <p:nvPr/>
        </p:nvSpPr>
        <p:spPr>
          <a:xfrm>
            <a:off x="2976480" y="1428840"/>
            <a:ext cx="855720" cy="823680"/>
          </a:xfrm>
          <a:prstGeom prst="ellipse">
            <a:avLst/>
          </a:prstGeom>
          <a:solidFill>
            <a:srgbClr val="ffff00">
              <a:alpha val="91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Calibri"/>
                <a:ea typeface="微软雅黑"/>
              </a:rPr>
              <a:t>眼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Oval 7"/>
          <p:cNvSpPr/>
          <p:nvPr/>
        </p:nvSpPr>
        <p:spPr>
          <a:xfrm>
            <a:off x="5654520" y="2695680"/>
            <a:ext cx="855720" cy="825480"/>
          </a:xfrm>
          <a:prstGeom prst="ellipse">
            <a:avLst/>
          </a:prstGeom>
          <a:solidFill>
            <a:srgbClr val="ffff00">
              <a:alpha val="91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Calibri"/>
                <a:ea typeface="微软雅黑"/>
              </a:rPr>
              <a:t>眼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Oval 8"/>
          <p:cNvSpPr/>
          <p:nvPr/>
        </p:nvSpPr>
        <p:spPr>
          <a:xfrm>
            <a:off x="3409920" y="4173480"/>
            <a:ext cx="855720" cy="824040"/>
          </a:xfrm>
          <a:prstGeom prst="ellipse">
            <a:avLst/>
          </a:prstGeom>
          <a:solidFill>
            <a:srgbClr val="ffff00">
              <a:alpha val="91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Calibri"/>
                <a:ea typeface="微软雅黑"/>
              </a:rPr>
              <a:t>眼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40">
                                  <p:stCondLst>
                                    <p:cond delay="3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0">
                                  <p:stCondLst>
                                    <p:cond delay="8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拥抱2"/>
          <p:cNvPicPr/>
          <p:nvPr/>
        </p:nvPicPr>
        <p:blipFill>
          <a:blip r:embed="rId1"/>
          <a:stretch/>
        </p:blipFill>
        <p:spPr>
          <a:xfrm>
            <a:off x="4284720" y="2606760"/>
            <a:ext cx="2104920" cy="1809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拥抱"/>
          <p:cNvPicPr/>
          <p:nvPr/>
        </p:nvPicPr>
        <p:blipFill>
          <a:blip r:embed="rId2"/>
          <a:stretch/>
        </p:blipFill>
        <p:spPr>
          <a:xfrm>
            <a:off x="1612800" y="2987640"/>
            <a:ext cx="1959120" cy="1968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拥抱"/>
          <p:cNvPicPr/>
          <p:nvPr/>
        </p:nvPicPr>
        <p:blipFill>
          <a:blip r:embed="rId3"/>
          <a:stretch/>
        </p:blipFill>
        <p:spPr>
          <a:xfrm>
            <a:off x="1297080" y="4500720"/>
            <a:ext cx="1958760" cy="1968480"/>
          </a:xfrm>
          <a:prstGeom prst="rect">
            <a:avLst/>
          </a:prstGeom>
          <a:ln w="0">
            <a:noFill/>
          </a:ln>
        </p:spPr>
      </p:pic>
      <p:sp>
        <p:nvSpPr>
          <p:cNvPr id="114" name="Oval 5"/>
          <p:cNvSpPr/>
          <p:nvPr/>
        </p:nvSpPr>
        <p:spPr>
          <a:xfrm>
            <a:off x="2795760" y="3314880"/>
            <a:ext cx="2273040" cy="2259000"/>
          </a:xfrm>
          <a:prstGeom prst="ellipse">
            <a:avLst/>
          </a:prstGeom>
          <a:solidFill>
            <a:srgbClr val="ffff00">
              <a:alpha val="91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Calibri"/>
                <a:ea typeface="微软雅黑"/>
              </a:rPr>
              <a:t>拥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Microsoft Sans Serif"/>
              </a:rPr>
              <a:t>Hu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6" descr="拥抱"/>
          <p:cNvPicPr/>
          <p:nvPr/>
        </p:nvPicPr>
        <p:blipFill>
          <a:blip r:embed="rId4"/>
          <a:stretch/>
        </p:blipFill>
        <p:spPr>
          <a:xfrm>
            <a:off x="396720" y="2865600"/>
            <a:ext cx="1959120" cy="19684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拥抱"/>
          <p:cNvPicPr/>
          <p:nvPr/>
        </p:nvPicPr>
        <p:blipFill>
          <a:blip r:embed="rId5"/>
          <a:stretch/>
        </p:blipFill>
        <p:spPr>
          <a:xfrm>
            <a:off x="6496200" y="3181320"/>
            <a:ext cx="1958760" cy="19684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拥抱"/>
          <p:cNvPicPr/>
          <p:nvPr/>
        </p:nvPicPr>
        <p:blipFill>
          <a:blip r:embed="rId6"/>
          <a:stretch/>
        </p:blipFill>
        <p:spPr>
          <a:xfrm>
            <a:off x="7315200" y="1733400"/>
            <a:ext cx="1959120" cy="1968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拥抱"/>
          <p:cNvPicPr/>
          <p:nvPr/>
        </p:nvPicPr>
        <p:blipFill>
          <a:blip r:embed="rId7"/>
          <a:stretch/>
        </p:blipFill>
        <p:spPr>
          <a:xfrm>
            <a:off x="5775480" y="1771560"/>
            <a:ext cx="1958760" cy="1968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拥抱"/>
          <p:cNvPicPr/>
          <p:nvPr/>
        </p:nvPicPr>
        <p:blipFill>
          <a:blip r:embed="rId8"/>
          <a:stretch/>
        </p:blipFill>
        <p:spPr>
          <a:xfrm>
            <a:off x="3389400" y="1770120"/>
            <a:ext cx="1958760" cy="1968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拥抱"/>
          <p:cNvPicPr/>
          <p:nvPr/>
        </p:nvPicPr>
        <p:blipFill>
          <a:blip r:embed="rId9"/>
          <a:stretch/>
        </p:blipFill>
        <p:spPr>
          <a:xfrm>
            <a:off x="4184640" y="4395960"/>
            <a:ext cx="1959120" cy="1968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拥抱"/>
          <p:cNvPicPr/>
          <p:nvPr/>
        </p:nvPicPr>
        <p:blipFill>
          <a:blip r:embed="rId10"/>
          <a:stretch/>
        </p:blipFill>
        <p:spPr>
          <a:xfrm>
            <a:off x="9610560" y="4029120"/>
            <a:ext cx="1959120" cy="19684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3" descr="拥抱2"/>
          <p:cNvPicPr/>
          <p:nvPr/>
        </p:nvPicPr>
        <p:blipFill>
          <a:blip r:embed="rId11"/>
          <a:stretch/>
        </p:blipFill>
        <p:spPr>
          <a:xfrm>
            <a:off x="1785960" y="2014560"/>
            <a:ext cx="2104920" cy="1809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拥抱2"/>
          <p:cNvPicPr/>
          <p:nvPr/>
        </p:nvPicPr>
        <p:blipFill>
          <a:blip r:embed="rId12"/>
          <a:stretch/>
        </p:blipFill>
        <p:spPr>
          <a:xfrm>
            <a:off x="5035680" y="3822840"/>
            <a:ext cx="2104920" cy="1809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5" descr="拥抱2"/>
          <p:cNvPicPr/>
          <p:nvPr/>
        </p:nvPicPr>
        <p:blipFill>
          <a:blip r:embed="rId13"/>
          <a:stretch/>
        </p:blipFill>
        <p:spPr>
          <a:xfrm>
            <a:off x="66600" y="3956040"/>
            <a:ext cx="2105280" cy="1809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6" descr="拥抱2"/>
          <p:cNvPicPr/>
          <p:nvPr/>
        </p:nvPicPr>
        <p:blipFill>
          <a:blip r:embed="rId14"/>
          <a:stretch/>
        </p:blipFill>
        <p:spPr>
          <a:xfrm>
            <a:off x="7959600" y="3462480"/>
            <a:ext cx="2105280" cy="1809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7" descr="拥抱2"/>
          <p:cNvPicPr/>
          <p:nvPr/>
        </p:nvPicPr>
        <p:blipFill>
          <a:blip r:embed="rId15"/>
          <a:stretch/>
        </p:blipFill>
        <p:spPr>
          <a:xfrm>
            <a:off x="9987120" y="3086280"/>
            <a:ext cx="2104920" cy="1809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8" descr="拥抱2"/>
          <p:cNvPicPr/>
          <p:nvPr/>
        </p:nvPicPr>
        <p:blipFill>
          <a:blip r:embed="rId16"/>
          <a:stretch/>
        </p:blipFill>
        <p:spPr>
          <a:xfrm>
            <a:off x="10933200" y="4708440"/>
            <a:ext cx="2104920" cy="1809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9" descr="拥抱2"/>
          <p:cNvPicPr/>
          <p:nvPr/>
        </p:nvPicPr>
        <p:blipFill>
          <a:blip r:embed="rId17"/>
          <a:stretch/>
        </p:blipFill>
        <p:spPr>
          <a:xfrm>
            <a:off x="-1263600" y="3102120"/>
            <a:ext cx="209880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内容2"/>
          <p:cNvPicPr/>
          <p:nvPr/>
        </p:nvPicPr>
        <p:blipFill>
          <a:blip r:embed="rId1"/>
          <a:stretch/>
        </p:blipFill>
        <p:spPr>
          <a:xfrm>
            <a:off x="0" y="1440"/>
            <a:ext cx="12192120" cy="6855120"/>
          </a:xfrm>
          <a:prstGeom prst="rect">
            <a:avLst/>
          </a:prstGeom>
          <a:ln w="0">
            <a:noFill/>
          </a:ln>
        </p:spPr>
      </p:pic>
      <p:sp>
        <p:nvSpPr>
          <p:cNvPr id="130" name="Oval 3"/>
          <p:cNvSpPr/>
          <p:nvPr/>
        </p:nvSpPr>
        <p:spPr>
          <a:xfrm>
            <a:off x="5918040" y="1308240"/>
            <a:ext cx="854280" cy="823680"/>
          </a:xfrm>
          <a:prstGeom prst="ellipse">
            <a:avLst/>
          </a:prstGeom>
          <a:solidFill>
            <a:srgbClr val="ffff00">
              <a:alpha val="91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Calibri"/>
                <a:ea typeface="微软雅黑"/>
              </a:rPr>
              <a:t>拥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2000160" y="1605600"/>
            <a:ext cx="852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美国心理学家赫洛德</a:t>
            </a:r>
            <a:r>
              <a:rPr b="0" lang="en-US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·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傅斯说：“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可以消除沮丧——能使体内免疫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统的效能上升；拥抱能为倦怠的躯体注入新能量，使你变得更年轻，更有活力。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Oval 5"/>
          <p:cNvSpPr/>
          <p:nvPr/>
        </p:nvSpPr>
        <p:spPr>
          <a:xfrm>
            <a:off x="4994280" y="3040200"/>
            <a:ext cx="855720" cy="825480"/>
          </a:xfrm>
          <a:prstGeom prst="ellipse">
            <a:avLst/>
          </a:prstGeom>
          <a:solidFill>
            <a:srgbClr val="ffff00">
              <a:alpha val="91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Calibri"/>
                <a:ea typeface="微软雅黑"/>
              </a:rPr>
              <a:t>拥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2014560" y="3309480"/>
            <a:ext cx="865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当生活欺骗了你，一个                就能给你重新注入力量，当他人对生活灰心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也请不要吝啬你的怀抱。</a:t>
            </a:r>
            <a:r>
              <a:rPr b="0" lang="en-US" sz="1800" spc="-1" strike="noStrike">
                <a:solidFill>
                  <a:srgbClr val="008000"/>
                </a:solidFill>
                <a:latin typeface="Microsoft Sans Serif"/>
                <a:ea typeface="微软雅黑"/>
              </a:rPr>
              <a:t>Believe it or not,a hug has magical </a:t>
            </a:r>
            <a:r>
              <a:rPr b="0" lang="en-US" sz="1800" spc="-1" strike="noStrike">
                <a:solidFill>
                  <a:srgbClr val="ff6699"/>
                </a:solidFill>
                <a:latin typeface="Microsoft Sans Serif"/>
                <a:ea typeface="微软雅黑"/>
              </a:rPr>
              <a:t>power</a:t>
            </a:r>
            <a:r>
              <a:rPr b="0" lang="en-US" sz="1800" spc="-1" strike="noStrike">
                <a:solidFill>
                  <a:srgbClr val="008000"/>
                </a:solidFill>
                <a:latin typeface="Microsoft Sans Serif"/>
                <a:ea typeface="微软雅黑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2075040" y="4962600"/>
            <a:ext cx="840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一个               又不花钱！</a:t>
            </a:r>
            <a:r>
              <a:rPr b="0" lang="en-US" sz="1800" spc="-1" strike="noStrike">
                <a:solidFill>
                  <a:srgbClr val="008000"/>
                </a:solidFill>
                <a:latin typeface="Microsoft Sans Serif"/>
                <a:ea typeface="微软雅黑"/>
              </a:rPr>
              <a:t>You are </a:t>
            </a:r>
            <a:r>
              <a:rPr b="0" lang="en-US" sz="1800" spc="-1" strike="noStrike">
                <a:solidFill>
                  <a:srgbClr val="ff6699"/>
                </a:solidFill>
                <a:latin typeface="Microsoft Sans Serif"/>
                <a:ea typeface="微软雅黑"/>
              </a:rPr>
              <a:t>free </a:t>
            </a:r>
            <a:r>
              <a:rPr b="0" lang="en-US" sz="1800" spc="-1" strike="noStrike">
                <a:solidFill>
                  <a:srgbClr val="008000"/>
                </a:solidFill>
                <a:latin typeface="Microsoft Sans Serif"/>
                <a:ea typeface="微软雅黑"/>
              </a:rPr>
              <a:t>to hug others for </a:t>
            </a:r>
            <a:r>
              <a:rPr b="0" lang="en-US" sz="1800" spc="-1" strike="noStrike">
                <a:solidFill>
                  <a:srgbClr val="ff6699"/>
                </a:solidFill>
                <a:latin typeface="Microsoft Sans Serif"/>
                <a:ea typeface="微软雅黑"/>
              </a:rPr>
              <a:t>free</a:t>
            </a:r>
            <a:r>
              <a:rPr b="0" lang="en-US" sz="1800" spc="-1" strike="noStrike">
                <a:solidFill>
                  <a:srgbClr val="008000"/>
                </a:solidFill>
                <a:latin typeface="Microsoft Sans Serif"/>
                <a:ea typeface="微软雅黑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Oval 8"/>
          <p:cNvSpPr/>
          <p:nvPr/>
        </p:nvSpPr>
        <p:spPr>
          <a:xfrm>
            <a:off x="3095640" y="4713120"/>
            <a:ext cx="853920" cy="825840"/>
          </a:xfrm>
          <a:prstGeom prst="ellipse">
            <a:avLst/>
          </a:prstGeom>
          <a:solidFill>
            <a:srgbClr val="ffff00">
              <a:alpha val="91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Calibri"/>
                <a:ea typeface="微软雅黑"/>
              </a:rPr>
              <a:t>拥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40">
                                  <p:stCondLst>
                                    <p:cond delay="4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40">
                                  <p:stCondLst>
                                    <p:cond delay="9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Oval 2"/>
          <p:cNvSpPr/>
          <p:nvPr/>
        </p:nvSpPr>
        <p:spPr>
          <a:xfrm>
            <a:off x="2795760" y="3314880"/>
            <a:ext cx="2273040" cy="2259000"/>
          </a:xfrm>
          <a:prstGeom prst="ellipse">
            <a:avLst/>
          </a:prstGeom>
          <a:solidFill>
            <a:srgbClr val="ffff00">
              <a:alpha val="91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Calibri"/>
                <a:ea typeface="微软雅黑"/>
              </a:rPr>
              <a:t>诗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Microsoft Sans Serif"/>
              </a:rPr>
              <a:t>Po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5437080" y="4510800"/>
            <a:ext cx="592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99"/>
                </a:solidFill>
                <a:latin typeface="Calibri"/>
              </a:rPr>
              <a:t>is simple,powerful and fre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4" descr="诗2"/>
          <p:cNvPicPr/>
          <p:nvPr/>
        </p:nvPicPr>
        <p:blipFill>
          <a:blip r:embed="rId1"/>
          <a:stretch/>
        </p:blipFill>
        <p:spPr>
          <a:xfrm>
            <a:off x="5769000" y="1738440"/>
            <a:ext cx="685800" cy="618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诗2"/>
          <p:cNvPicPr/>
          <p:nvPr/>
        </p:nvPicPr>
        <p:blipFill>
          <a:blip r:embed="rId2"/>
          <a:stretch/>
        </p:blipFill>
        <p:spPr>
          <a:xfrm>
            <a:off x="8010360" y="1281240"/>
            <a:ext cx="685800" cy="6188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诗2"/>
          <p:cNvPicPr/>
          <p:nvPr/>
        </p:nvPicPr>
        <p:blipFill>
          <a:blip r:embed="rId3"/>
          <a:stretch/>
        </p:blipFill>
        <p:spPr>
          <a:xfrm>
            <a:off x="1693800" y="1146240"/>
            <a:ext cx="685800" cy="619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诗2"/>
          <p:cNvPicPr/>
          <p:nvPr/>
        </p:nvPicPr>
        <p:blipFill>
          <a:blip r:embed="rId4"/>
          <a:stretch/>
        </p:blipFill>
        <p:spPr>
          <a:xfrm>
            <a:off x="7605720" y="3755880"/>
            <a:ext cx="685800" cy="619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诗2"/>
          <p:cNvPicPr/>
          <p:nvPr/>
        </p:nvPicPr>
        <p:blipFill>
          <a:blip r:embed="rId5"/>
          <a:stretch/>
        </p:blipFill>
        <p:spPr>
          <a:xfrm>
            <a:off x="2865600" y="2674800"/>
            <a:ext cx="685800" cy="619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诗2"/>
          <p:cNvPicPr/>
          <p:nvPr/>
        </p:nvPicPr>
        <p:blipFill>
          <a:blip r:embed="rId6"/>
          <a:stretch/>
        </p:blipFill>
        <p:spPr>
          <a:xfrm>
            <a:off x="10426680" y="469800"/>
            <a:ext cx="685800" cy="619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诗2"/>
          <p:cNvPicPr/>
          <p:nvPr/>
        </p:nvPicPr>
        <p:blipFill>
          <a:blip r:embed="rId7"/>
          <a:stretch/>
        </p:blipFill>
        <p:spPr>
          <a:xfrm>
            <a:off x="733320" y="4476600"/>
            <a:ext cx="685800" cy="6192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1" descr="诗2"/>
          <p:cNvPicPr/>
          <p:nvPr/>
        </p:nvPicPr>
        <p:blipFill>
          <a:blip r:embed="rId8"/>
          <a:stretch/>
        </p:blipFill>
        <p:spPr>
          <a:xfrm>
            <a:off x="2833560" y="-351000"/>
            <a:ext cx="685800" cy="6145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诗2"/>
          <p:cNvPicPr/>
          <p:nvPr/>
        </p:nvPicPr>
        <p:blipFill>
          <a:blip r:embed="rId9"/>
          <a:stretch/>
        </p:blipFill>
        <p:spPr>
          <a:xfrm>
            <a:off x="11147400" y="3395520"/>
            <a:ext cx="685800" cy="6192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3" descr="诗2"/>
          <p:cNvPicPr/>
          <p:nvPr/>
        </p:nvPicPr>
        <p:blipFill>
          <a:blip r:embed="rId10"/>
          <a:stretch/>
        </p:blipFill>
        <p:spPr>
          <a:xfrm>
            <a:off x="4664160" y="6458040"/>
            <a:ext cx="685800" cy="6192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4" descr="诗2"/>
          <p:cNvPicPr/>
          <p:nvPr/>
        </p:nvPicPr>
        <p:blipFill>
          <a:blip r:embed="rId11"/>
          <a:stretch/>
        </p:blipFill>
        <p:spPr>
          <a:xfrm>
            <a:off x="9331200" y="4987800"/>
            <a:ext cx="685800" cy="6192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5" descr="诗2"/>
          <p:cNvPicPr/>
          <p:nvPr/>
        </p:nvPicPr>
        <p:blipFill>
          <a:blip r:embed="rId12"/>
          <a:stretch/>
        </p:blipFill>
        <p:spPr>
          <a:xfrm>
            <a:off x="10877400" y="6427800"/>
            <a:ext cx="685800" cy="6192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6" descr="诗2"/>
          <p:cNvPicPr/>
          <p:nvPr/>
        </p:nvPicPr>
        <p:blipFill>
          <a:blip r:embed="rId13"/>
          <a:stretch/>
        </p:blipFill>
        <p:spPr>
          <a:xfrm>
            <a:off x="-208080" y="349200"/>
            <a:ext cx="681120" cy="619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7" descr="诗2"/>
          <p:cNvPicPr/>
          <p:nvPr/>
        </p:nvPicPr>
        <p:blipFill>
          <a:blip r:embed="rId14"/>
          <a:stretch/>
        </p:blipFill>
        <p:spPr>
          <a:xfrm>
            <a:off x="1482840" y="6427800"/>
            <a:ext cx="685800" cy="619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诗2"/>
          <p:cNvPicPr/>
          <p:nvPr/>
        </p:nvPicPr>
        <p:blipFill>
          <a:blip r:embed="rId15"/>
          <a:stretch/>
        </p:blipFill>
        <p:spPr>
          <a:xfrm>
            <a:off x="6735600" y="-169920"/>
            <a:ext cx="685800" cy="6145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9" descr="诗2"/>
          <p:cNvPicPr/>
          <p:nvPr/>
        </p:nvPicPr>
        <p:blipFill>
          <a:blip r:embed="rId16"/>
          <a:stretch/>
        </p:blipFill>
        <p:spPr>
          <a:xfrm>
            <a:off x="6675480" y="5527800"/>
            <a:ext cx="685800" cy="618840"/>
          </a:xfrm>
          <a:prstGeom prst="rect">
            <a:avLst/>
          </a:prstGeom>
          <a:ln w="0">
            <a:noFill/>
          </a:ln>
        </p:spPr>
      </p:pic>
      <p:sp>
        <p:nvSpPr>
          <p:cNvPr id="154" name="曲线 235"/>
          <p:cNvSpPr/>
          <p:nvPr/>
        </p:nvSpPr>
        <p:spPr>
          <a:xfrm>
            <a:off x="3424320" y="6480"/>
            <a:ext cx="636480" cy="3301920"/>
          </a:xfrm>
          <a:custGeom>
            <a:avLst/>
            <a:gdLst>
              <a:gd name="textAreaLeft" fmla="*/ 0 w 636480"/>
              <a:gd name="textAreaRight" fmla="*/ 636840 w 636480"/>
              <a:gd name="textAreaTop" fmla="*/ 0 h 3301920"/>
              <a:gd name="textAreaBottom" fmla="*/ 3302280 h 3301920"/>
            </a:gdLst>
            <a:ahLst/>
            <a:rect l="textAreaLeft" t="textAreaTop" r="textAreaRight" b="textAreaBottom"/>
            <a:pathLst>
              <a:path w="21600" h="21600">
                <a:moveTo>
                  <a:pt x="9143" y="0"/>
                </a:moveTo>
                <a:cubicBezTo>
                  <a:pt x="8046" y="407"/>
                  <a:pt x="3807" y="1371"/>
                  <a:pt x="2538" y="2451"/>
                </a:cubicBezTo>
                <a:cubicBezTo>
                  <a:pt x="1269" y="3531"/>
                  <a:pt x="0" y="5363"/>
                  <a:pt x="1527" y="6477"/>
                </a:cubicBezTo>
                <a:cubicBezTo>
                  <a:pt x="3054" y="7590"/>
                  <a:pt x="8476" y="8064"/>
                  <a:pt x="11703" y="9127"/>
                </a:cubicBezTo>
                <a:cubicBezTo>
                  <a:pt x="14930" y="10191"/>
                  <a:pt x="20094" y="11616"/>
                  <a:pt x="20847" y="12858"/>
                </a:cubicBezTo>
                <a:cubicBezTo>
                  <a:pt x="21600" y="14100"/>
                  <a:pt x="17964" y="15426"/>
                  <a:pt x="16264" y="16589"/>
                </a:cubicBezTo>
                <a:cubicBezTo>
                  <a:pt x="14564" y="17752"/>
                  <a:pt x="11187" y="18995"/>
                  <a:pt x="10670" y="19830"/>
                </a:cubicBezTo>
                <a:cubicBezTo>
                  <a:pt x="10154" y="20665"/>
                  <a:pt x="12779" y="21305"/>
                  <a:pt x="13209" y="21600"/>
                </a:cubicBezTo>
              </a:path>
            </a:pathLst>
          </a:custGeom>
          <a:noFill/>
          <a:ln w="0">
            <a:solidFill>
              <a:srgbClr val="6633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6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3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3:04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