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08F0-FF08-474C-97DE-093780AEA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9B22-9A25-45BD-BF64-9E2ED2B96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CDB8-8AC5-4E21-A696-AD6152DB9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1A54-687E-4071-9580-AAB96D945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6D04-3771-4C69-BBAA-5389C6C54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FA18-D940-44A5-B3BA-DF6886296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5450-1450-4F96-A659-51FF259F7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4101-7FF7-4A2D-A5DD-30D6B0656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83C4-9EA8-4D64-89A3-84C707D6C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503D-FCE2-47DC-B383-D30BF9E76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C52A-75E6-47B9-8E68-730AAC5D9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7875-CD5F-46F3-AA8F-3D26FCD8E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" name="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" name=""/>
          <p:cNvSpPr/>
          <p:nvPr/>
        </p:nvSpPr>
        <p:spPr>
          <a:xfrm>
            <a:off x="1217520" y="-12600"/>
            <a:ext cx="7931160" cy="688824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cc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0AC8-14CF-4EAB-848C-FF4A3CD440B6}" type="slidenum">
              <a:rPr b="1" lang="en-US" sz="1400" spc="-1" strike="noStrike">
                <a:solidFill>
                  <a:srgbClr val="00cc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240" y="1589040"/>
            <a:ext cx="91519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1174680"/>
            <a:ext cx="915336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17640"/>
            <a:ext cx="9158400" cy="20480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6" name="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cc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-4320" y="4771800"/>
            <a:ext cx="915192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-6120" y="4822560"/>
            <a:ext cx="91537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666699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紧急手术幻灯片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24000" y="566064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0" name="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99"/>
              </a:gs>
              <a:gs pos="100000">
                <a:srgbClr val="575783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1" name="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2" name="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83af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3" name="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af57db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006000" y="1474920"/>
            <a:ext cx="4678560" cy="46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44" y="2059"/>
                </a:moveTo>
                <a:arcTo wR="10800" hR="10800" stAng="-3241733" swAng="4321594"/>
                <a:lnTo>
                  <a:pt x="10800" y="10800"/>
                </a:lnTo>
                <a:close/>
              </a:path>
              <a:path fill="none" w="21600" h="21600">
                <a:moveTo>
                  <a:pt x="17144" y="2059"/>
                </a:moveTo>
                <a:arcTo wR="10800" hR="10800" stAng="-3241733" swAng="4321594"/>
              </a:path>
            </a:pathLst>
          </a:custGeom>
          <a:gradFill rotWithShape="0">
            <a:gsLst>
              <a:gs pos="0">
                <a:srgbClr val="00090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7" name=""/>
          <p:cNvSpPr/>
          <p:nvPr/>
        </p:nvSpPr>
        <p:spPr>
          <a:xfrm>
            <a:off x="2777040" y="1360440"/>
            <a:ext cx="468000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54" y="2061"/>
                </a:moveTo>
                <a:arcTo wR="10800" hR="10800" stAng="-7559284" swAng="4316764"/>
                <a:lnTo>
                  <a:pt x="10800" y="10800"/>
                </a:lnTo>
                <a:close/>
              </a:path>
              <a:path fill="none" w="21600" h="21600">
                <a:moveTo>
                  <a:pt x="4454" y="2061"/>
                </a:moveTo>
                <a:arcTo wR="10800" hR="10800" stAng="-7559284" swAng="4316764"/>
              </a:path>
            </a:pathLst>
          </a:custGeom>
          <a:gradFill rotWithShape="0">
            <a:gsLst>
              <a:gs pos="0">
                <a:srgbClr val="0c060f"/>
              </a:gs>
              <a:gs pos="100000">
                <a:srgbClr val="cc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510200"/>
            <a:ext cx="4682520" cy="463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7" y="14134"/>
                </a:moveTo>
                <a:arcTo wR="10800" hR="10800" stAng="9721189" swAng="4317465"/>
                <a:lnTo>
                  <a:pt x="10800" y="10800"/>
                </a:lnTo>
                <a:close/>
              </a:path>
              <a:path fill="none" w="21600" h="21600">
                <a:moveTo>
                  <a:pt x="527" y="14134"/>
                </a:moveTo>
                <a:arcTo wR="10800" hR="10800" stAng="9721189" swAng="4317465"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0c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9" name=""/>
          <p:cNvSpPr/>
          <p:nvPr/>
        </p:nvSpPr>
        <p:spPr>
          <a:xfrm>
            <a:off x="2643840" y="1687680"/>
            <a:ext cx="468468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31" swAng="4321432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31" swAng="4321432"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606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2912040" y="1687680"/>
            <a:ext cx="468216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74" y="14130"/>
                </a:moveTo>
                <a:arcTo wR="10800" hR="10800" stAng="1077384" swAng="4322616"/>
                <a:lnTo>
                  <a:pt x="10800" y="10800"/>
                </a:lnTo>
                <a:close/>
              </a:path>
              <a:path fill="none" w="21600" h="21600">
                <a:moveTo>
                  <a:pt x="21074" y="14130"/>
                </a:moveTo>
                <a:arcTo wR="10800" hR="10800" stAng="1077384" swAng="4322616"/>
              </a:path>
            </a:pathLst>
          </a:custGeom>
          <a:gradFill rotWithShape="0">
            <a:gsLst>
              <a:gs pos="0">
                <a:srgbClr val="0a0f05"/>
              </a:gs>
              <a:gs pos="100000">
                <a:srgbClr val="a3f25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2" name="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3" name="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4" name="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5" name="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6" name="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7" name="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99cc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0" name="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25f"/>
              </a:gs>
              <a:gs pos="100000">
                <a:srgbClr val="91d854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1" name="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2" name="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3" name="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99"/>
              </a:gs>
              <a:gs pos="100000">
                <a:srgbClr val="575783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4" name="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bb6da"/>
              </a:gs>
              <a:gs pos="100000">
                <a:srgbClr val="0099cc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5" name="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93fe"/>
              </a:gs>
              <a:gs pos="100000">
                <a:srgbClr val="cc66ff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6" name="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4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7" name="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8" name="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42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9" name="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2" name="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a3f25f"/>
          </a:solidFill>
          <a:ln w="12600">
            <a:solidFill>
              <a:srgbClr val="a3f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4" name="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5" name="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6" name="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cc66ff"/>
          </a:solidFill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7" name="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a3f25f"/>
          </a:solidFill>
          <a:ln w="12600">
            <a:solidFill>
              <a:srgbClr val="a3f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8" name="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9" name="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0" name="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1" name="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cc66ff"/>
          </a:solidFill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2" name="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3" name="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2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6" name="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A459-6F1F-4564-8FFE-6C2A52F87D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Thank You 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153753" dir="27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trategy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Challenges Forward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14c"/>
              </a:gs>
              <a:gs pos="50000">
                <a:srgbClr val="878fa5"/>
              </a:gs>
              <a:gs pos="100000">
                <a:srgbClr val="3e414c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Conclusion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7" name="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You may want to allocate one slide per competitor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Your strengths relative to competitors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Your weaknesses relative to competitor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</a:rPr>
              <a:t>[Image information in product]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You may not extract the image for any other use.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1d1d1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f7f4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00cc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0c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0c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11"/>
            </a:avLst>
          </a:prstGeom>
          <a:gradFill rotWithShape="0">
            <a:gsLst>
              <a:gs pos="0">
                <a:srgbClr val="878fa5"/>
              </a:gs>
              <a:gs pos="100000">
                <a:srgbClr val="0808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28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4" name="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5" name="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5124240" y="-2988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666699"/>
              </a:gs>
              <a:gs pos="100000">
                <a:srgbClr val="5151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99cc"/>
              </a:gs>
              <a:gs pos="100000">
                <a:srgbClr val="0083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f7ae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842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3" name="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3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60760" y="514836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5" name=""/>
          <p:cNvSpPr/>
          <p:nvPr/>
        </p:nvSpPr>
        <p:spPr>
          <a:xfrm>
            <a:off x="4460760" y="242244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6" name=""/>
          <p:cNvSpPr/>
          <p:nvPr/>
        </p:nvSpPr>
        <p:spPr>
          <a:xfrm>
            <a:off x="4460760" y="377352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793200" y="2130840"/>
            <a:ext cx="1023840" cy="3318120"/>
          </a:xfrm>
          <a:prstGeom prst="cube">
            <a:avLst>
              <a:gd name="adj" fmla="val 11666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2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89960" y="3508920"/>
            <a:ext cx="1030320" cy="3318120"/>
          </a:xfrm>
          <a:prstGeom prst="cube">
            <a:avLst>
              <a:gd name="adj" fmla="val 11666"/>
            </a:avLst>
          </a:prstGeo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3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66ff"/>
                </a:solidFill>
                <a:uFillTx/>
                <a:latin typeface="Gulim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666699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905400" y="3097800"/>
            <a:ext cx="3095640" cy="1741680"/>
          </a:xfrm>
          <a:prstGeom prst="cube">
            <a:avLst>
              <a:gd name="adj" fmla="val 1166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741760" y="3098160"/>
            <a:ext cx="3095640" cy="1741320"/>
          </a:xfrm>
          <a:prstGeom prst="cube">
            <a:avLst>
              <a:gd name="adj" fmla="val 1166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2" name="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3" name="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6" name="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7" name="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8" name="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9" name="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db1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1" name="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7a9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1a1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3" name="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7a9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2:2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