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44AB-E647-4C4E-8AAF-B93C98FD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04F-3272-4267-AFBF-4359BFE2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B04-13CA-4223-A05A-7DEAD2D7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6DC-60DD-47A4-9CA8-66919062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41A2-C4D1-4CE1-99F8-9C0975670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5FD0-DFBF-48A2-9F3B-E7D72164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EC48-EEBC-4D12-801C-8546773E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A9FC-CBB2-4F04-B7A4-1ED34D59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89EF-42C3-4F04-930D-3B1FDEE4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7CFD-44FF-46D5-BEDA-BCA5602A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A5E2-CD45-48A1-ABB4-1D9ABA10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F0F-1204-4943-8A4A-9A4E2834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B3FD-9870-47B1-AD6B-064AA6B9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0F09-53EF-48A6-9476-C278B728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16F-70ED-423E-9A76-88C7EEA8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2AE0-47D5-4CC0-B04C-46E029E4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43434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45424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0DCB-23E4-4FD1-A1D2-69977F89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CEF-0604-4ED3-9387-3333C402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237-EB1F-4D69-BFD9-4F7861DB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898-67AD-4185-BD22-0E2FCA0D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380952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BC7-7167-446B-89A4-90754F7A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76C-7F68-4FC7-B3B5-2F8954C5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5424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769-075C-42E2-9FD3-E6095B8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43434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5424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DAE-EBD5-4DA3-BB7F-606F5CF6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42EE-FC2F-44C3-80EB-59C89BBA6A6D}" type="slidenum">
              <a:rPr b="1" lang="en-US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5AF-D7A4-4347-A813-B6B8D251ABC7}" type="slidenum">
              <a:rPr b="0" lang="en-US" sz="1000" spc="-1" strike="noStrike">
                <a:solidFill>
                  <a:srgbClr val="80808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Franklin Gothic Medium"/>
              </a:rPr>
              <a:t>Melancholy Abstract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Your Subtitle Goes Here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4560" y="4572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简洁唯美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Your Topic Goes Here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52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Your subtopic goes her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Franklin Gothic Medium"/>
              </a:rPr>
              <a:t>Transitional Page</a:t>
            </a:r>
            <a:endParaRPr b="1" lang="en-US" sz="40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Your Topic Goes Here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52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Your subtopic goes her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Franklin Gothic Medium"/>
              </a:rPr>
              <a:t>使用规范说明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70E-3EF1-439E-B601-B2D00F18C8EF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952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Medium"/>
              </a:rPr>
              <a:t>Elements</a:t>
            </a:r>
            <a:endParaRPr b="1" lang="en-US" sz="4000" spc="-1" strike="noStrike">
              <a:solidFill>
                <a:srgbClr val="336699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95440" y="5105520"/>
            <a:ext cx="2109960" cy="1582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38600" y="5105520"/>
            <a:ext cx="2109960" cy="1582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80320" y="5105520"/>
            <a:ext cx="2111400" cy="158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2280" y="5105520"/>
            <a:ext cx="2111400" cy="1582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05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