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F79-B715-405D-8CBB-1BF47F69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207-5773-45C1-B1BD-60DA7974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41E-0F8A-4ADD-BB7A-8BCFAE9B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252-C193-471A-9C50-79F9295C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D16-0713-4E05-912B-6F403320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C45-57C2-4AC8-849F-1D6B1632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171-64F2-4E8A-A30D-9BF4A396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AC6-AAD3-4D53-BAFB-EC9EB1A1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5D2-A153-4D16-ACA7-5893109A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71-9CA2-4E6C-9084-3BE2B78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E58-593A-49BB-AF2E-15DED876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AD5-94C3-44B5-A36F-0E54338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5249-1CCC-4A5E-B7A4-958EF71440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6B51-80EF-4FE1-9D3A-F943B23156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32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86612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1480" y="1522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精美创意的欧美风商务背景幻灯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669960" y="1130400"/>
            <a:ext cx="8474040" cy="2314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223920" y="4287960"/>
            <a:ext cx="163440" cy="36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425520" y="4595760"/>
            <a:ext cx="54000" cy="540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919080" y="2238480"/>
            <a:ext cx="966960" cy="101520"/>
          </a:xfrm>
          <a:prstGeom prst="pie">
            <a:avLst/>
          </a:prstGeom>
          <a:noFill/>
          <a:ln w="5076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4743360" y="1469880"/>
            <a:ext cx="114480" cy="11268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4687920" y="1414440"/>
            <a:ext cx="169920" cy="16668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4954680" y="1469880"/>
            <a:ext cx="112680" cy="11268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954680" y="1414440"/>
            <a:ext cx="166680" cy="16668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216000" y="35812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3"/>
          <a:stretch/>
        </p:blipFill>
        <p:spPr>
          <a:xfrm>
            <a:off x="203040" y="4952880"/>
            <a:ext cx="2923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4"/>
          <a:stretch/>
        </p:blipFill>
        <p:spPr>
          <a:xfrm>
            <a:off x="216000" y="5651640"/>
            <a:ext cx="279360" cy="393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5"/>
          <a:stretch/>
        </p:blipFill>
        <p:spPr>
          <a:xfrm>
            <a:off x="914400" y="330120"/>
            <a:ext cx="4254480" cy="1803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6"/>
          <a:stretch/>
        </p:blipFill>
        <p:spPr>
          <a:xfrm>
            <a:off x="660240" y="2349360"/>
            <a:ext cx="8483760" cy="4508640"/>
          </a:xfrm>
          <a:prstGeom prst="rect">
            <a:avLst/>
          </a:prstGeom>
          <a:ln w="0">
            <a:noFill/>
          </a:ln>
        </p:spPr>
      </p:pic>
      <p:sp>
        <p:nvSpPr>
          <p:cNvPr id="298" name="矩形 34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FAD-2D7D-4C38-93D5-1577DF858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3657600" y="328680"/>
            <a:ext cx="5079960" cy="274788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223920" y="4287960"/>
            <a:ext cx="163440" cy="36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425520" y="4595760"/>
            <a:ext cx="54000" cy="540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3368520" y="2438280"/>
            <a:ext cx="892440" cy="82548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7719840" y="1668600"/>
            <a:ext cx="441360" cy="39816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7851600" y="1668600"/>
            <a:ext cx="177840" cy="1584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3"/>
          <p:cNvSpPr/>
          <p:nvPr/>
        </p:nvSpPr>
        <p:spPr>
          <a:xfrm>
            <a:off x="7719840" y="1757520"/>
            <a:ext cx="441360" cy="1404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7843680" y="1832040"/>
            <a:ext cx="52560" cy="16200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7843680" y="1979640"/>
            <a:ext cx="88920" cy="1440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7940520" y="1832040"/>
            <a:ext cx="103320" cy="16200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7959600" y="1905120"/>
            <a:ext cx="71640" cy="14040"/>
          </a:xfrm>
          <a:prstGeom prst="pie">
            <a:avLst/>
          </a:prstGeom>
          <a:solidFill>
            <a:srgbClr val="332f2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216000" y="35812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203040" y="4952880"/>
            <a:ext cx="292320" cy="406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216000" y="5651640"/>
            <a:ext cx="279360" cy="393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5"/>
          <a:stretch/>
        </p:blipFill>
        <p:spPr>
          <a:xfrm>
            <a:off x="127080" y="6337440"/>
            <a:ext cx="444600" cy="3934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6"/>
          <a:stretch/>
        </p:blipFill>
        <p:spPr>
          <a:xfrm>
            <a:off x="4051440" y="457200"/>
            <a:ext cx="4495680" cy="2540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7"/>
          <a:stretch/>
        </p:blipFill>
        <p:spPr>
          <a:xfrm>
            <a:off x="660240" y="0"/>
            <a:ext cx="848376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矩形 38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0" y="0"/>
            <a:ext cx="687240" cy="6555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69960" y="0"/>
            <a:ext cx="8474040" cy="34671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5457960" y="2085840"/>
            <a:ext cx="36360" cy="38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5207040" cy="253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60240" y="1193760"/>
            <a:ext cx="8483760" cy="5664240"/>
          </a:xfrm>
          <a:prstGeom prst="rect">
            <a:avLst/>
          </a:prstGeom>
          <a:ln w="0">
            <a:noFill/>
          </a:ln>
        </p:spPr>
      </p:pic>
      <p:sp>
        <p:nvSpPr>
          <p:cNvPr id="63" name="矩形 18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69960" y="0"/>
            <a:ext cx="4178160" cy="68580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657360" y="650880"/>
            <a:ext cx="3232080" cy="188136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644400" y="638280"/>
            <a:ext cx="3257640" cy="19065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0" y="689040"/>
            <a:ext cx="676440" cy="65556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901800" y="0"/>
            <a:ext cx="82422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20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0" y="1378080"/>
            <a:ext cx="704880" cy="65700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669960" y="0"/>
            <a:ext cx="8474040" cy="34671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1069920" y="1797120"/>
            <a:ext cx="968400" cy="1062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692760" y="399960"/>
            <a:ext cx="635040" cy="577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066680" y="698400"/>
            <a:ext cx="6489720" cy="1117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079640" y="2070000"/>
            <a:ext cx="4686120" cy="2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079640" y="2438280"/>
            <a:ext cx="952200" cy="241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4"/>
          <a:stretch/>
        </p:blipFill>
        <p:spPr>
          <a:xfrm>
            <a:off x="660240" y="1181160"/>
            <a:ext cx="8483760" cy="5676840"/>
          </a:xfrm>
          <a:prstGeom prst="rect">
            <a:avLst/>
          </a:prstGeom>
          <a:ln w="0">
            <a:noFill/>
          </a:ln>
        </p:spPr>
      </p:pic>
      <p:sp>
        <p:nvSpPr>
          <p:cNvPr id="108" name="矩形 25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0" y="0"/>
            <a:ext cx="68724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0" y="1378080"/>
            <a:ext cx="7048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0" y="689040"/>
            <a:ext cx="7048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0" y="2066760"/>
            <a:ext cx="704880" cy="65736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669960" y="0"/>
            <a:ext cx="4178160" cy="68580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905040" y="3843360"/>
            <a:ext cx="965160" cy="10008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93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901800" y="0"/>
            <a:ext cx="82422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22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638280" y="0"/>
            <a:ext cx="2546280" cy="6858000"/>
          </a:xfrm>
          <a:prstGeom prst="pie">
            <a:avLst/>
          </a:prstGeom>
          <a:solidFill>
            <a:srgbClr val="f1f2f8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3476520" y="1393920"/>
            <a:ext cx="4559400" cy="152280"/>
          </a:xfrm>
          <a:prstGeom prst="pie">
            <a:avLst/>
          </a:prstGeom>
          <a:noFill/>
          <a:ln w="76320">
            <a:solidFill>
              <a:srgbClr val="eaed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3476520" y="1785960"/>
            <a:ext cx="4559400" cy="152280"/>
          </a:xfrm>
          <a:prstGeom prst="pie">
            <a:avLst/>
          </a:prstGeom>
          <a:noFill/>
          <a:ln w="76320">
            <a:solidFill>
              <a:srgbClr val="eaed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3476520" y="2179800"/>
            <a:ext cx="4559400" cy="152280"/>
          </a:xfrm>
          <a:prstGeom prst="pie">
            <a:avLst/>
          </a:prstGeom>
          <a:noFill/>
          <a:ln w="76320">
            <a:solidFill>
              <a:srgbClr val="eaed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3476520" y="2571840"/>
            <a:ext cx="4559400" cy="152280"/>
          </a:xfrm>
          <a:prstGeom prst="pie">
            <a:avLst/>
          </a:prstGeom>
          <a:noFill/>
          <a:ln w="76320">
            <a:solidFill>
              <a:srgbClr val="eaed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919080" y="3343320"/>
            <a:ext cx="966960" cy="101520"/>
          </a:xfrm>
          <a:prstGeom prst="pie">
            <a:avLst/>
          </a:prstGeom>
          <a:noFill/>
          <a:ln w="5076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796080" y="4976640"/>
            <a:ext cx="236520" cy="31932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939960" y="685800"/>
            <a:ext cx="1968480" cy="196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939960" y="3619440"/>
            <a:ext cx="1523880" cy="2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927000" y="3987720"/>
            <a:ext cx="1866960" cy="241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5"/>
          <a:stretch/>
        </p:blipFill>
        <p:spPr>
          <a:xfrm>
            <a:off x="939960" y="4343400"/>
            <a:ext cx="1803240" cy="25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6"/>
          <a:stretch/>
        </p:blipFill>
        <p:spPr>
          <a:xfrm>
            <a:off x="939960" y="4711680"/>
            <a:ext cx="186660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7"/>
          <a:stretch/>
        </p:blipFill>
        <p:spPr>
          <a:xfrm>
            <a:off x="927000" y="5130720"/>
            <a:ext cx="444600" cy="24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8"/>
          <a:stretch/>
        </p:blipFill>
        <p:spPr>
          <a:xfrm>
            <a:off x="3594240" y="3111480"/>
            <a:ext cx="4254480" cy="2540160"/>
          </a:xfrm>
          <a:prstGeom prst="rect">
            <a:avLst/>
          </a:prstGeom>
          <a:ln w="0">
            <a:noFill/>
          </a:ln>
        </p:spPr>
      </p:pic>
      <p:sp>
        <p:nvSpPr>
          <p:cNvPr id="165" name="矩形 35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676440" y="4543560"/>
            <a:ext cx="8467560" cy="2314440"/>
          </a:xfrm>
          <a:prstGeom prst="pie">
            <a:avLst/>
          </a:prstGeom>
          <a:solidFill>
            <a:srgbClr val="99b2d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6402240" y="5397480"/>
            <a:ext cx="77760" cy="77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6276960" y="5346720"/>
            <a:ext cx="403200" cy="504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16000" y="35812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1028880" y="4863960"/>
            <a:ext cx="5727600" cy="1803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60240" y="0"/>
            <a:ext cx="848376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27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671400" y="3444840"/>
            <a:ext cx="8472600" cy="272412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0" y="4133880"/>
            <a:ext cx="736560" cy="65736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0" y="482292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223920" y="4287960"/>
            <a:ext cx="163440" cy="36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425520" y="4595760"/>
            <a:ext cx="54000" cy="540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3832200" y="2759040"/>
            <a:ext cx="19080" cy="19080"/>
          </a:xfrm>
          <a:prstGeom prst="pie">
            <a:avLst/>
          </a:pr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16000" y="35812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3"/>
          <a:stretch/>
        </p:blipFill>
        <p:spPr>
          <a:xfrm>
            <a:off x="914400" y="851040"/>
            <a:ext cx="8229600" cy="5333760"/>
          </a:xfrm>
          <a:prstGeom prst="rect">
            <a:avLst/>
          </a:prstGeom>
          <a:ln w="0">
            <a:noFill/>
          </a:ln>
        </p:spPr>
      </p:pic>
      <p:sp>
        <p:nvSpPr>
          <p:cNvPr id="220" name="矩形 27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669960" y="0"/>
            <a:ext cx="8474040" cy="68580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0" y="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0" y="1378080"/>
            <a:ext cx="638280" cy="65700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0" y="275580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0" y="413388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0" y="6890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0" y="206676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0" y="3444840"/>
            <a:ext cx="638280" cy="6573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0" y="4822920"/>
            <a:ext cx="669960" cy="6570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0" y="551340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0" y="6202440"/>
            <a:ext cx="638280" cy="65556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255600" y="152280"/>
            <a:ext cx="10152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393840" y="460440"/>
            <a:ext cx="5544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217440" y="841320"/>
            <a:ext cx="177840" cy="3621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431640" y="1149480"/>
            <a:ext cx="55800" cy="554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17440" y="1527120"/>
            <a:ext cx="177840" cy="370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431640" y="1838160"/>
            <a:ext cx="55800" cy="558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220680" y="2908440"/>
            <a:ext cx="168120" cy="368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428760" y="3218040"/>
            <a:ext cx="54000" cy="5364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223920" y="4287960"/>
            <a:ext cx="163440" cy="361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25520" y="4595760"/>
            <a:ext cx="54000" cy="5400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4424400" y="2610000"/>
            <a:ext cx="966600" cy="10152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5608800" y="1563840"/>
            <a:ext cx="658800" cy="658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6637320" y="1563840"/>
            <a:ext cx="662040" cy="658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2514600" y="1563840"/>
            <a:ext cx="660240" cy="658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3551400" y="1563840"/>
            <a:ext cx="661680" cy="658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4603680" y="1563840"/>
            <a:ext cx="660600" cy="658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7037280" y="1768320"/>
            <a:ext cx="57240" cy="5904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6907320" y="1841400"/>
            <a:ext cx="118800" cy="11448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6832440" y="1865160"/>
            <a:ext cx="266760" cy="16992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2805120" y="1851120"/>
            <a:ext cx="157320" cy="1602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2720880" y="1779480"/>
            <a:ext cx="58680" cy="54000"/>
          </a:xfrm>
          <a:prstGeom prst="pie">
            <a:avLst/>
          </a:prstGeom>
          <a:solidFill>
            <a:srgbClr val="4472c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2724120" y="1854360"/>
            <a:ext cx="49320" cy="156960"/>
          </a:xfrm>
          <a:prstGeom prst="pie">
            <a:avLst/>
          </a:prstGeom>
          <a:noFill/>
          <a:ln w="381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203040" y="22096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216000" y="35812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3"/>
          <a:stretch/>
        </p:blipFill>
        <p:spPr>
          <a:xfrm>
            <a:off x="203040" y="4965840"/>
            <a:ext cx="292320" cy="393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4"/>
          <a:stretch/>
        </p:blipFill>
        <p:spPr>
          <a:xfrm>
            <a:off x="2527200" y="157464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5"/>
          <a:stretch/>
        </p:blipFill>
        <p:spPr>
          <a:xfrm>
            <a:off x="3556080" y="157464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6"/>
          <a:stretch/>
        </p:blipFill>
        <p:spPr>
          <a:xfrm>
            <a:off x="4610160" y="157464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7"/>
          <a:stretch/>
        </p:blipFill>
        <p:spPr>
          <a:xfrm>
            <a:off x="5613480" y="157464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8"/>
          <a:stretch/>
        </p:blipFill>
        <p:spPr>
          <a:xfrm>
            <a:off x="6642000" y="1574640"/>
            <a:ext cx="647640" cy="635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9"/>
          <a:stretch/>
        </p:blipFill>
        <p:spPr>
          <a:xfrm>
            <a:off x="2019240" y="2870280"/>
            <a:ext cx="6159600" cy="2539800"/>
          </a:xfrm>
          <a:prstGeom prst="rect">
            <a:avLst/>
          </a:prstGeom>
          <a:ln w="0">
            <a:noFill/>
          </a:ln>
        </p:spPr>
      </p:pic>
      <p:sp>
        <p:nvSpPr>
          <p:cNvPr id="264" name="矩形 44"/>
          <p:cNvSpPr/>
          <p:nvPr/>
        </p:nvSpPr>
        <p:spPr>
          <a:xfrm>
            <a:off x="527040" y="0"/>
            <a:ext cx="82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