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1FF-E9AA-4E18-8877-8FA99AE3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76760" y="370440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8F6-2398-4098-B4AA-9F5DD0AF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6520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596-F5BC-47C0-93FB-E40A99CD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32672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17704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47676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732672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17704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C45-9952-4E80-9D8C-18231B92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5F82-07E2-4274-9F3E-9574EA6E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DF82-D69C-4F36-AAE3-DEE4825A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CE2F-F797-460C-BC00-A12335C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BEE2-3D50-492E-AD18-F84488E8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9CB2-4296-481A-B374-DB387866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CAC0-80B9-42E5-929F-6251EB0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265E-A6B2-488B-8E70-C2A9849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028-7F08-4F1B-8368-73C99AF5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6520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78C7-4CDA-4C77-AD40-7BF82AB7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A145-FE43-4D96-BDB5-88CD9DB7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476760" y="370440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F21C-AC6E-4D5E-9BA6-3701B01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76520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C88F-7171-45DA-9F05-D333826C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32672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17704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47676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732672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17704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4A00-EDB4-4AEA-B5DE-B129825F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6A8-9AB5-4B6C-9E6D-FE63A49F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90E-3959-41EE-9E55-400FDB36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7ED-7A64-4F41-AE51-504ECA64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2CC-F281-47EC-A34B-EB976540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89F-582E-4948-AEB7-2399581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6520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7A8-2373-4DAA-A089-F84BD460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B9E-F984-4BDE-8105-02411DCC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1023840"/>
            <a:ext cx="9144000" cy="7776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44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1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F4A2-17A1-4C16-A1C6-D9F5740606F5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2887400">
            <a:off x="77040" y="357840"/>
            <a:ext cx="1298160" cy="13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19080">
            <a:solidFill>
              <a:srgbClr val="00b4b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5360" y="434880"/>
            <a:ext cx="1055880" cy="1173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457200"/>
            <a:ext cx="1179720" cy="1120680"/>
          </a:xfrm>
          <a:prstGeom prst="donut">
            <a:avLst>
              <a:gd name="adj" fmla="val 12884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3175800">
            <a:off x="144000" y="407880"/>
            <a:ext cx="1168560" cy="1212840"/>
          </a:xfrm>
          <a:prstGeom prst="blockArc">
            <a:avLst>
              <a:gd name="adj1" fmla="val 17510097"/>
              <a:gd name="adj2" fmla="val 14889903"/>
              <a:gd name="adj3" fmla="val 16231"/>
            </a:avLst>
          </a:prstGeom>
          <a:solidFill>
            <a:srgbClr val="008080"/>
          </a:solidFill>
          <a:ln w="0">
            <a:noFill/>
          </a:ln>
          <a:effectLst>
            <a:outerShdw dist="17819" dir="2700000" blurRad="0" rotWithShape="0">
              <a:srgbClr val="0044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4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6720"/>
            <a:ext cx="9144000" cy="9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44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2887400">
            <a:off x="2466000" y="1882080"/>
            <a:ext cx="4128120" cy="409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38160">
            <a:solidFill>
              <a:srgbClr val="00b4b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063880"/>
            <a:ext cx="3733920" cy="373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51040" y="2049480"/>
            <a:ext cx="3745080" cy="3735360"/>
          </a:xfrm>
          <a:prstGeom prst="donut">
            <a:avLst>
              <a:gd name="adj" fmla="val 12884"/>
            </a:avLst>
          </a:prstGeom>
          <a:solidFill>
            <a:srgbClr val="00b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175800">
            <a:off x="2644920" y="2033640"/>
            <a:ext cx="3760920" cy="3776400"/>
          </a:xfrm>
          <a:prstGeom prst="blockArc">
            <a:avLst>
              <a:gd name="adj1" fmla="val 18013252"/>
              <a:gd name="adj2" fmla="val 14386748"/>
              <a:gd name="adj3" fmla="val 15097"/>
            </a:avLst>
          </a:prstGeom>
          <a:gradFill rotWithShape="0">
            <a:gsLst>
              <a:gs pos="0">
                <a:srgbClr val="008080"/>
              </a:gs>
              <a:gs pos="100000">
                <a:srgbClr val="1e8e8e"/>
              </a:gs>
            </a:gsLst>
            <a:lin ang="7626000"/>
          </a:gradFill>
          <a:ln w="0">
            <a:noFill/>
          </a:ln>
          <a:effectLst>
            <a:outerShdw dist="17819" dir="2700000" blurRad="0" rotWithShape="0">
              <a:srgbClr val="0044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4648320" y="6476760"/>
            <a:ext cx="2666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792432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B851-7277-46C9-B51E-AED990FF1F49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5943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美耳科医疗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41" name=""/>
            <p:cNvSpPr/>
            <p:nvPr/>
          </p:nvSpPr>
          <p:spPr>
            <a:xfrm flipH="1" rot="16200000">
              <a:off x="2809440" y="3247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ea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5400000">
              <a:off x="5680440" y="31928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ea"/>
                </a:gs>
                <a:gs pos="100000">
                  <a:srgbClr val="ffffc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ea"/>
                </a:gs>
                <a:gs pos="100000">
                  <a:srgbClr val="ff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b4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00615e"/>
                </a:gs>
                <a:gs pos="50000">
                  <a:srgbClr val="00b4b0"/>
                </a:gs>
                <a:gs pos="100000">
                  <a:srgbClr val="0061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35b"/>
                </a:gs>
                <a:gs pos="50000">
                  <a:srgbClr val="6d6fc7"/>
                </a:gs>
                <a:gs pos="100000">
                  <a:srgbClr val="3233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35b"/>
                </a:gs>
                <a:gs pos="50000">
                  <a:srgbClr val="6d6fc7"/>
                </a:gs>
                <a:gs pos="100000">
                  <a:srgbClr val="3233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35b"/>
                </a:gs>
                <a:gs pos="50000">
                  <a:srgbClr val="6d6fc7"/>
                </a:gs>
                <a:gs pos="100000">
                  <a:srgbClr val="3233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2e2d"/>
                </a:gs>
                <a:gs pos="50000">
                  <a:srgbClr val="006462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2e2d"/>
                </a:gs>
                <a:gs pos="50000">
                  <a:srgbClr val="006462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2e2d"/>
                </a:gs>
                <a:gs pos="50000">
                  <a:srgbClr val="006462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335b"/>
                </a:gs>
                <a:gs pos="50000">
                  <a:srgbClr val="6d6fc7"/>
                </a:gs>
                <a:gs pos="100000">
                  <a:srgbClr val="32335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66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5238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solidFill>
            <a:srgbClr val="00808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b4b0"/>
              </a:gs>
              <a:gs pos="100000">
                <a:srgbClr val="00525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d6fc7"/>
              </a:gs>
              <a:gs pos="100000">
                <a:srgbClr val="32335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9132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宋体"/>
              </a:rPr>
              <a:t>– PowerPoint200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300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b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b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b4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b4b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00615e"/>
                </a:gs>
                <a:gs pos="50000">
                  <a:srgbClr val="00b4b0"/>
                </a:gs>
                <a:gs pos="100000">
                  <a:srgbClr val="0061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b4b0">
                    <a:alpha val="0"/>
                  </a:srgbClr>
                </a:gs>
                <a:gs pos="100000">
                  <a:srgbClr val="0071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26d00"/>
                </a:gs>
                <a:gs pos="50000">
                  <a:srgbClr val="99cc00"/>
                </a:gs>
                <a:gs pos="100000">
                  <a:srgbClr val="52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60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13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646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646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3534"/>
                </a:gs>
                <a:gs pos="50000">
                  <a:srgbClr val="006462"/>
                </a:gs>
                <a:gs pos="100000">
                  <a:srgbClr val="0035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6462">
                    <a:alpha val="0"/>
                  </a:srgbClr>
                </a:gs>
                <a:gs pos="100000">
                  <a:srgbClr val="003f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23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8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66680" y="1498680"/>
            <a:ext cx="7010280" cy="4521240"/>
            <a:chOff x="1066680" y="1498680"/>
            <a:chExt cx="7010280" cy="4521240"/>
          </a:xfrm>
        </p:grpSpPr>
        <p:sp>
          <p:nvSpPr>
            <p:cNvPr id="340" name=""/>
            <p:cNvSpPr/>
            <p:nvPr/>
          </p:nvSpPr>
          <p:spPr>
            <a:xfrm>
              <a:off x="106668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6462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6236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14520" y="3708360"/>
              <a:ext cx="1704960" cy="2028960"/>
              <a:chOff x="3314520" y="3708360"/>
              <a:chExt cx="1704960" cy="2028960"/>
            </a:xfrm>
          </p:grpSpPr>
          <p:sp>
            <p:nvSpPr>
              <p:cNvPr id="343" name=""/>
              <p:cNvSpPr/>
              <p:nvPr/>
            </p:nvSpPr>
            <p:spPr>
              <a:xfrm rot="20876400">
                <a:off x="3382920" y="49276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14520" y="37083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35040" y="37177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52680" y="37339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444840" y="37782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32120" y="43354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477800" y="3327480"/>
              <a:ext cx="1371240" cy="1718640"/>
              <a:chOff x="1477800" y="3327480"/>
              <a:chExt cx="1371240" cy="1718640"/>
            </a:xfrm>
          </p:grpSpPr>
          <p:sp>
            <p:nvSpPr>
              <p:cNvPr id="350" name=""/>
              <p:cNvSpPr/>
              <p:nvPr/>
            </p:nvSpPr>
            <p:spPr>
              <a:xfrm rot="20826600">
                <a:off x="1554120" y="43178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1477800" y="3327480"/>
                <a:ext cx="1371240" cy="1441080"/>
                <a:chOff x="1477800" y="3327480"/>
                <a:chExt cx="1371240" cy="1441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477800" y="33274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95800" y="33357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08760" y="33490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580400" y="33858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758240" y="38336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1218960" y="1955880"/>
              <a:ext cx="1100160" cy="1139760"/>
              <a:chOff x="1218960" y="1955880"/>
              <a:chExt cx="1100160" cy="1139760"/>
            </a:xfrm>
          </p:grpSpPr>
          <p:sp>
            <p:nvSpPr>
              <p:cNvPr id="358" name=""/>
              <p:cNvSpPr/>
              <p:nvPr/>
            </p:nvSpPr>
            <p:spPr>
              <a:xfrm>
                <a:off x="1218960" y="25624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295280" y="19558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07880" y="19605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319040" y="19717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73040" y="19972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92200" y="23050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2514600" y="1498680"/>
              <a:ext cx="804240" cy="762120"/>
              <a:chOff x="2514600" y="1498680"/>
              <a:chExt cx="804240" cy="762120"/>
            </a:xfrm>
          </p:grpSpPr>
          <p:sp>
            <p:nvSpPr>
              <p:cNvPr id="365" name=""/>
              <p:cNvSpPr/>
              <p:nvPr/>
            </p:nvSpPr>
            <p:spPr>
              <a:xfrm>
                <a:off x="2514600" y="203220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36640" y="149868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46000" y="15019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52480" y="150804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88840" y="15271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706840" y="17226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095840" y="1828800"/>
            <a:ext cx="7282440" cy="3770280"/>
            <a:chOff x="1095840" y="1828800"/>
            <a:chExt cx="7282440" cy="3770280"/>
          </a:xfrm>
        </p:grpSpPr>
        <p:sp>
          <p:nvSpPr>
            <p:cNvPr id="373" name=""/>
            <p:cNvSpPr/>
            <p:nvPr/>
          </p:nvSpPr>
          <p:spPr>
            <a:xfrm rot="17973000">
              <a:off x="490464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3465600">
              <a:off x="495504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4368800">
              <a:off x="373608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534800">
              <a:off x="369792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3716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0800000">
              <a:off x="312696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4796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9932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10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1372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932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958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3392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0504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1944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245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434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456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3896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880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b4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8296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b4b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9888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615e"/>
                </a:gs>
                <a:gs pos="50000">
                  <a:srgbClr val="00b4b0"/>
                </a:gs>
                <a:gs pos="100000">
                  <a:srgbClr val="0061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1148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b4b0">
                    <a:alpha val="0"/>
                  </a:srgbClr>
                </a:gs>
                <a:gs pos="100000">
                  <a:srgbClr val="0071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7340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094280" y="3087720"/>
              <a:ext cx="1290600" cy="1278000"/>
              <a:chOff x="4094280" y="3087720"/>
              <a:chExt cx="1290600" cy="1278000"/>
            </a:xfrm>
          </p:grpSpPr>
          <p:sp>
            <p:nvSpPr>
              <p:cNvPr id="398" name=""/>
              <p:cNvSpPr/>
              <p:nvPr/>
            </p:nvSpPr>
            <p:spPr>
              <a:xfrm>
                <a:off x="409428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1084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2416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9400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35744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33200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4b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406" name="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411" name="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ptcn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419" name="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ptcn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431" name="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436" name="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ptcn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45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96720" y="2292480"/>
              <a:ext cx="2183040" cy="3600720"/>
              <a:chOff x="396720" y="2292480"/>
              <a:chExt cx="2183040" cy="36007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873720" y="3211560"/>
                <a:ext cx="1706040" cy="2681640"/>
                <a:chOff x="873720" y="3211560"/>
                <a:chExt cx="1706040" cy="268164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873720" y="3390480"/>
                  <a:ext cx="1578600" cy="2502720"/>
                  <a:chOff x="873720" y="3390480"/>
                  <a:chExt cx="1578600" cy="25027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876600">
                    <a:off x="41004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876600">
                    <a:off x="191592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1368360" y="3211560"/>
                  <a:ext cx="1211400" cy="1920240"/>
                  <a:chOff x="1368360" y="3211560"/>
                  <a:chExt cx="1211400" cy="19202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 rot="3876600">
                    <a:off x="101268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396720" y="2292480"/>
                <a:ext cx="1441800" cy="1440720"/>
                <a:chOff x="396720" y="2292480"/>
                <a:chExt cx="1441800" cy="14407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9212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9212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5404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8536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"/>
              <p:cNvSpPr/>
              <p:nvPr/>
            </p:nvSpPr>
            <p:spPr>
              <a:xfrm rot="3925800">
                <a:off x="89784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925800">
                <a:off x="14018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2856600" y="3211560"/>
                <a:ext cx="1706040" cy="2681640"/>
                <a:chOff x="2856600" y="3211560"/>
                <a:chExt cx="1706040" cy="26816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856600" y="3390480"/>
                  <a:ext cx="1578600" cy="2502720"/>
                  <a:chOff x="2856600" y="3390480"/>
                  <a:chExt cx="1578600" cy="25027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3876600">
                    <a:off x="239292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3876600">
                    <a:off x="389880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3351240" y="3211560"/>
                  <a:ext cx="1211400" cy="1920240"/>
                  <a:chOff x="3351240" y="3211560"/>
                  <a:chExt cx="1211400" cy="19202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V="1" rot="3876600">
                    <a:off x="299556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V="1" rot="3876600">
                    <a:off x="413352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2379600" y="2292480"/>
                <a:ext cx="1441800" cy="1440720"/>
                <a:chOff x="2379600" y="2292480"/>
                <a:chExt cx="1441800" cy="14407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7500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7500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3692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56824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3925800">
                <a:off x="33782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427640" y="2292480"/>
              <a:ext cx="2182680" cy="3600720"/>
              <a:chOff x="4427640" y="2292480"/>
              <a:chExt cx="2182680" cy="360072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4904280" y="3211560"/>
                <a:ext cx="1706040" cy="2681640"/>
                <a:chOff x="4904280" y="3211560"/>
                <a:chExt cx="1706040" cy="268164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4904280" y="3390480"/>
                  <a:ext cx="1578600" cy="2502720"/>
                  <a:chOff x="4904280" y="3390480"/>
                  <a:chExt cx="1578600" cy="25027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3876600">
                    <a:off x="444060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3876600">
                    <a:off x="594648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398920" y="3211560"/>
                  <a:ext cx="1211400" cy="1920240"/>
                  <a:chOff x="5398920" y="3211560"/>
                  <a:chExt cx="1211400" cy="19202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V="1" rot="3876600">
                    <a:off x="504324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7" name=""/>
              <p:cNvGrpSpPr/>
              <p:nvPr/>
            </p:nvGrpSpPr>
            <p:grpSpPr>
              <a:xfrm>
                <a:off x="4427640" y="2292480"/>
                <a:ext cx="1441440" cy="1440720"/>
                <a:chOff x="4427640" y="2292480"/>
                <a:chExt cx="1441440" cy="14407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523040" y="23860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523040" y="23893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584960" y="24498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61628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8" name=""/>
              <p:cNvSpPr/>
              <p:nvPr/>
            </p:nvSpPr>
            <p:spPr>
              <a:xfrm rot="3925800">
                <a:off x="493200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3925800">
                <a:off x="54356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7136280" y="3284640"/>
                <a:ext cx="1705680" cy="2681640"/>
                <a:chOff x="7136280" y="3284640"/>
                <a:chExt cx="1705680" cy="268164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7136280" y="3463560"/>
                  <a:ext cx="1578600" cy="2502720"/>
                  <a:chOff x="7136280" y="3463560"/>
                  <a:chExt cx="1578600" cy="25027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rot="3876600">
                    <a:off x="6672600" y="44355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rot="3876600">
                    <a:off x="8178480" y="5404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7630560" y="3284640"/>
                  <a:ext cx="1211400" cy="1920240"/>
                  <a:chOff x="7630560" y="3284640"/>
                  <a:chExt cx="1211400" cy="19202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V="1" rot="3876600">
                    <a:off x="7274880" y="40305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V="1" rot="3876600">
                    <a:off x="8412840" y="4782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8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9560" y="22496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32640" y="23227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6653160" y="2343240"/>
                <a:ext cx="1312920" cy="1310400"/>
                <a:chOff x="6653160" y="2343240"/>
                <a:chExt cx="1312920" cy="13104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653160" y="23432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69720" y="23504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83400" y="23630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 rot="3925800">
                <a:off x="7147080" y="43966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3925800">
                <a:off x="7649640" y="4105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0" idx="3"/>
              <a:endCxn id="531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1" idx="3"/>
              <a:endCxn id="532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2" idx="3"/>
              <a:endCxn id="533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Progress Dia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00b4b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d6fc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6462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6462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6d6fc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b4b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1928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4b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3-D Pie Char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47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000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4442"/>
                </a:gs>
                <a:gs pos="100000">
                  <a:srgbClr val="003937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Conten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76520" y="1947960"/>
            <a:ext cx="5410080" cy="664920"/>
            <a:chOff x="1676520" y="1947960"/>
            <a:chExt cx="5410080" cy="664920"/>
          </a:xfrm>
        </p:grpSpPr>
        <p:grpSp>
          <p:nvGrpSpPr>
            <p:cNvPr id="100" name=""/>
            <p:cNvGrpSpPr/>
            <p:nvPr/>
          </p:nvGrpSpPr>
          <p:grpSpPr>
            <a:xfrm>
              <a:off x="1676520" y="1947960"/>
              <a:ext cx="762120" cy="664920"/>
              <a:chOff x="1676520" y="1947960"/>
              <a:chExt cx="762120" cy="664920"/>
            </a:xfrm>
          </p:grpSpPr>
          <p:sp>
            <p:nvSpPr>
              <p:cNvPr id="101" name=""/>
              <p:cNvSpPr/>
              <p:nvPr/>
            </p:nvSpPr>
            <p:spPr>
              <a:xfrm>
                <a:off x="168264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7652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2080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b4b0"/>
                  </a:gs>
                  <a:gs pos="100000">
                    <a:srgbClr val="00525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286000" y="25570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136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524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6520" y="2862360"/>
            <a:ext cx="5410080" cy="664920"/>
            <a:chOff x="1676520" y="2862360"/>
            <a:chExt cx="5410080" cy="664920"/>
          </a:xfrm>
        </p:grpSpPr>
        <p:grpSp>
          <p:nvGrpSpPr>
            <p:cNvPr id="108" name=""/>
            <p:cNvGrpSpPr/>
            <p:nvPr/>
          </p:nvGrpSpPr>
          <p:grpSpPr>
            <a:xfrm>
              <a:off x="1676520" y="2862360"/>
              <a:ext cx="762120" cy="664920"/>
              <a:chOff x="1676520" y="2862360"/>
              <a:chExt cx="762120" cy="664920"/>
            </a:xfrm>
          </p:grpSpPr>
          <p:sp>
            <p:nvSpPr>
              <p:cNvPr id="109" name=""/>
              <p:cNvSpPr/>
              <p:nvPr/>
            </p:nvSpPr>
            <p:spPr>
              <a:xfrm>
                <a:off x="168264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7652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2080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86000" y="3471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5136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524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6520" y="3754440"/>
            <a:ext cx="5410080" cy="665280"/>
            <a:chOff x="1676520" y="3754440"/>
            <a:chExt cx="5410080" cy="665280"/>
          </a:xfrm>
        </p:grpSpPr>
        <p:grpSp>
          <p:nvGrpSpPr>
            <p:cNvPr id="116" name=""/>
            <p:cNvGrpSpPr/>
            <p:nvPr/>
          </p:nvGrpSpPr>
          <p:grpSpPr>
            <a:xfrm>
              <a:off x="1676520" y="3754440"/>
              <a:ext cx="762120" cy="665280"/>
              <a:chOff x="1676520" y="3754440"/>
              <a:chExt cx="762120" cy="665280"/>
            </a:xfrm>
          </p:grpSpPr>
          <p:sp>
            <p:nvSpPr>
              <p:cNvPr id="117" name=""/>
              <p:cNvSpPr/>
              <p:nvPr/>
            </p:nvSpPr>
            <p:spPr>
              <a:xfrm>
                <a:off x="168264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7652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2080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b4b0"/>
                  </a:gs>
                  <a:gs pos="100000">
                    <a:srgbClr val="00525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43639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136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7524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676520" y="4668840"/>
            <a:ext cx="5410080" cy="665280"/>
            <a:chOff x="1676520" y="4668840"/>
            <a:chExt cx="5410080" cy="665280"/>
          </a:xfrm>
        </p:grpSpPr>
        <p:grpSp>
          <p:nvGrpSpPr>
            <p:cNvPr id="124" name=""/>
            <p:cNvGrpSpPr/>
            <p:nvPr/>
          </p:nvGrpSpPr>
          <p:grpSpPr>
            <a:xfrm>
              <a:off x="1676520" y="4668840"/>
              <a:ext cx="762120" cy="665280"/>
              <a:chOff x="1676520" y="4668840"/>
              <a:chExt cx="762120" cy="665280"/>
            </a:xfrm>
          </p:grpSpPr>
          <p:sp>
            <p:nvSpPr>
              <p:cNvPr id="125" name=""/>
              <p:cNvSpPr/>
              <p:nvPr/>
            </p:nvSpPr>
            <p:spPr>
              <a:xfrm>
                <a:off x="168264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7652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2080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286000" y="52783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5136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524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5D1-943C-40D7-ACA3-D672C87DF8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648320" y="1650600"/>
            <a:ext cx="39448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905120" y="34290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b4b0"/>
                    </a:gs>
                    <a:gs pos="100000">
                      <a:srgbClr val="008080"/>
                    </a:gs>
                  </a:gsLst>
                  <a:lin ang="10800000"/>
                </a:gradFill>
                <a:effectLst>
                  <a:outerShdw dist="91658" dir="3382340" blurRad="0" rotWithShape="0">
                    <a:srgbClr val="004442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b4b0"/>
                  </a:gs>
                  <a:gs pos="100000">
                    <a:srgbClr val="008080"/>
                  </a:gs>
                </a:gsLst>
                <a:lin ang="10800000"/>
              </a:gradFill>
              <a:effectLst>
                <a:outerShdw dist="91658" dir="3382340" blurRad="0" rotWithShape="0">
                  <a:srgbClr val="004442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Hot Ti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30520"/>
            <a:ext cx="7696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7913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136" name="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f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e6e5"/>
              </a:gs>
              <a:gs pos="100000">
                <a:srgbClr val="00b4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40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755"/>
                    </a:gs>
                    <a:gs pos="100000">
                      <a:srgbClr val="00b4b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4b0"/>
                    </a:gs>
                    <a:gs pos="100000">
                      <a:srgbClr val="8ddcd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6462"/>
                  </a:gs>
                  <a:gs pos="100000">
                    <a:srgbClr val="002e2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c8c7"/>
                  </a:gs>
                  <a:gs pos="100000">
                    <a:srgbClr val="006462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6462">
                      <a:alpha val="48235"/>
                    </a:srgbClr>
                  </a:gs>
                  <a:gs pos="100000">
                    <a:srgbClr val="004e4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6462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150" name="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f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3381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cccc"/>
              </a:gs>
              <a:gs pos="100000">
                <a:srgbClr val="0064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6036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4b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Cycle Dia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15600" y="1479600"/>
            <a:ext cx="7932240" cy="5225040"/>
            <a:chOff x="615600" y="1479600"/>
            <a:chExt cx="7932240" cy="5225040"/>
          </a:xfrm>
        </p:grpSpPr>
        <p:sp>
          <p:nvSpPr>
            <p:cNvPr id="156" name=""/>
            <p:cNvSpPr/>
            <p:nvPr/>
          </p:nvSpPr>
          <p:spPr>
            <a:xfrm rot="20241600">
              <a:off x="1236600" y="26902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4f9e6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4572000" y="2666520"/>
              <a:ext cx="1066680" cy="30420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7467480" y="2895120"/>
              <a:ext cx="1067040" cy="30420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056200">
              <a:off x="2971800" y="5866920"/>
              <a:ext cx="1066680" cy="30420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056200">
              <a:off x="5714640" y="5257080"/>
              <a:ext cx="1066680" cy="30456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056200">
              <a:off x="2057040" y="4190400"/>
              <a:ext cx="1066680" cy="30456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8640" y="18284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00b4b0"/>
                </a:gs>
                <a:gs pos="100000">
                  <a:srgbClr val="003d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54040" y="33526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1f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36760" y="50497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6d6fc7"/>
                </a:gs>
                <a:gs pos="100000">
                  <a:srgbClr val="2627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11640" y="44193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b6b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40440" y="20570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4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42400" y="3809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07760" y="2285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41400" y="2563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50760" y="4876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29800" y="5500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7760" y="38145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31960" y="21157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/>
            <p:nvPr/>
          </p:nvCxnSpPr>
          <p:spPr>
            <a:xfrm flipH="1">
              <a:off x="615600" y="21153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5" name=""/>
            <p:cNvSpPr/>
            <p:nvPr/>
          </p:nvSpPr>
          <p:spPr>
            <a:xfrm>
              <a:off x="741600" y="1676520"/>
              <a:ext cx="178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78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84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90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197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198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003f3e"/>
                  </a:gs>
                  <a:gs pos="100000">
                    <a:srgbClr val="006462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bbbce4"/>
                  </a:gs>
                  <a:gs pos="100000">
                    <a:srgbClr val="6d6fc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7bd7d5"/>
                  </a:gs>
                  <a:gs pos="100000">
                    <a:srgbClr val="00b4b0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465e00"/>
                  </a:gs>
                  <a:gs pos="100000">
                    <a:srgbClr val="99cc00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43000" y="1752480"/>
            <a:ext cx="7086600" cy="3833640"/>
            <a:chOff x="1143000" y="1752480"/>
            <a:chExt cx="7086600" cy="3833640"/>
          </a:xfrm>
        </p:grpSpPr>
        <p:sp>
          <p:nvSpPr>
            <p:cNvPr id="208" name=""/>
            <p:cNvSpPr/>
            <p:nvPr/>
          </p:nvSpPr>
          <p:spPr>
            <a:xfrm>
              <a:off x="11430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005251"/>
                </a:gs>
                <a:gs pos="50000">
                  <a:srgbClr val="00b4b0"/>
                </a:gs>
                <a:gs pos="100000">
                  <a:srgbClr val="0052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79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6ea6a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527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f9f9"/>
                </a:gs>
                <a:gs pos="100000">
                  <a:srgbClr val="00b4b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832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bef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496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f9f9"/>
                </a:gs>
                <a:gs pos="100000">
                  <a:srgbClr val="00b4b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83200" y="4065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bef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27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f9f9"/>
                </a:gs>
                <a:gs pos="100000">
                  <a:srgbClr val="00b4b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867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4b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9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20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24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30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22:33:5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7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