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C1591-A5A8-4AF0-84A6-1087F82CF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DA8E9-BA69-439D-AFCF-AF7C33197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6FA9E-459F-42A9-9B67-6F19AAB22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38274-59AB-4F5A-8656-6CCE00780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AD546-74D1-435C-97FF-978638CBC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8F5CA-5B7F-40D6-967A-1696E8D63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6B91C-6BFE-4526-92B2-5BAD9A70D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EC423-8522-4D53-90DB-87CD4B8D8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E340A-8825-4FF2-9BFE-AAD4B5086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A8A74-3AD8-475E-AB4C-60DD66E2F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62FCE-26EA-4837-8E7B-B2C51AE1C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C28B6-75DC-48E6-B9BD-BC51F81CA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EBA42-A015-4BB0-8FBF-0F26F1E26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4743B-B1DA-468D-8118-E079A67A0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DE3E4-02A2-4E8E-91EE-873C12D9F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450C6-C563-4F80-914C-EDA5E9C94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6841B-986C-4DAC-BE36-E8E3C45DC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54517C-6AC0-4ED6-94E9-0AE0A83B1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52641E-1C4E-4F42-9893-6F9FC2F75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DACF26-1945-464E-9A34-691D337DB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785608-CFB8-4A2A-9D42-10E95D043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43719C-6ED3-4B01-A166-3B81634F2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10603-5C75-4519-86B0-34BB5A707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F3FFDA-FAA9-40A2-A491-37CAE99DB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FF130C-5BFB-45C7-A408-238E26348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1E07EC-FFF3-4AAB-A9D7-A38C21DD0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C584A4-AE5A-4348-9E33-49DEBC56F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61A472-E20B-44B9-97C4-57A05EE1F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9E490D-1C3C-46D0-978F-D6FD90763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90740A-0C2F-4181-9120-F2190D483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BE703-AF89-4D8B-B3C6-A44247CCC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B3A65-9011-4CEC-87F5-E92A99034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54073-8152-4E9A-9C20-15C338BD7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831D9-6C02-45C0-9328-99332F43F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8C3CD-F287-4E06-A452-A65A7BB5E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A53C7-270E-4729-B7A2-D3398A6E4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C:/Documents and Settings/Administrator/桌面/光棍节/未标题-21.jpg未标题-21"/>
          <p:cNvPicPr/>
          <p:nvPr/>
        </p:nvPicPr>
        <p:blipFill>
          <a:blip r:embed="rId2"/>
          <a:stretch/>
        </p:blipFill>
        <p:spPr>
          <a:xfrm>
            <a:off x="1440" y="0"/>
            <a:ext cx="914112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2210E-45E9-449E-9FE8-5D8DF037DCD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未标题-23"/>
          <p:cNvPicPr/>
          <p:nvPr/>
        </p:nvPicPr>
        <p:blipFill>
          <a:blip r:embed="rId2"/>
          <a:stretch/>
        </p:blipFill>
        <p:spPr>
          <a:xfrm>
            <a:off x="1440" y="0"/>
            <a:ext cx="914112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AFF53-C8A6-44B9-8B92-3DFCCC79C9A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3F1EC-366A-4108-BC2B-93FC669803E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7" descr="未标题-22"/>
          <p:cNvPicPr/>
          <p:nvPr/>
        </p:nvPicPr>
        <p:blipFill>
          <a:blip r:embed="rId2"/>
          <a:stretch/>
        </p:blipFill>
        <p:spPr>
          <a:xfrm>
            <a:off x="1440" y="0"/>
            <a:ext cx="914112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3636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769760" y="333360"/>
            <a:ext cx="567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精美光棍节万岁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完整版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900000" y="206064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ppt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CE8B4-1214-48F5-9CDD-7ED315E26D6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3T16:25:05Z</dcterms:created>
  <dc:creator>pc</dc:creator>
  <dc:description>www.eeppt.com;</dc:description>
  <cp:keywords>www.eeppt.com</cp:keywords>
  <dc:language>en-US</dc:language>
  <cp:lastModifiedBy>Windows 用户</cp:lastModifiedBy>
  <dcterms:modified xsi:type="dcterms:W3CDTF">2015-09-18T13:23:29Z</dcterms:modified>
  <cp:revision>1</cp:revision>
  <dc:subject/>
  <dc:title>www.eeppt.com;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