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EB9D7-8AE0-482C-AC43-880C3CEA0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19CCE-775A-4575-9B03-95DE42BD8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0C5FC-C897-49CC-996D-A96BEDD7F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CAE41-4D04-48A6-BEA7-4C04043F7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BDF68-B356-4BA9-B2D0-252C9047D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BF7F5-D3BF-4D2A-8729-EF7383AC0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0AC8B-BCB8-4CF6-BFF5-2E84F5013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BFAAF-D280-4EA4-8933-4CD826E04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7F918-6611-47F5-87E8-9FB649AE6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A6AB7-EE39-408A-9C9E-6AC710C29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18940-B1BA-4BA7-89C1-01D621247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41482-FAB4-4BD7-81C8-23FD491BE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553CB-F238-4C1B-B147-60CBCA04E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DFB36-24C1-4DFC-A7DF-8F78E0AF4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FBA95-042D-400F-A64B-A1C1DEB72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5A433-7BD6-468F-B3DE-787D8221F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9561E-ACD9-47F6-9AAC-F8ECA14AB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1AB374-2FE0-40AF-B907-A37B1B141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7AA3CA-E4C2-4848-8A89-5B1E6276C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154175-8F02-4E9A-8739-9A19C6C60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BF80EA-6834-4B1D-8CDC-AD87AF78E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101F8D-CC4B-4CE6-A534-C245BDC95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60352-9EA5-470D-AB92-A0FBC09B7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14D782-39C1-404A-908F-0974F7E6B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D5A407-A8EA-4E72-8172-B5C78F54E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742C08-BC52-47DB-A1F1-8532F0500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31CDEF-5405-469D-8DD6-A4E53D7F0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6E21C3-5CE6-498A-8144-725FF48BD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FFEB57-331C-4769-8F8B-1EAB9A15F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AEE1AF-6513-4A64-BA86-7124C8B5D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5825B4-41A4-4CA2-B533-F761582C8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AFD4EE-FB34-47E3-9FBC-97E74931F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F7DEE3-4C40-467D-BA6B-0AD611C05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A7614-8312-444B-8D4D-020BE52E9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0FEC23-6607-45B9-9F36-CB6AA43C8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AC76D3-1A36-4293-8DC9-1B0DA85F9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94D2BF-F377-48C1-9F0D-EB2260CA2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894ACE-0479-4421-9FF9-BE505126B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93053A-F469-473A-8802-636254C9A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CBC369-9363-4A84-904E-D57F9717F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9E3A27-EBC7-4EE8-86C3-CBE617006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3ED5FA-8647-4125-84A8-03EF00B2F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8D2DFA-8BD4-443B-B8CB-E7B2C5C85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2646BF-F113-4E1D-892C-C70D30AC7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AD0C3-FB06-4CEA-A338-5BAB73573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A68AC4-3EA1-495B-B651-3A7089BD6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53550B-EF91-477F-B47C-A4F0B0EC1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1B34F9-1B4C-44B6-9749-82124BC81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C47051-7C4C-4CD4-BE5A-94F48BC8B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57A884-E092-4B5B-850A-0D8FA323F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EECDDC-B5D7-4BBD-AFD4-CD9CAFB22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B6A6FD-8E43-47EC-80FA-1C4893E34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154147-FDE8-4EA8-A2D0-4CF2EEE1E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B0A546-C2D2-49FE-9311-9C62FD88A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6E8086-8032-4553-9668-892BB6581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56174-E47F-4780-A181-05619FAE0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668134-A1A9-4883-8E59-2D61ED0E5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87183-26A1-46DC-9581-2F1A9054E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FDF07-0DB8-4E09-80F2-9A5301C33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F1EB5-A782-4EAD-88FC-C13C190A4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6134040" y="6477120"/>
            <a:ext cx="3009960" cy="38088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E7865-F51E-40ED-8A56-D615F40828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134040" y="6477120"/>
            <a:ext cx="3009960" cy="380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C2A46-78A6-4102-BB64-12E1866265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6134040" y="6477120"/>
            <a:ext cx="3009960" cy="38088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FAC1A-7FED-4714-8F35-59DA2BEE75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6134040" y="6477120"/>
            <a:ext cx="3009960" cy="38088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C2991-762E-4621-BFAC-1ABDD6F3B2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6134040" y="6477120"/>
            <a:ext cx="3009960" cy="38088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3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70631-1EC6-4F88-ACE5-B2FDF5311A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精美卡通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6360" y="64548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971640" y="306864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AC7CA8-F1AC-48E1-8939-A6502C4F168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06:44:58Z</dcterms:created>
  <dc:creator>幻灯片之家：www.eeppt.com</dc:creator>
  <dc:description>幻灯片之家：www.eeppt.com</dc:description>
  <cp:keywords>幻灯片之家：www.eeppt.com</cp:keywords>
  <dc:language>en-US</dc:language>
  <cp:lastModifiedBy/>
  <dcterms:modified xsi:type="dcterms:W3CDTF">2015-09-18T13:23:32Z</dcterms:modified>
  <cp:revision>5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