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592-22AD-4B25-806F-BAB306AE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CF8-8033-4474-8641-E27E462B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912-4349-403C-A6C8-1CF4ABDC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290-96B6-4EE6-8D4E-A06A5B06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2795-7F3C-4BCF-AF61-9A1AE95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B1B6-7246-4A6E-BD45-025EB81A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92F6-72B5-496F-ABA6-52697B2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D6B-70D6-4C89-B612-9726D60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422-3E45-48DC-977C-473F5CE8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73D-A50D-46C5-AA98-71E3F4C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3CB-7722-4AFF-B9BC-DAB271E1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9864-7937-41E5-B0A2-832C656B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E12B-E85A-4E75-A065-9234B6FA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3098245_155952264180_2"/>
          <p:cNvPicPr/>
          <p:nvPr/>
        </p:nvPicPr>
        <p:blipFill>
          <a:blip r:embed="rId15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55760" y="53352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精美中秋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5200151_02223147639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0077-9888-446D-899C-F689440F32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2819520" y="2286000"/>
            <a:ext cx="3657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华文新魏"/>
              </a:rPr>
              <a:t>尊敬的    ：</a:t>
            </a:r>
            <a:endParaRPr b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华文新魏"/>
              </a:rPr>
              <a:t>中秋节快乐！</a:t>
            </a:r>
            <a:endParaRPr b="1" lang="en-US" sz="1800" spc="-1" strike="noStrike">
              <a:ln w="936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华文新魏"/>
              <a:ea typeface="华文新魏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1600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3:19:53Z</dcterms:created>
  <dc:creator/>
  <dc:description>www.eeppt.com;</dc:description>
  <cp:keywords>www.eeppt.com</cp:keywords>
  <dc:language>en-US</dc:language>
  <cp:lastModifiedBy>lenovo</cp:lastModifiedBy>
  <dcterms:modified xsi:type="dcterms:W3CDTF">2015-09-18T13:23:29Z</dcterms:modified>
  <cp:revision>1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