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D8696-F3E3-4607-B86B-B60B66DAC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27EBE-E02D-402B-89C1-116FA1FF8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F5226-33BF-4151-9838-E7D11507B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195C5-AA19-42BD-AC05-6AD520B53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B86E2-C097-48AF-A53E-457D4AD68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1958B-7753-4D96-B223-57CE74CF8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4BE84-3668-49B0-85D8-3D25DED45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9FC23-144B-47DD-8A08-41E7E8911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6CD08-5A4D-4505-B5E3-24B2ABB2A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15C80-761B-4082-9908-D5B0F3FAE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73C3B-F975-4E1C-AD61-545919647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83C58-1C42-490A-A411-E4BD82BD5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5BED9-6D49-4BC8-87C9-BE5C7ABB2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B28A2-03BF-49F1-BF64-25C4A2175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83D9D-B112-4DFA-A19C-885A5346C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688C0-FB31-4800-B9B9-DBCB68029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8D31D-4DB0-4FB4-B20C-39DE3B93B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BB802-FB20-4429-8360-F313FAF99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32AF1-5955-44EB-895A-22973C86E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2A886-0A94-4C95-8F7D-34C72FB36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2CE5C-204A-4AC0-A3B8-AD3E2A01D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99A6B-7ADD-4B87-BDEC-62F1A8CFA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EC0F-7E93-401D-AC9B-C6F72ED48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2E06-A7FB-49C4-8DF5-076505BBB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770C-4AF5-46E3-902C-CD681EC8D6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C358-DB05-48CD-B9F4-E466669F99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28240"/>
            <a:ext cx="54864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Presentation Title</a:t>
            </a:r>
            <a:endParaRPr b="1" lang="en-US" sz="3200" spc="-1" strike="noStrike">
              <a:solidFill>
                <a:srgbClr val="000000"/>
              </a:solidFill>
              <a:latin typeface="Tahoma"/>
            </a:endParaRPr>
          </a:p>
        </p:txBody>
      </p:sp>
      <p:sp>
        <p:nvSpPr>
          <p:cNvPr id="83" name="PlaceHolder 2"/>
          <p:cNvSpPr>
            <a:spLocks noGrp="1"/>
          </p:cNvSpPr>
          <p:nvPr>
            <p:ph type="subTitle"/>
          </p:nvPr>
        </p:nvSpPr>
        <p:spPr>
          <a:xfrm>
            <a:off x="76320" y="914040"/>
            <a:ext cx="5029200" cy="609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resentation Subtitle</a:t>
            </a:r>
            <a:endParaRPr b="0" lang="en-US" sz="2000" spc="-1" strike="noStrike">
              <a:solidFill>
                <a:srgbClr val="000000"/>
              </a:solidFill>
              <a:latin typeface="Calibri"/>
            </a:endParaRPr>
          </a:p>
        </p:txBody>
      </p:sp>
      <p:sp>
        <p:nvSpPr>
          <p:cNvPr id="84"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Calibri"/>
            </a:endParaRPr>
          </a:p>
        </p:txBody>
      </p:sp>
      <p:sp>
        <p:nvSpPr>
          <p:cNvPr id="85" name=""/>
          <p:cNvSpPr/>
          <p:nvPr/>
        </p:nvSpPr>
        <p:spPr>
          <a:xfrm>
            <a:off x="1233360" y="1447920"/>
            <a:ext cx="665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Arial"/>
              </a:rPr>
              <a:t>激情足球运动体育运动幻灯片在线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80520" y="990360"/>
            <a:ext cx="6782040" cy="5135400"/>
          </a:xfrm>
          <a:prstGeom prst="rect">
            <a:avLst/>
          </a:prstGeom>
          <a:noFill/>
          <a:ln w="0">
            <a:noFill/>
          </a:ln>
        </p:spPr>
        <p:txBody>
          <a:bodyPr lIns="90000" rIns="90000" tIns="46800" bIns="46800"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使用规范说明</a:t>
            </a:r>
            <a:endParaRPr b="1" lang="en-US" sz="3200" spc="-1" strike="noStrike">
              <a:solidFill>
                <a:srgbClr val="000000"/>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f9000"/>
                </a:solidFill>
                <a:uFillTx/>
                <a:latin typeface="Calibri"/>
                <a:ea typeface="宋体"/>
                <a:hlinkClick r:id="rId2"/>
              </a:rPr>
              <a:t>http://</a:t>
            </a:r>
            <a:r>
              <a:rPr b="0" lang="en-US" sz="1400" spc="-1" strike="noStrike" u="sng">
                <a:solidFill>
                  <a:srgbClr val="bf9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bf9000"/>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bf9000"/>
                </a:solidFill>
                <a:uFillTx/>
                <a:latin typeface="Calibri"/>
                <a:ea typeface="宋体"/>
                <a:hlinkClick r:id="rId7"/>
              </a:rPr>
              <a:t> </a:t>
            </a:r>
            <a:r>
              <a:rPr b="0" lang="en-US" sz="1200" spc="-1" strike="noStrike" u="sng">
                <a:solidFill>
                  <a:srgbClr val="bf90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bf9000"/>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bf9000"/>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bf900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bf9000"/>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bf9000"/>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bf90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f90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bf90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f90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bf90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f90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bf90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f90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bf90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0EF3781D-F5FA-4705-8DB8-301A291543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int Master</a:t>
            </a:r>
            <a:endParaRPr b="1" lang="en-US" sz="3200" spc="-1" strike="noStrike">
              <a:solidFill>
                <a:srgbClr val="000000"/>
              </a:solidFill>
              <a:latin typeface="Tahoma"/>
            </a:endParaRPr>
          </a:p>
        </p:txBody>
      </p:sp>
      <p:sp>
        <p:nvSpPr>
          <p:cNvPr id="92" name=""/>
          <p:cNvSpPr txBox="1"/>
          <p:nvPr/>
        </p:nvSpPr>
        <p:spPr>
          <a:xfrm>
            <a:off x="2133720" y="1646280"/>
            <a:ext cx="670536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
          <p:cNvSpPr/>
          <p:nvPr/>
        </p:nvSpPr>
        <p:spPr>
          <a:xfrm>
            <a:off x="1905120" y="12952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f9000"/>
                </a:solidFill>
                <a:uFillTx/>
                <a:latin typeface="Calibri"/>
                <a:hlinkClick r:id="rId2"/>
              </a:rPr>
              <a:t>ppt模版免费下载</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幻灯片之家：www.eeppt.com</dc:creator>
  <dc:description>幻灯片之家：www.eeppt.com</dc:description>
  <cp:keywords>幻灯片之家：www.eeppt.com</cp:keywords>
  <dc:language>en-US</dc:language>
  <cp:lastModifiedBy/>
  <dcterms:modified xsi:type="dcterms:W3CDTF">2015-09-18T13:22:02Z</dcterms:modified>
  <cp:revision>3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