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83A-31A0-4982-ACEB-D8695896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248508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777-AAF5-4C4F-9D1F-CA2AF292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D3F-641C-404E-95E9-F3CD76B5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364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5288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364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5288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F4E-D5FB-42CB-9699-271C5BDA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7B28-6D87-456F-B66A-6F97F0E2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F53A-8458-4195-8387-4436CC24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2643-7A46-48C9-B986-AEED3C47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8555-651C-4B65-9C05-1ACE45CB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4F38-020B-4198-BE9F-88552577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501C-330D-4D50-A304-1D44DAA8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FE2C-A548-4570-BD40-0406FAB0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F93-8158-4AFA-BCC5-771F3CE8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696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4CF9-11D0-4E6D-953D-4B6DCE48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174D-FCE8-4AC2-9708-4E5B0D11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248508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0AAA-9698-4A24-B78C-CABEA3F7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696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2CA3-2BE9-44F7-B811-645B2AD2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8364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5288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8364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5288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FF0F-E5E0-4FE0-A761-6EB55644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356-9940-4A98-A57B-C0446CDB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614-7ED8-44F7-9EB4-65F2F970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C26-DD7D-4A7B-92F4-5C325877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58F-CB0C-4133-853D-C9B97F60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0D9-8B39-4654-B4F6-72F5FBFC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257-B510-4C6B-B351-884D7044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305-7C04-4AA1-A5C9-D42F3DD1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22a2e2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091c43"/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276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76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276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76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276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7104-F7D3-4070-8A1F-A195DBABE3C2}" type="slidenum">
              <a:rPr b="0" lang="en-US" sz="1400" spc="-1" strike="noStrike">
                <a:solidFill>
                  <a:srgbClr val="13276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091c43"/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91B4-5FB7-4C63-A7D5-3B72C6B38C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3" name="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4bb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32767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32767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32767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32767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32767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32767"/>
                </a:solidFill>
                <a:latin typeface="Arial"/>
              </a:rPr>
              <a:t>金色地球企业</a:t>
            </a:r>
            <a:r>
              <a:rPr b="1" lang="zh-CN" sz="4000" spc="-1" strike="noStrike">
                <a:solidFill>
                  <a:srgbClr val="132767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132767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55640" y="2050920"/>
            <a:ext cx="7632720" cy="3054240"/>
            <a:chOff x="755640" y="2050920"/>
            <a:chExt cx="7632720" cy="3054240"/>
          </a:xfrm>
        </p:grpSpPr>
        <p:sp>
          <p:nvSpPr>
            <p:cNvPr id="256" name=""/>
            <p:cNvSpPr/>
            <p:nvPr/>
          </p:nvSpPr>
          <p:spPr>
            <a:xfrm>
              <a:off x="2916360" y="28494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1640" y="28494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5ab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27640" y="20574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5aba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7640" y="20574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5aba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69120" y="219852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2d5c5b"/>
                </a:gs>
                <a:gs pos="50000">
                  <a:srgbClr val="55aba9"/>
                </a:gs>
                <a:gs pos="100000">
                  <a:srgbClr val="2d5c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2209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0"/>
                  </a:srgbClr>
                </a:gs>
                <a:gs pos="100000">
                  <a:srgbClr val="356c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70640" y="22921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5640" y="20509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cca4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5640" y="20509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cca4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96760" y="2192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66c23"/>
                </a:gs>
                <a:gs pos="50000">
                  <a:srgbClr val="dcca42"/>
                </a:gs>
                <a:gs pos="100000">
                  <a:srgbClr val="766c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98560" y="2195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dcca42">
                    <a:alpha val="0"/>
                  </a:srgbClr>
                </a:gs>
                <a:gs pos="100000">
                  <a:srgbClr val="8b7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22860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017720" y="2311200"/>
              <a:ext cx="1636560" cy="1636920"/>
              <a:chOff x="1017720" y="2311200"/>
              <a:chExt cx="1636560" cy="1636920"/>
            </a:xfrm>
          </p:grpSpPr>
          <p:sp>
            <p:nvSpPr>
              <p:cNvPr id="269" name=""/>
              <p:cNvSpPr/>
              <p:nvPr/>
            </p:nvSpPr>
            <p:spPr>
              <a:xfrm>
                <a:off x="1017720" y="23112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038600" y="23202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55520" y="23360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144440" y="23778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3492360" y="20574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2a2e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92360" y="20574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f4a68"/>
                </a:gs>
                <a:gs pos="100000">
                  <a:srgbClr val="22a2e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3840" y="2198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25779"/>
                </a:gs>
                <a:gs pos="50000">
                  <a:srgbClr val="22a2e2"/>
                </a:gs>
                <a:gs pos="100000">
                  <a:srgbClr val="1257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35280" y="2201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1566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7440" y="22921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754440" y="2311200"/>
              <a:ext cx="1636560" cy="1636920"/>
              <a:chOff x="3754440" y="2311200"/>
              <a:chExt cx="1636560" cy="1636920"/>
            </a:xfrm>
          </p:grpSpPr>
          <p:sp>
            <p:nvSpPr>
              <p:cNvPr id="279" name=""/>
              <p:cNvSpPr/>
              <p:nvPr/>
            </p:nvSpPr>
            <p:spPr>
              <a:xfrm>
                <a:off x="3754440" y="23112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775320" y="23202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92240" y="23360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81160" y="23778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500880" y="2311200"/>
              <a:ext cx="1636560" cy="1636920"/>
              <a:chOff x="6500880" y="2311200"/>
              <a:chExt cx="1636560" cy="1636920"/>
            </a:xfrm>
          </p:grpSpPr>
          <p:sp>
            <p:nvSpPr>
              <p:cNvPr id="284" name=""/>
              <p:cNvSpPr/>
              <p:nvPr/>
            </p:nvSpPr>
            <p:spPr>
              <a:xfrm>
                <a:off x="6500880" y="23112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21760" y="23202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38680" y="23360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627600" y="23778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804960" y="45892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38440" y="45892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91360" y="45892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52240" y="2916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5440" y="2916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8640" y="2916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447920" y="1542960"/>
            <a:ext cx="7390800" cy="4476600"/>
            <a:chOff x="1447920" y="1542960"/>
            <a:chExt cx="7390800" cy="4476600"/>
          </a:xfrm>
        </p:grpSpPr>
        <p:sp>
          <p:nvSpPr>
            <p:cNvPr id="296" name=""/>
            <p:cNvSpPr/>
            <p:nvPr/>
          </p:nvSpPr>
          <p:spPr>
            <a:xfrm>
              <a:off x="1447920" y="1981080"/>
              <a:ext cx="594324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22a2e2"/>
                </a:gs>
                <a:gs pos="100000">
                  <a:srgbClr val="55aba9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1840" y="37335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84bb2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0876400">
              <a:off x="3544560" y="497196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76520" y="375264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97040" y="37623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14320" y="377820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06480" y="382248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9376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26600">
              <a:off x="1701720" y="436212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1625400" y="3371760"/>
              <a:ext cx="1370880" cy="1441080"/>
              <a:chOff x="1625400" y="3371760"/>
              <a:chExt cx="1370880" cy="1441080"/>
            </a:xfrm>
          </p:grpSpPr>
          <p:sp>
            <p:nvSpPr>
              <p:cNvPr id="306" name=""/>
              <p:cNvSpPr/>
              <p:nvPr/>
            </p:nvSpPr>
            <p:spPr>
              <a:xfrm>
                <a:off x="1625400" y="337176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43400" y="338004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656360" y="339336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728000" y="343008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0584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523880" y="260676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99840" y="200016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12800" y="200484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2360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77600" y="204156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9712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90720" y="207648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12760" y="154296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22480" y="1546200"/>
              <a:ext cx="66456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28600" y="155232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65320" y="1571400"/>
              <a:ext cx="56304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82960" y="1766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5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184b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84b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84b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184b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184b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184b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184b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2767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2767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2767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2767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2767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2767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bd5d4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bd5d4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bd5d4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bd5d4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bd5d4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bd5d4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5aba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5aba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d5c5b"/>
                </a:gs>
                <a:gs pos="50000">
                  <a:srgbClr val="55aba9"/>
                </a:gs>
                <a:gs pos="100000">
                  <a:srgbClr val="2d5c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0"/>
                  </a:srgbClr>
                </a:gs>
                <a:gs pos="100000">
                  <a:srgbClr val="356c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0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219320" y="2136600"/>
            <a:ext cx="2170080" cy="4035600"/>
            <a:chOff x="1219320" y="2136600"/>
            <a:chExt cx="2170080" cy="4035600"/>
          </a:xfrm>
        </p:grpSpPr>
        <p:sp>
          <p:nvSpPr>
            <p:cNvPr id="357" name=""/>
            <p:cNvSpPr/>
            <p:nvPr/>
          </p:nvSpPr>
          <p:spPr>
            <a:xfrm>
              <a:off x="121932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5280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008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7008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2580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963800" y="2136600"/>
              <a:ext cx="642960" cy="642960"/>
              <a:chOff x="1963800" y="2136600"/>
              <a:chExt cx="642960" cy="642960"/>
            </a:xfrm>
          </p:grpSpPr>
          <p:sp>
            <p:nvSpPr>
              <p:cNvPr id="364" name=""/>
              <p:cNvSpPr/>
              <p:nvPr/>
            </p:nvSpPr>
            <p:spPr>
              <a:xfrm>
                <a:off x="196380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7028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78200" y="2145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8468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1852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1038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9564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581280" y="2136600"/>
            <a:ext cx="2166840" cy="4035600"/>
            <a:chOff x="3581280" y="2136600"/>
            <a:chExt cx="2166840" cy="4035600"/>
          </a:xfrm>
        </p:grpSpPr>
        <p:sp>
          <p:nvSpPr>
            <p:cNvPr id="372" name=""/>
            <p:cNvSpPr/>
            <p:nvPr/>
          </p:nvSpPr>
          <p:spPr>
            <a:xfrm>
              <a:off x="35812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147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320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320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2576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32240" y="21412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0160" y="21445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6280" y="21510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81560" y="21668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658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576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8452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28800" y="53258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937120" y="2136600"/>
            <a:ext cx="2170080" cy="4035600"/>
            <a:chOff x="5937120" y="2136600"/>
            <a:chExt cx="2170080" cy="4035600"/>
          </a:xfrm>
        </p:grpSpPr>
        <p:sp>
          <p:nvSpPr>
            <p:cNvPr id="386" name=""/>
            <p:cNvSpPr/>
            <p:nvPr/>
          </p:nvSpPr>
          <p:spPr>
            <a:xfrm>
              <a:off x="59436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767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943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943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6688080" y="2136600"/>
              <a:ext cx="642960" cy="642960"/>
              <a:chOff x="6688080" y="2136600"/>
              <a:chExt cx="642960" cy="642960"/>
            </a:xfrm>
          </p:grpSpPr>
          <p:sp>
            <p:nvSpPr>
              <p:cNvPr id="391" name=""/>
              <p:cNvSpPr/>
              <p:nvPr/>
            </p:nvSpPr>
            <p:spPr>
              <a:xfrm>
                <a:off x="668808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9456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2480" y="2145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0896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74280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68281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95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3712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81400" y="53258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219320" y="1905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5aba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0" y="1436760"/>
            <a:ext cx="9144000" cy="4366080"/>
            <a:chOff x="0" y="1436760"/>
            <a:chExt cx="9144000" cy="4366080"/>
          </a:xfrm>
        </p:grpSpPr>
        <p:sp>
          <p:nvSpPr>
            <p:cNvPr id="403" name=""/>
            <p:cNvSpPr/>
            <p:nvPr/>
          </p:nvSpPr>
          <p:spPr>
            <a:xfrm>
              <a:off x="0" y="27259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277812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396720" y="2129040"/>
              <a:ext cx="2183040" cy="3600720"/>
              <a:chOff x="396720" y="2129040"/>
              <a:chExt cx="2183040" cy="360072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873720" y="3048120"/>
                <a:ext cx="1706040" cy="2681640"/>
                <a:chOff x="873720" y="3048120"/>
                <a:chExt cx="1706040" cy="268164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873720" y="3227040"/>
                  <a:ext cx="1578600" cy="2502720"/>
                  <a:chOff x="873720" y="3227040"/>
                  <a:chExt cx="1578600" cy="25027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3876600">
                    <a:off x="410040" y="419904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3876600">
                    <a:off x="1915920" y="516780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1368360" y="3048120"/>
                  <a:ext cx="1211400" cy="1920240"/>
                  <a:chOff x="1368360" y="3048120"/>
                  <a:chExt cx="1211400" cy="192024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V="1" rot="3876600">
                    <a:off x="1012680" y="379404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V="1" rot="3876600">
                    <a:off x="2150640" y="45453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396720" y="2129040"/>
                <a:ext cx="1441800" cy="1440720"/>
                <a:chOff x="396720" y="2129040"/>
                <a:chExt cx="1441800" cy="144072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96720" y="212904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6720" y="212904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92120" y="22226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92120" y="22258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54040" y="228636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grpSp>
              <p:nvGrpSpPr>
                <p:cNvPr id="419" name=""/>
                <p:cNvGrpSpPr/>
                <p:nvPr/>
              </p:nvGrpSpPr>
              <p:grpSpPr>
                <a:xfrm>
                  <a:off x="571320" y="2303640"/>
                  <a:ext cx="1092240" cy="1092960"/>
                  <a:chOff x="571320" y="2303640"/>
                  <a:chExt cx="1092240" cy="109296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571320" y="230364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85360" y="230976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596520" y="232020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55920" y="234792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4" name=""/>
              <p:cNvSpPr/>
              <p:nvPr/>
            </p:nvSpPr>
            <p:spPr>
              <a:xfrm rot="3925800">
                <a:off x="897840" y="40744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3925800">
                <a:off x="1401840" y="3782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2767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379600" y="2129040"/>
              <a:ext cx="2183040" cy="3600720"/>
              <a:chOff x="2379600" y="2129040"/>
              <a:chExt cx="2183040" cy="360072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2856600" y="3048120"/>
                <a:ext cx="1706040" cy="2681640"/>
                <a:chOff x="2856600" y="3048120"/>
                <a:chExt cx="1706040" cy="268164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2856600" y="3227040"/>
                  <a:ext cx="1578600" cy="2502720"/>
                  <a:chOff x="2856600" y="3227040"/>
                  <a:chExt cx="1578600" cy="25027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rot="3876600">
                    <a:off x="2392920" y="419904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3876600">
                    <a:off x="3898800" y="516780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3351240" y="3048120"/>
                  <a:ext cx="1211400" cy="1920240"/>
                  <a:chOff x="3351240" y="3048120"/>
                  <a:chExt cx="1211400" cy="192024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V="1" rot="3876600">
                    <a:off x="2995560" y="379404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V="1" rot="3876600">
                    <a:off x="4133520" y="45453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4" name=""/>
              <p:cNvGrpSpPr/>
              <p:nvPr/>
            </p:nvGrpSpPr>
            <p:grpSpPr>
              <a:xfrm>
                <a:off x="2379600" y="2129040"/>
                <a:ext cx="1441800" cy="1440720"/>
                <a:chOff x="2379600" y="2129040"/>
                <a:chExt cx="1441800" cy="14407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379600" y="212904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379600" y="212904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475000" y="22226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475000" y="22258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536920" y="228636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2554200" y="2303640"/>
                  <a:ext cx="1092240" cy="1092960"/>
                  <a:chOff x="2554200" y="2303640"/>
                  <a:chExt cx="1092240" cy="1092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2554200" y="230364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568240" y="230976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579400" y="232020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638800" y="234792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5" name=""/>
              <p:cNvSpPr/>
              <p:nvPr/>
            </p:nvSpPr>
            <p:spPr>
              <a:xfrm rot="3925800">
                <a:off x="2874960" y="40744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3925800">
                <a:off x="3378240" y="3782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2767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4427640" y="2129040"/>
              <a:ext cx="2182680" cy="3600720"/>
              <a:chOff x="4427640" y="2129040"/>
              <a:chExt cx="2182680" cy="36007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4904280" y="3048120"/>
                <a:ext cx="1706040" cy="2681640"/>
                <a:chOff x="4904280" y="3048120"/>
                <a:chExt cx="1706040" cy="2681640"/>
              </a:xfrm>
            </p:grpSpPr>
            <p:grpSp>
              <p:nvGrpSpPr>
                <p:cNvPr id="449" name=""/>
                <p:cNvGrpSpPr/>
                <p:nvPr/>
              </p:nvGrpSpPr>
              <p:grpSpPr>
                <a:xfrm>
                  <a:off x="4904280" y="3227040"/>
                  <a:ext cx="1578600" cy="2502720"/>
                  <a:chOff x="4904280" y="3227040"/>
                  <a:chExt cx="1578600" cy="25027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876600">
                    <a:off x="4440600" y="419904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876600">
                    <a:off x="5946480" y="516780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398920" y="3048120"/>
                  <a:ext cx="1211400" cy="1920240"/>
                  <a:chOff x="5398920" y="3048120"/>
                  <a:chExt cx="1211400" cy="19202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 rot="3876600">
                    <a:off x="5043240" y="379404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V="1" rot="3876600">
                    <a:off x="6181200" y="45453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5" name=""/>
              <p:cNvGrpSpPr/>
              <p:nvPr/>
            </p:nvGrpSpPr>
            <p:grpSpPr>
              <a:xfrm>
                <a:off x="4427640" y="2129040"/>
                <a:ext cx="1441440" cy="1440720"/>
                <a:chOff x="4427640" y="2129040"/>
                <a:chExt cx="1441440" cy="14407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4427640" y="212904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427640" y="212904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523040" y="222264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523040" y="22258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84960" y="228636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4602240" y="2303640"/>
                  <a:ext cx="1091880" cy="1092960"/>
                  <a:chOff x="4602240" y="2303640"/>
                  <a:chExt cx="1091880" cy="1092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4602240" y="230364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616280" y="230976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627440" y="232020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686840" y="234792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6" name=""/>
              <p:cNvSpPr/>
              <p:nvPr/>
            </p:nvSpPr>
            <p:spPr>
              <a:xfrm rot="3925800">
                <a:off x="4932000" y="40744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3925800">
                <a:off x="5435640" y="3782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2767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6442200" y="1970280"/>
              <a:ext cx="2399760" cy="3832560"/>
              <a:chOff x="6442200" y="1970280"/>
              <a:chExt cx="2399760" cy="383256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7136280" y="3121200"/>
                <a:ext cx="1705680" cy="2681640"/>
                <a:chOff x="7136280" y="3121200"/>
                <a:chExt cx="1705680" cy="268164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7136280" y="3300120"/>
                  <a:ext cx="1578600" cy="2502720"/>
                  <a:chOff x="7136280" y="3300120"/>
                  <a:chExt cx="1578600" cy="25027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3876600">
                    <a:off x="6672600" y="427212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3876600">
                    <a:off x="8178480" y="524088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7630560" y="3121200"/>
                  <a:ext cx="1211400" cy="1920240"/>
                  <a:chOff x="7630560" y="3121200"/>
                  <a:chExt cx="1211400" cy="19202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V="1" rot="3876600">
                    <a:off x="7274880" y="386712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V="1" rot="3876600">
                    <a:off x="8412840" y="461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6442200" y="197028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442200" y="197028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558120" y="208296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559560" y="20862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632640" y="215928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6653160" y="2179800"/>
                <a:ext cx="1312920" cy="1310400"/>
                <a:chOff x="6653160" y="2179800"/>
                <a:chExt cx="1312920" cy="13104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6653160" y="217980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69720" y="218700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683400" y="219960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754680" y="223308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 rot="3925800">
                <a:off x="7147080" y="4233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3925800">
                <a:off x="7649640" y="3941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2767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777960" y="14796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68400" y="14796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49840" y="14796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95000" y="14367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492" name=""/>
            <p:cNvCxnSpPr>
              <a:stCxn id="488" idx="3"/>
              <a:endCxn id="489" idx="1"/>
            </p:cNvCxnSpPr>
            <p:nvPr/>
          </p:nvCxnSpPr>
          <p:spPr>
            <a:xfrm>
              <a:off x="1514160" y="1663560"/>
              <a:ext cx="122292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9" idx="3"/>
              <a:endCxn id="490" idx="1"/>
            </p:cNvCxnSpPr>
            <p:nvPr/>
          </p:nvCxnSpPr>
          <p:spPr>
            <a:xfrm>
              <a:off x="3504960" y="1663560"/>
              <a:ext cx="121356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90" idx="3"/>
              <a:endCxn id="491" idx="1"/>
            </p:cNvCxnSpPr>
            <p:nvPr/>
          </p:nvCxnSpPr>
          <p:spPr>
            <a:xfrm>
              <a:off x="5486040" y="1663920"/>
              <a:ext cx="1220040" cy="216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b5f6c"/>
              </a:gs>
              <a:gs pos="100000">
                <a:srgbClr val="81cfe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74e4d"/>
              </a:gs>
              <a:gs pos="100000">
                <a:srgbClr val="55aba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f4a68"/>
              </a:gs>
              <a:gs pos="100000">
                <a:srgbClr val="22a2e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f4a68"/>
              </a:gs>
              <a:gs pos="100000">
                <a:srgbClr val="22a2e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74e4d"/>
              </a:gs>
              <a:gs pos="100000">
                <a:srgbClr val="55aba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b5f6c"/>
              </a:gs>
              <a:gs pos="100000">
                <a:srgbClr val="81cfe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111680" y="1630080"/>
            <a:ext cx="6436800" cy="1387800"/>
            <a:chOff x="1111680" y="1630080"/>
            <a:chExt cx="6436800" cy="1387800"/>
          </a:xfrm>
        </p:grpSpPr>
        <p:sp>
          <p:nvSpPr>
            <p:cNvPr id="508" name="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e4d"/>
                </a:gs>
              </a:gsLst>
              <a:lin ang="198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286360" y="2026800"/>
              <a:ext cx="932040" cy="131760"/>
              <a:chOff x="2286360" y="2026800"/>
              <a:chExt cx="932040" cy="131760"/>
            </a:xfrm>
          </p:grpSpPr>
          <p:sp>
            <p:nvSpPr>
              <p:cNvPr id="510" name="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375640" y="20278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077280" y="20289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52520" y="20700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418800">
              <a:off x="304308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b5f6c"/>
                </a:gs>
              </a:gsLst>
              <a:lin ang="198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007520" y="2026800"/>
              <a:ext cx="932040" cy="131760"/>
              <a:chOff x="4007520" y="2026800"/>
              <a:chExt cx="932040" cy="131760"/>
            </a:xfrm>
          </p:grpSpPr>
          <p:sp>
            <p:nvSpPr>
              <p:cNvPr id="516" name=""/>
              <p:cNvSpPr/>
              <p:nvPr/>
            </p:nvSpPr>
            <p:spPr>
              <a:xfrm>
                <a:off x="400752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096800" y="20278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798440" y="20289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73680" y="20700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rot="3418800">
              <a:off x="4692240" y="17892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e4d"/>
                </a:gs>
              </a:gsLst>
              <a:lin ang="198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728680" y="2026800"/>
              <a:ext cx="1218600" cy="131760"/>
              <a:chOff x="5728680" y="2026800"/>
              <a:chExt cx="1218600" cy="131760"/>
            </a:xfrm>
          </p:grpSpPr>
          <p:sp>
            <p:nvSpPr>
              <p:cNvPr id="522" name=""/>
              <p:cNvSpPr/>
              <p:nvPr/>
            </p:nvSpPr>
            <p:spPr>
              <a:xfrm>
                <a:off x="5728680" y="20268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4532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62600" y="20289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861240" y="20700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3418800">
              <a:off x="6413400" y="17892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b5f6c"/>
                </a:gs>
              </a:gsLst>
              <a:lin ang="198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512280" y="563400"/>
            <a:ext cx="7379280" cy="5581080"/>
            <a:chOff x="512280" y="563400"/>
            <a:chExt cx="7379280" cy="5581080"/>
          </a:xfrm>
        </p:grpSpPr>
        <p:sp>
          <p:nvSpPr>
            <p:cNvPr id="538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13856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2c8c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2a2e2"/>
                </a:gs>
                <a:gs pos="100000">
                  <a:srgbClr val="17709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6dad9"/>
                </a:gs>
                <a:gs pos="100000">
                  <a:srgbClr val="55aba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rot="20602200">
              <a:off x="14032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b5f6c"/>
                </a:gs>
                <a:gs pos="100000">
                  <a:srgbClr val="81cfe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dc6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4d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539200">
              <a:off x="930600" y="146736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7e7325"/>
                </a:gs>
                <a:gs pos="100000">
                  <a:srgbClr val="dcca42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91000" y="3983040"/>
              <a:ext cx="924120" cy="131148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e7dc86"/>
                </a:gs>
                <a:gs pos="100000">
                  <a:srgbClr val="dcca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914400" y="1447920"/>
            <a:ext cx="7391520" cy="4724280"/>
            <a:chOff x="914400" y="1447920"/>
            <a:chExt cx="7391520" cy="4724280"/>
          </a:xfrm>
        </p:grpSpPr>
        <p:sp>
          <p:nvSpPr>
            <p:cNvPr id="559" name=""/>
            <p:cNvSpPr/>
            <p:nvPr/>
          </p:nvSpPr>
          <p:spPr>
            <a:xfrm>
              <a:off x="1752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709d"/>
                </a:gs>
                <a:gs pos="50000">
                  <a:srgbClr val="22a2e2"/>
                </a:gs>
                <a:gs pos="100000">
                  <a:srgbClr val="17709d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0352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4bb2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914400" y="4083120"/>
              <a:ext cx="1486080" cy="1514520"/>
              <a:chOff x="914400" y="4083120"/>
              <a:chExt cx="1486080" cy="151452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914400" y="40831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1cfeb"/>
                    </a:gs>
                    <a:gs pos="100000">
                      <a:srgbClr val="5182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084320" y="41079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1cf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072440" y="4854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066680" y="5683320"/>
              <a:ext cx="1206720" cy="38916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6781680" y="4038840"/>
              <a:ext cx="1524240" cy="1531800"/>
              <a:chOff x="6781680" y="4038840"/>
              <a:chExt cx="1524240" cy="15318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6781680" y="4038840"/>
                <a:ext cx="1524240" cy="1531800"/>
                <a:chOff x="6781680" y="4038840"/>
                <a:chExt cx="1524240" cy="15318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781680" y="403884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ca42"/>
                    </a:gs>
                    <a:gs pos="100000">
                      <a:srgbClr val="3530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955920" y="406404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cca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6924600" y="475272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6781680" y="561816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2819520" y="4083120"/>
              <a:ext cx="1523880" cy="1521000"/>
              <a:chOff x="2819520" y="4083120"/>
              <a:chExt cx="1523880" cy="1521000"/>
            </a:xfrm>
          </p:grpSpPr>
          <p:sp>
            <p:nvSpPr>
              <p:cNvPr id="575" name=""/>
              <p:cNvSpPr/>
              <p:nvPr/>
            </p:nvSpPr>
            <p:spPr>
              <a:xfrm>
                <a:off x="2819520" y="408312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b57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993760" y="41083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5a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2895480" y="4813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819520" y="568332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4876920" y="4038840"/>
              <a:ext cx="1523880" cy="1520640"/>
              <a:chOff x="4876920" y="4038840"/>
              <a:chExt cx="1523880" cy="152064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4876920" y="4038840"/>
                <a:ext cx="1523880" cy="1520640"/>
                <a:chOff x="4876920" y="4038840"/>
                <a:chExt cx="1523880" cy="15206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4876920" y="403884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2a2e2"/>
                    </a:gs>
                    <a:gs pos="100000">
                      <a:srgbClr val="11527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051160" y="406404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22a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4953240" y="47685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4876920" y="563904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1871640"/>
            <a:ext cx="5410080" cy="665280"/>
            <a:chOff x="1828800" y="1871640"/>
            <a:chExt cx="5410080" cy="665280"/>
          </a:xfrm>
        </p:grpSpPr>
        <p:grpSp>
          <p:nvGrpSpPr>
            <p:cNvPr id="98" name=""/>
            <p:cNvGrpSpPr/>
            <p:nvPr/>
          </p:nvGrpSpPr>
          <p:grpSpPr>
            <a:xfrm>
              <a:off x="1828800" y="1871640"/>
              <a:ext cx="762120" cy="665280"/>
              <a:chOff x="1828800" y="1871640"/>
              <a:chExt cx="762120" cy="665280"/>
            </a:xfrm>
          </p:grpSpPr>
          <p:sp>
            <p:nvSpPr>
              <p:cNvPr id="99" name=""/>
              <p:cNvSpPr/>
              <p:nvPr/>
            </p:nvSpPr>
            <p:spPr>
              <a:xfrm>
                <a:off x="1834920" y="18828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28800" y="1871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73080" y="19108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74e4d"/>
                  </a:gs>
                </a:gsLst>
                <a:lin ang="13500000"/>
              </a:gradFill>
              <a:ln w="9360">
                <a:solidFill>
                  <a:srgbClr val="132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438280" y="24811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08560" y="19479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32767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7520" y="196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828800" y="2786040"/>
            <a:ext cx="5410080" cy="665280"/>
            <a:chOff x="1828800" y="2786040"/>
            <a:chExt cx="5410080" cy="665280"/>
          </a:xfrm>
        </p:grpSpPr>
        <p:grpSp>
          <p:nvGrpSpPr>
            <p:cNvPr id="106" name=""/>
            <p:cNvGrpSpPr/>
            <p:nvPr/>
          </p:nvGrpSpPr>
          <p:grpSpPr>
            <a:xfrm>
              <a:off x="1828800" y="2786040"/>
              <a:ext cx="762120" cy="665280"/>
              <a:chOff x="1828800" y="2786040"/>
              <a:chExt cx="762120" cy="665280"/>
            </a:xfrm>
          </p:grpSpPr>
          <p:sp>
            <p:nvSpPr>
              <p:cNvPr id="107" name=""/>
              <p:cNvSpPr/>
              <p:nvPr/>
            </p:nvSpPr>
            <p:spPr>
              <a:xfrm>
                <a:off x="183492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2880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73080" y="2825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2a2e2"/>
                  </a:gs>
                  <a:gs pos="100000">
                    <a:srgbClr val="0f4a68"/>
                  </a:gs>
                </a:gsLst>
                <a:lin ang="13500000"/>
              </a:gradFill>
              <a:ln w="9360">
                <a:solidFill>
                  <a:srgbClr val="132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438280" y="33955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8560" y="2862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32767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27520" y="288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828800" y="3678120"/>
            <a:ext cx="5410080" cy="665280"/>
            <a:chOff x="1828800" y="3678120"/>
            <a:chExt cx="5410080" cy="665280"/>
          </a:xfrm>
        </p:grpSpPr>
        <p:grpSp>
          <p:nvGrpSpPr>
            <p:cNvPr id="114" name=""/>
            <p:cNvGrpSpPr/>
            <p:nvPr/>
          </p:nvGrpSpPr>
          <p:grpSpPr>
            <a:xfrm>
              <a:off x="1828800" y="3678120"/>
              <a:ext cx="762120" cy="665280"/>
              <a:chOff x="1828800" y="3678120"/>
              <a:chExt cx="762120" cy="665280"/>
            </a:xfrm>
          </p:grpSpPr>
          <p:sp>
            <p:nvSpPr>
              <p:cNvPr id="115" name=""/>
              <p:cNvSpPr/>
              <p:nvPr/>
            </p:nvSpPr>
            <p:spPr>
              <a:xfrm>
                <a:off x="1834920" y="3689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28800" y="3678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73080" y="3717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74e4d"/>
                  </a:gs>
                </a:gsLst>
                <a:lin ang="13500000"/>
              </a:gradFill>
              <a:ln w="9360">
                <a:solidFill>
                  <a:srgbClr val="132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38280" y="42876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8560" y="37544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32767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27520" y="377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828800" y="4592520"/>
            <a:ext cx="5410080" cy="665280"/>
            <a:chOff x="1828800" y="4592520"/>
            <a:chExt cx="5410080" cy="665280"/>
          </a:xfrm>
        </p:grpSpPr>
        <p:grpSp>
          <p:nvGrpSpPr>
            <p:cNvPr id="122" name=""/>
            <p:cNvGrpSpPr/>
            <p:nvPr/>
          </p:nvGrpSpPr>
          <p:grpSpPr>
            <a:xfrm>
              <a:off x="1828800" y="4592520"/>
              <a:ext cx="762120" cy="665280"/>
              <a:chOff x="1828800" y="4592520"/>
              <a:chExt cx="762120" cy="665280"/>
            </a:xfrm>
          </p:grpSpPr>
          <p:sp>
            <p:nvSpPr>
              <p:cNvPr id="123" name=""/>
              <p:cNvSpPr/>
              <p:nvPr/>
            </p:nvSpPr>
            <p:spPr>
              <a:xfrm>
                <a:off x="1834920" y="46036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28800" y="45925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73080" y="46317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2a2e2"/>
                  </a:gs>
                  <a:gs pos="100000">
                    <a:srgbClr val="0f4a68"/>
                  </a:gs>
                </a:gsLst>
                <a:lin ang="13500000"/>
              </a:gradFill>
              <a:ln w="9360">
                <a:solidFill>
                  <a:srgbClr val="132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438280" y="52020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08560" y="46688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32767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7520" y="469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3276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F15-31DA-42D0-BEB9-4FF4425364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32767"/>
                    </a:gs>
                    <a:gs pos="100000">
                      <a:srgbClr val="22a2e2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32767"/>
                  </a:gs>
                  <a:gs pos="100000">
                    <a:srgbClr val="22a2e2"/>
                  </a:gs>
                </a:gsLst>
                <a:lin ang="108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2666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5aba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525780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32767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132767"/>
              </a:solidFill>
              <a:latin typeface="Arial"/>
            </a:endParaRPr>
          </a:p>
          <a:p>
            <a:pPr>
              <a:buClr>
                <a:srgbClr val="1327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132767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13276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32767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132767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590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5aba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43000" y="3200400"/>
            <a:ext cx="2286000" cy="2666880"/>
            <a:chOff x="1143000" y="3200400"/>
            <a:chExt cx="2286000" cy="2666880"/>
          </a:xfrm>
        </p:grpSpPr>
        <p:sp>
          <p:nvSpPr>
            <p:cNvPr id="135" name=""/>
            <p:cNvSpPr/>
            <p:nvPr/>
          </p:nvSpPr>
          <p:spPr>
            <a:xfrm>
              <a:off x="114300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38400" y="34005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8e0f4"/>
              </a:gs>
              <a:gs pos="100000">
                <a:srgbClr val="22a2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39" name="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5251"/>
                    </a:gs>
                    <a:gs pos="100000">
                      <a:srgbClr val="55aba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aba9"/>
                    </a:gs>
                    <a:gs pos="100000">
                      <a:srgbClr val="b2d8d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2a2e2"/>
                  </a:gs>
                  <a:gs pos="100000">
                    <a:srgbClr val="0f4a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1ddf3"/>
                  </a:gs>
                  <a:gs pos="100000">
                    <a:srgbClr val="22a2e2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22a2e2">
                      <a:alpha val="48235"/>
                    </a:srgbClr>
                  </a:gs>
                  <a:gs pos="100000">
                    <a:srgbClr val="1a7f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22a2e2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2720" y="3200400"/>
            <a:ext cx="2286000" cy="2666880"/>
            <a:chOff x="5562720" y="3200400"/>
            <a:chExt cx="2286000" cy="2666880"/>
          </a:xfrm>
        </p:grpSpPr>
        <p:sp>
          <p:nvSpPr>
            <p:cNvPr id="149" name=""/>
            <p:cNvSpPr/>
            <p:nvPr/>
          </p:nvSpPr>
          <p:spPr>
            <a:xfrm>
              <a:off x="556272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10400" y="34290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8e0f4"/>
              </a:gs>
              <a:gs pos="100000">
                <a:srgbClr val="22a2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488240"/>
            <a:ext cx="8130240" cy="5086440"/>
            <a:chOff x="380880" y="1488240"/>
            <a:chExt cx="8130240" cy="5086440"/>
          </a:xfrm>
        </p:grpSpPr>
        <p:sp>
          <p:nvSpPr>
            <p:cNvPr id="154" name="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7313040" y="279072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a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33224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a3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65400" y="49496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d49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b4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72" name="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90720" y="1523880"/>
            <a:ext cx="7010280" cy="4343400"/>
            <a:chOff x="990720" y="1523880"/>
            <a:chExt cx="7010280" cy="4343400"/>
          </a:xfrm>
        </p:grpSpPr>
        <p:sp>
          <p:nvSpPr>
            <p:cNvPr id="176" name=""/>
            <p:cNvSpPr/>
            <p:nvPr/>
          </p:nvSpPr>
          <p:spPr>
            <a:xfrm>
              <a:off x="3657600" y="396216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a68"/>
                </a:gs>
                <a:gs pos="50000">
                  <a:srgbClr val="22a2e2"/>
                </a:gs>
                <a:gs pos="100000">
                  <a:srgbClr val="0f4a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7600" y="34290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a68"/>
                </a:gs>
                <a:gs pos="50000">
                  <a:srgbClr val="22a2e2"/>
                </a:gs>
                <a:gs pos="100000">
                  <a:srgbClr val="0f4a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7600" y="289548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a68"/>
                </a:gs>
                <a:gs pos="50000">
                  <a:srgbClr val="22a2e2"/>
                </a:gs>
                <a:gs pos="100000">
                  <a:srgbClr val="0f4a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99040" y="3125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9040" y="3659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99040" y="419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1800" y="266688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072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7040" y="236196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7220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48520" y="236196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89640" y="266688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95840" y="152388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74e4d"/>
                </a:gs>
                <a:gs pos="50000">
                  <a:srgbClr val="55aba9"/>
                </a:gs>
                <a:gs pos="100000">
                  <a:srgbClr val="274e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24480" y="228600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74920" y="1757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71800" y="525780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74920" y="5491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02160" y="464796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grpSp>
          <p:nvGrpSpPr>
            <p:cNvPr id="196" name=""/>
            <p:cNvGrpSpPr/>
            <p:nvPr/>
          </p:nvGrpSpPr>
          <p:grpSpPr>
            <a:xfrm>
              <a:off x="2895480" y="1752480"/>
              <a:ext cx="3196800" cy="2890800"/>
              <a:chOff x="2895480" y="1752480"/>
              <a:chExt cx="3196800" cy="2890800"/>
            </a:xfrm>
          </p:grpSpPr>
          <p:sp>
            <p:nvSpPr>
              <p:cNvPr id="197" name=""/>
              <p:cNvSpPr/>
              <p:nvPr/>
            </p:nvSpPr>
            <p:spPr>
              <a:xfrm flipH="1" rot="16200000">
                <a:off x="2813400" y="286596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7df"/>
                  </a:gs>
                  <a:gs pos="100000">
                    <a:srgbClr val="184b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5400000">
                <a:off x="5683320" y="281160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7df"/>
                  </a:gs>
                  <a:gs pos="100000">
                    <a:srgbClr val="184bb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800000">
                <a:off x="4250520" y="431640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7df"/>
                  </a:gs>
                  <a:gs pos="100000">
                    <a:srgbClr val="184b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222360" y="175248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68880" y="189684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02440" y="203184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5aba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02440" y="203184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34560" y="216360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2d5c5b"/>
                  </a:gs>
                  <a:gs pos="50000">
                    <a:srgbClr val="55aba9"/>
                  </a:gs>
                  <a:gs pos="100000">
                    <a:srgbClr val="2d5c5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34560" y="216360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5d1e"/>
                </a:gs>
                <a:gs pos="50000">
                  <a:srgbClr val="dcca42"/>
                </a:gs>
                <a:gs pos="100000">
                  <a:srgbClr val="655d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5d1e"/>
                </a:gs>
                <a:gs pos="50000">
                  <a:srgbClr val="dcca42"/>
                </a:gs>
                <a:gs pos="100000">
                  <a:srgbClr val="655d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5d1e"/>
                </a:gs>
                <a:gs pos="50000">
                  <a:srgbClr val="dcca42"/>
                </a:gs>
                <a:gs pos="100000">
                  <a:srgbClr val="655d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a68"/>
                </a:gs>
                <a:gs pos="50000">
                  <a:srgbClr val="22a2e2"/>
                </a:gs>
                <a:gs pos="100000">
                  <a:srgbClr val="0f4a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a68"/>
                </a:gs>
                <a:gs pos="50000">
                  <a:srgbClr val="22a2e2"/>
                </a:gs>
                <a:gs pos="100000">
                  <a:srgbClr val="0f4a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a68"/>
                </a:gs>
                <a:gs pos="50000">
                  <a:srgbClr val="22a2e2"/>
                </a:gs>
                <a:gs pos="100000">
                  <a:srgbClr val="0f4a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2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0f4a68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b5f6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53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