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AB5-E1B3-4D98-AF83-0ABB2225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6BC-E5E1-4282-AB2C-0916F80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AEC-64A8-4AC8-8601-301F9EB5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1ED-62CC-4E93-9121-CE6AE2FA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1E0C-69AF-4135-8641-2B0D390A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14C-88EF-4365-A7B2-7D57BBE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5BD4-773D-495F-AC8E-0012BC2A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D54-5D4B-4022-9430-7522CEE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1C11-7FA5-4524-98BE-00792915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C6D0-0C46-4044-9ED3-BD36B0EA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BE3-EF6B-4210-BFB1-CC8EDCE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238-B7AA-49A1-8619-AA8F444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F85-0E55-4034-AA48-C3FF2432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5AD4-83CA-446E-A1AA-1B03F24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3AA1-7470-4750-A9AB-44C7941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3BFD-F57D-4D1F-96B9-8798538C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EE69-4C0E-4CC8-8A8C-1AE736F8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7AE-8F61-4240-9D6D-21F54AA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221-3646-4E6E-9555-F507122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072-552A-4208-9807-37DDF78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6FD-D640-4285-B8F1-BB45AC8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BA7-0F91-45BD-AE9A-B4A68DF2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5AD-6885-4B6A-9ABB-38789CB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582-5BD3-42C0-B9DC-A5E985C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3AB-BFC2-497F-9B75-E39428961457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8B2-9433-4781-AFDE-302583118B75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7183440" y="2937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-4200120" y="1035360"/>
            <a:ext cx="5070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5086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1436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色牡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7183440" y="2937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-4200120" y="1035360"/>
            <a:ext cx="5070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5086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680" y="1714680"/>
            <a:ext cx="82072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543-2B0C-434F-8E55-EEDF6172D3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999720"/>
            <a:ext cx="2772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187280" y="164304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18344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23840" y="81000"/>
            <a:ext cx="48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本模板有第一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提供，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56:27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5:55Z</dcterms:modified>
  <cp:revision>2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