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4C102-51C0-4D93-AD1B-FECDF5E7C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362320" y="1676520"/>
            <a:ext cx="624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</a:pP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362320" y="3507480"/>
            <a:ext cx="624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</a:pP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7AC72-3E4E-4E44-B880-04936C28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362320" y="1676520"/>
            <a:ext cx="3048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</a:pP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64160" y="1676520"/>
            <a:ext cx="3048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</a:pP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362320" y="3507480"/>
            <a:ext cx="3048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</a:pP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564160" y="3507480"/>
            <a:ext cx="3048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</a:pP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88BC2-045F-409A-B822-7804BD9AA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362320" y="1676520"/>
            <a:ext cx="201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</a:pP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474800" y="1676520"/>
            <a:ext cx="201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</a:pP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87640" y="1676520"/>
            <a:ext cx="201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</a:pP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362320" y="3507480"/>
            <a:ext cx="201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</a:pP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474800" y="3507480"/>
            <a:ext cx="201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</a:pP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87640" y="3507480"/>
            <a:ext cx="201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</a:pP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B0A57-281F-43EE-B38C-B3874C5A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362320" y="1676520"/>
            <a:ext cx="62481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</a:pP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2BDB4-2517-4DA5-8239-E6961412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362320" y="1676520"/>
            <a:ext cx="62481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</a:pP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E0179-D01B-40F4-9356-6E2F1FCA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362320" y="1676520"/>
            <a:ext cx="30488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</a:pP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64160" y="1676520"/>
            <a:ext cx="30488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</a:pP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FF04F-1036-4965-9BBE-0FACD2BA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4D963-1017-418E-A99E-A397FB3C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362320" y="533160"/>
            <a:ext cx="6248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3C453-06AA-49A1-9855-F0AB693C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362320" y="1676520"/>
            <a:ext cx="3048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</a:pP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64160" y="1676520"/>
            <a:ext cx="30488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</a:pP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362320" y="3507480"/>
            <a:ext cx="3048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</a:pP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100DB-8D8D-4A8B-9144-7F2909B2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362320" y="1676520"/>
            <a:ext cx="30488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</a:pP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64160" y="1676520"/>
            <a:ext cx="3048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</a:pP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564160" y="3507480"/>
            <a:ext cx="3048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</a:pP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6E581-D3E8-41C6-AB90-8D6BDC52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362320" y="1676520"/>
            <a:ext cx="3048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</a:pP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564160" y="1676520"/>
            <a:ext cx="3048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</a:pP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362320" y="3507480"/>
            <a:ext cx="624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</a:pP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602F9-8996-479E-A838-2FD7F3CD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4"/>
          <p:cNvSpPr/>
          <p:nvPr/>
        </p:nvSpPr>
        <p:spPr>
          <a:xfrm>
            <a:off x="0" y="3511440"/>
            <a:ext cx="9144000" cy="334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362320" y="1676520"/>
            <a:ext cx="62481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ff"/>
              </a:buClr>
              <a:buSzPct val="25000"/>
              <a:buFont typeface="Wingdings" charset="2"/>
              <a:buChar char=""/>
            </a:pPr>
            <a:r>
              <a:rPr b="1" lang="en-US" sz="2500" spc="-1" strike="noStrike">
                <a:solidFill>
                  <a:srgbClr val="cc9900"/>
                </a:solidFill>
                <a:latin typeface="Verdana"/>
              </a:rPr>
              <a:t>Click to edit the outline text format</a:t>
            </a: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SzPct val="60000"/>
              <a:buFont typeface="Wingdings" charset="2"/>
              <a:buChar char=""/>
            </a:pPr>
            <a:r>
              <a:rPr b="1" lang="en-US" sz="2500" spc="-1" strike="noStrike">
                <a:solidFill>
                  <a:srgbClr val="cc9900"/>
                </a:solidFill>
                <a:latin typeface="Verdana"/>
              </a:rPr>
              <a:t>Second Outline Level</a:t>
            </a: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969696"/>
              </a:buClr>
              <a:buSzPct val="60000"/>
              <a:buFont typeface="Wingdings" charset="2"/>
              <a:buChar char=""/>
            </a:pPr>
            <a:r>
              <a:rPr b="1" lang="en-US" sz="2500" spc="-1" strike="noStrike">
                <a:solidFill>
                  <a:srgbClr val="cc9900"/>
                </a:solidFill>
                <a:latin typeface="Verdana"/>
              </a:rPr>
              <a:t>Third Outline Level</a:t>
            </a: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ffffff"/>
              </a:buClr>
              <a:buSzPct val="60000"/>
              <a:buFont typeface="Wingdings" charset="2"/>
              <a:buChar char=""/>
            </a:pPr>
            <a:r>
              <a:rPr b="1" lang="en-US" sz="2500" spc="-1" strike="noStrike">
                <a:solidFill>
                  <a:srgbClr val="cc9900"/>
                </a:solidFill>
                <a:latin typeface="Verdana"/>
              </a:rPr>
              <a:t>Fourth Outline Level</a:t>
            </a: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996600"/>
              </a:buClr>
              <a:buSzPct val="60000"/>
              <a:buFont typeface="Wingdings" charset="2"/>
              <a:buChar char=""/>
            </a:pPr>
            <a:r>
              <a:rPr b="1" lang="en-US" sz="2500" spc="-1" strike="noStrike">
                <a:solidFill>
                  <a:srgbClr val="cc9900"/>
                </a:solidFill>
                <a:latin typeface="Verdana"/>
              </a:rPr>
              <a:t>Fifth Outline Level</a:t>
            </a: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SzPct val="60000"/>
              <a:buFont typeface="Wingdings" charset="2"/>
              <a:buChar char=""/>
            </a:pPr>
            <a:r>
              <a:rPr b="1" lang="en-US" sz="2500" spc="-1" strike="noStrike">
                <a:solidFill>
                  <a:srgbClr val="cc9900"/>
                </a:solidFill>
                <a:latin typeface="Verdana"/>
              </a:rPr>
              <a:t>Sixth Outline Level</a:t>
            </a: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SzPct val="60000"/>
              <a:buFont typeface="Wingdings" charset="2"/>
              <a:buChar char=""/>
            </a:pPr>
            <a:r>
              <a:rPr b="1" lang="en-US" sz="2500" spc="-1" strike="noStrike">
                <a:solidFill>
                  <a:srgbClr val="cc9900"/>
                </a:solidFill>
                <a:latin typeface="Verdana"/>
              </a:rPr>
              <a:t>Seventh Outline Level</a:t>
            </a: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" name="Rectangle 35"/>
          <p:cNvSpPr/>
          <p:nvPr/>
        </p:nvSpPr>
        <p:spPr>
          <a:xfrm>
            <a:off x="0" y="2014560"/>
            <a:ext cx="2135160" cy="484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Rectangle 36"/>
          <p:cNvSpPr/>
          <p:nvPr/>
        </p:nvSpPr>
        <p:spPr>
          <a:xfrm>
            <a:off x="0" y="6546960"/>
            <a:ext cx="9144000" cy="311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26520" y="6477120"/>
            <a:ext cx="2514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  <a:ea typeface="Gulim"/>
              </a:defRPr>
            </a:lvl1pPr>
          </a:lstStyle>
          <a:p>
            <a: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CF32-4F5E-4AB4-808F-142F6EEA1724}" type="slidenum">
              <a:rPr b="0" lang="zh-CN" sz="1200" spc="-1" strike="noStrike">
                <a:solidFill>
                  <a:srgbClr val="ffffff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594324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Oval 37"/>
          <p:cNvSpPr/>
          <p:nvPr/>
        </p:nvSpPr>
        <p:spPr>
          <a:xfrm>
            <a:off x="547560" y="365040"/>
            <a:ext cx="1122480" cy="1122480"/>
          </a:xfrm>
          <a:prstGeom prst="ellips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Text Box 38"/>
          <p:cNvSpPr/>
          <p:nvPr/>
        </p:nvSpPr>
        <p:spPr>
          <a:xfrm>
            <a:off x="404640" y="70956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HY견고딕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Text Box 39"/>
          <p:cNvSpPr/>
          <p:nvPr/>
        </p:nvSpPr>
        <p:spPr>
          <a:xfrm>
            <a:off x="6254280" y="6232680"/>
            <a:ext cx="331452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  <a:ea typeface="HY견고딕"/>
              </a:rPr>
              <a:t>YOUR SITE HER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金色</a:t>
            </a: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Gulim"/>
              </a:rPr>
              <a:t>企业</a:t>
            </a: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模板免费下载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47920" y="2057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Verdana"/>
                <a:ea typeface="Gulim"/>
              </a:rPr>
              <a:t>Add your company slogan</a:t>
            </a:r>
            <a:endParaRPr b="1" lang="en-US" sz="2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9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  <a:ea typeface="Gulim"/>
              </a:rPr>
              <a:t>Related Documents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362320" y="1676520"/>
            <a:ext cx="62481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25000"/>
              <a:buFont typeface="Wingdings" charset="2"/>
              <a:buChar char=""/>
            </a:pPr>
            <a:r>
              <a:rPr b="1" lang="en-US" sz="2000" spc="-1" strike="noStrike">
                <a:solidFill>
                  <a:srgbClr val="cc9900"/>
                </a:solidFill>
                <a:latin typeface="Verdana"/>
                <a:ea typeface="Gulim"/>
              </a:rPr>
              <a:t>Competitors </a:t>
            </a:r>
            <a:endParaRPr b="1" lang="en-US" sz="20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You may want to allocate one slide per competitor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cc99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25000"/>
              <a:buFont typeface="Wingdings" charset="2"/>
              <a:buChar char=""/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Strengths</a:t>
            </a:r>
            <a:r>
              <a:rPr b="1" lang="en-US" sz="2000" spc="-1" strike="noStrike">
                <a:solidFill>
                  <a:srgbClr val="cc9900"/>
                </a:solidFill>
                <a:latin typeface="Verdana"/>
                <a:ea typeface="Gulim"/>
              </a:rPr>
              <a:t> </a:t>
            </a:r>
            <a:endParaRPr b="1" lang="en-US" sz="20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Your strengths relative to competitor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25000"/>
              <a:buFont typeface="Wingdings" charset="2"/>
              <a:buChar char=""/>
            </a:pPr>
            <a:r>
              <a:rPr b="1" lang="en-US" sz="2000" spc="-1" strike="noStrike">
                <a:solidFill>
                  <a:srgbClr val="996600"/>
                </a:solidFill>
                <a:latin typeface="Verdana"/>
                <a:ea typeface="Gulim"/>
              </a:rPr>
              <a:t>Weaknesses</a:t>
            </a:r>
            <a:endParaRPr b="1" lang="en-US" sz="20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Your weaknesses relative to competitor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cc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  <a:ea typeface="Gulim"/>
              </a:rPr>
              <a:t>Contents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3" name="Group 16"/>
          <p:cNvGrpSpPr/>
          <p:nvPr/>
        </p:nvGrpSpPr>
        <p:grpSpPr>
          <a:xfrm>
            <a:off x="1752480" y="2022480"/>
            <a:ext cx="5648400" cy="644400"/>
            <a:chOff x="1752480" y="2022480"/>
            <a:chExt cx="5648400" cy="644400"/>
          </a:xfrm>
        </p:grpSpPr>
        <p:sp>
          <p:nvSpPr>
            <p:cNvPr id="54" name="AutoShape 5"/>
            <p:cNvSpPr/>
            <p:nvPr/>
          </p:nvSpPr>
          <p:spPr>
            <a:xfrm>
              <a:off x="1752480" y="2022480"/>
              <a:ext cx="5648400" cy="644400"/>
            </a:xfrm>
            <a:custGeom>
              <a:avLst/>
              <a:gdLst>
                <a:gd name="textAreaLeft" fmla="*/ 75960 w 5648400"/>
                <a:gd name="textAreaRight" fmla="*/ 5572440 w 5648400"/>
                <a:gd name="textAreaTop" fmla="*/ 75960 h 644400"/>
                <a:gd name="textAreaBottom" fmla="*/ 568440 h 644400"/>
              </a:gdLst>
              <a:ahLst/>
              <a:rect l="textAreaLeft" t="textAreaTop" r="textAreaRight" b="textAreaBottom"/>
              <a:pathLst>
                <a:path w="189238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5638" y="21600"/>
                  </a:lnTo>
                  <a:arcTo wR="3600" hR="3600" stAng="10800000" swAng="5400000"/>
                  <a:lnTo>
                    <a:pt x="189238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2117520" y="2143080"/>
              <a:ext cx="4910400" cy="4190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DotumChe"/>
                </a:rPr>
                <a:t>1. Introduc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" name="Group 17"/>
          <p:cNvGrpSpPr/>
          <p:nvPr/>
        </p:nvGrpSpPr>
        <p:grpSpPr>
          <a:xfrm>
            <a:off x="1752480" y="2860560"/>
            <a:ext cx="5648400" cy="644400"/>
            <a:chOff x="1752480" y="2860560"/>
            <a:chExt cx="5648400" cy="644400"/>
          </a:xfrm>
        </p:grpSpPr>
        <p:sp>
          <p:nvSpPr>
            <p:cNvPr id="57" name="AutoShape 18"/>
            <p:cNvSpPr/>
            <p:nvPr/>
          </p:nvSpPr>
          <p:spPr>
            <a:xfrm>
              <a:off x="1752480" y="2860560"/>
              <a:ext cx="5648400" cy="644400"/>
            </a:xfrm>
            <a:custGeom>
              <a:avLst/>
              <a:gdLst>
                <a:gd name="textAreaLeft" fmla="*/ 75960 w 5648400"/>
                <a:gd name="textAreaRight" fmla="*/ 5572440 w 5648400"/>
                <a:gd name="textAreaTop" fmla="*/ 75960 h 644400"/>
                <a:gd name="textAreaBottom" fmla="*/ 568440 h 644400"/>
              </a:gdLst>
              <a:ahLst/>
              <a:rect l="textAreaLeft" t="textAreaTop" r="textAreaRight" b="textAreaBottom"/>
              <a:pathLst>
                <a:path w="189238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5638" y="21600"/>
                  </a:lnTo>
                  <a:arcTo wR="3600" hR="3600" stAng="10800000" swAng="5400000"/>
                  <a:lnTo>
                    <a:pt x="189238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2117520" y="2981160"/>
              <a:ext cx="4910400" cy="4190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DotumChe"/>
                </a:rPr>
                <a:t>2. Strateg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" name="Group 20"/>
          <p:cNvGrpSpPr/>
          <p:nvPr/>
        </p:nvGrpSpPr>
        <p:grpSpPr>
          <a:xfrm>
            <a:off x="1752480" y="3699000"/>
            <a:ext cx="5648400" cy="644400"/>
            <a:chOff x="1752480" y="3699000"/>
            <a:chExt cx="5648400" cy="644400"/>
          </a:xfrm>
        </p:grpSpPr>
        <p:sp>
          <p:nvSpPr>
            <p:cNvPr id="60" name="AutoShape 21"/>
            <p:cNvSpPr/>
            <p:nvPr/>
          </p:nvSpPr>
          <p:spPr>
            <a:xfrm>
              <a:off x="1752480" y="3699000"/>
              <a:ext cx="5648400" cy="644400"/>
            </a:xfrm>
            <a:custGeom>
              <a:avLst/>
              <a:gdLst>
                <a:gd name="textAreaLeft" fmla="*/ 75960 w 5648400"/>
                <a:gd name="textAreaRight" fmla="*/ 5572440 w 5648400"/>
                <a:gd name="textAreaTop" fmla="*/ 75960 h 644400"/>
                <a:gd name="textAreaBottom" fmla="*/ 568440 h 644400"/>
              </a:gdLst>
              <a:ahLst/>
              <a:rect l="textAreaLeft" t="textAreaTop" r="textAreaRight" b="textAreaBottom"/>
              <a:pathLst>
                <a:path w="189238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5638" y="21600"/>
                  </a:lnTo>
                  <a:arcTo wR="3600" hR="3600" stAng="10800000" swAng="5400000"/>
                  <a:lnTo>
                    <a:pt x="189238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Rectangle 22"/>
            <p:cNvSpPr/>
            <p:nvPr/>
          </p:nvSpPr>
          <p:spPr>
            <a:xfrm>
              <a:off x="2117520" y="3819600"/>
              <a:ext cx="4910400" cy="4190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DotumChe"/>
                </a:rPr>
                <a:t>3. Challenges forwar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Group 23"/>
          <p:cNvGrpSpPr/>
          <p:nvPr/>
        </p:nvGrpSpPr>
        <p:grpSpPr>
          <a:xfrm>
            <a:off x="1752480" y="4537080"/>
            <a:ext cx="5648400" cy="644400"/>
            <a:chOff x="1752480" y="4537080"/>
            <a:chExt cx="5648400" cy="644400"/>
          </a:xfrm>
        </p:grpSpPr>
        <p:sp>
          <p:nvSpPr>
            <p:cNvPr id="63" name="AutoShape 24"/>
            <p:cNvSpPr/>
            <p:nvPr/>
          </p:nvSpPr>
          <p:spPr>
            <a:xfrm>
              <a:off x="1752480" y="4537080"/>
              <a:ext cx="5648400" cy="644400"/>
            </a:xfrm>
            <a:custGeom>
              <a:avLst/>
              <a:gdLst>
                <a:gd name="textAreaLeft" fmla="*/ 75960 w 5648400"/>
                <a:gd name="textAreaRight" fmla="*/ 5572440 w 5648400"/>
                <a:gd name="textAreaTop" fmla="*/ 75960 h 644400"/>
                <a:gd name="textAreaBottom" fmla="*/ 568440 h 644400"/>
              </a:gdLst>
              <a:ahLst/>
              <a:rect l="textAreaLeft" t="textAreaTop" r="textAreaRight" b="textAreaBottom"/>
              <a:pathLst>
                <a:path w="189238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5638" y="21600"/>
                  </a:lnTo>
                  <a:arcTo wR="3600" hR="3600" stAng="10800000" swAng="5400000"/>
                  <a:lnTo>
                    <a:pt x="189238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Rectangle 25"/>
            <p:cNvSpPr/>
            <p:nvPr/>
          </p:nvSpPr>
          <p:spPr>
            <a:xfrm>
              <a:off x="2117520" y="4657680"/>
              <a:ext cx="4910400" cy="4190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DotumChe"/>
                </a:rPr>
                <a:t>4. Conclus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  <a:ea typeface="Gulim"/>
              </a:rPr>
              <a:t>One Column Documents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1049400" y="1782720"/>
            <a:ext cx="7047000" cy="3487680"/>
          </a:xfrm>
          <a:prstGeom prst="roundRect">
            <a:avLst>
              <a:gd name="adj" fmla="val 16667"/>
            </a:avLst>
          </a:pr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1187280" y="1925640"/>
            <a:ext cx="6280200" cy="2595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2122560" y="2475000"/>
            <a:ext cx="5843520" cy="265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1371600" y="205740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Sub tit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4038480" y="35812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1.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  <a:ea typeface="Gulim"/>
              </a:rPr>
              <a:t>Two Column Documents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2" name="Group 17"/>
          <p:cNvGrpSpPr/>
          <p:nvPr/>
        </p:nvGrpSpPr>
        <p:grpSpPr>
          <a:xfrm>
            <a:off x="762120" y="2286000"/>
            <a:ext cx="7618320" cy="1338120"/>
            <a:chOff x="762120" y="2286000"/>
            <a:chExt cx="7618320" cy="1338120"/>
          </a:xfrm>
        </p:grpSpPr>
        <p:sp>
          <p:nvSpPr>
            <p:cNvPr id="73" name="AutoShape 5"/>
            <p:cNvSpPr/>
            <p:nvPr/>
          </p:nvSpPr>
          <p:spPr>
            <a:xfrm>
              <a:off x="762120" y="2286000"/>
              <a:ext cx="7618320" cy="13381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6"/>
            <p:cNvSpPr/>
            <p:nvPr/>
          </p:nvSpPr>
          <p:spPr>
            <a:xfrm>
              <a:off x="2251080" y="2405160"/>
              <a:ext cx="6016680" cy="109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Rectangle 8"/>
            <p:cNvSpPr/>
            <p:nvPr/>
          </p:nvSpPr>
          <p:spPr>
            <a:xfrm>
              <a:off x="803520" y="2322360"/>
              <a:ext cx="14475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1.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" name="Group 18"/>
          <p:cNvGrpSpPr/>
          <p:nvPr/>
        </p:nvGrpSpPr>
        <p:grpSpPr>
          <a:xfrm>
            <a:off x="762120" y="3809880"/>
            <a:ext cx="7618320" cy="1338120"/>
            <a:chOff x="762120" y="3809880"/>
            <a:chExt cx="7618320" cy="1338120"/>
          </a:xfrm>
        </p:grpSpPr>
        <p:sp>
          <p:nvSpPr>
            <p:cNvPr id="77" name="AutoShape 11"/>
            <p:cNvSpPr/>
            <p:nvPr/>
          </p:nvSpPr>
          <p:spPr>
            <a:xfrm>
              <a:off x="762120" y="3809880"/>
              <a:ext cx="7618320" cy="13381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AutoShape 12"/>
            <p:cNvSpPr/>
            <p:nvPr/>
          </p:nvSpPr>
          <p:spPr>
            <a:xfrm>
              <a:off x="2251080" y="3929040"/>
              <a:ext cx="6016680" cy="109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Rectangle 13"/>
            <p:cNvSpPr/>
            <p:nvPr/>
          </p:nvSpPr>
          <p:spPr>
            <a:xfrm>
              <a:off x="803520" y="3846240"/>
              <a:ext cx="14475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2.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" name="Rectangle 14"/>
          <p:cNvSpPr/>
          <p:nvPr/>
        </p:nvSpPr>
        <p:spPr>
          <a:xfrm>
            <a:off x="2362320" y="1752480"/>
            <a:ext cx="2971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Sub tit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  <a:ea typeface="Gulim"/>
              </a:rPr>
              <a:t>Three Column Documents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5813280" y="3573360"/>
            <a:ext cx="319320" cy="490680"/>
          </a:xfrm>
          <a:prstGeom prst="rightArrow">
            <a:avLst>
              <a:gd name="adj1" fmla="val 45981"/>
              <a:gd name="adj2" fmla="val 46292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AutoShape 17"/>
          <p:cNvSpPr/>
          <p:nvPr/>
        </p:nvSpPr>
        <p:spPr>
          <a:xfrm>
            <a:off x="3036960" y="3573360"/>
            <a:ext cx="318960" cy="490680"/>
          </a:xfrm>
          <a:prstGeom prst="rightArrow">
            <a:avLst>
              <a:gd name="adj1" fmla="val 45981"/>
              <a:gd name="adj2" fmla="val 46292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" name="Group 24"/>
          <p:cNvGrpSpPr/>
          <p:nvPr/>
        </p:nvGrpSpPr>
        <p:grpSpPr>
          <a:xfrm>
            <a:off x="665280" y="2341440"/>
            <a:ext cx="2241360" cy="2994120"/>
            <a:chOff x="665280" y="2341440"/>
            <a:chExt cx="2241360" cy="2994120"/>
          </a:xfrm>
        </p:grpSpPr>
        <p:sp>
          <p:nvSpPr>
            <p:cNvPr id="85" name="AutoShape 6"/>
            <p:cNvSpPr/>
            <p:nvPr/>
          </p:nvSpPr>
          <p:spPr>
            <a:xfrm>
              <a:off x="665280" y="2341440"/>
              <a:ext cx="2241360" cy="2994120"/>
            </a:xfrm>
            <a:custGeom>
              <a:avLst/>
              <a:gdLst>
                <a:gd name="textAreaLeft" fmla="*/ 109080 w 2241360"/>
                <a:gd name="textAreaRight" fmla="*/ 2132280 w 2241360"/>
                <a:gd name="textAreaTop" fmla="*/ 109080 h 2994120"/>
                <a:gd name="textAreaBottom" fmla="*/ 2885040 h 2994120"/>
              </a:gdLst>
              <a:ahLst/>
              <a:rect l="textAreaLeft" t="textAreaTop" r="textAreaRight" b="textAreaBottom"/>
              <a:pathLst>
                <a:path w="21600" h="28853">
                  <a:moveTo>
                    <a:pt x="3600" y="0"/>
                  </a:moveTo>
                  <a:arcTo wR="3600" hR="3600" stAng="16200000" swAng="-5400000"/>
                  <a:lnTo>
                    <a:pt x="0" y="25253"/>
                  </a:lnTo>
                  <a:arcTo wR="3600" hR="3600" stAng="10800000" swAng="-5400000"/>
                  <a:lnTo>
                    <a:pt x="18000" y="288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7"/>
            <p:cNvSpPr/>
            <p:nvPr/>
          </p:nvSpPr>
          <p:spPr>
            <a:xfrm>
              <a:off x="787320" y="2828880"/>
              <a:ext cx="1996560" cy="2390760"/>
            </a:xfrm>
            <a:custGeom>
              <a:avLst/>
              <a:gdLst>
                <a:gd name="textAreaLeft" fmla="*/ 97200 w 1996560"/>
                <a:gd name="textAreaRight" fmla="*/ 1899360 w 1996560"/>
                <a:gd name="textAreaTop" fmla="*/ 97200 h 2390760"/>
                <a:gd name="textAreaBottom" fmla="*/ 2293560 h 2390760"/>
              </a:gdLst>
              <a:ahLst/>
              <a:rect l="textAreaLeft" t="textAreaTop" r="textAreaRight" b="textAreaBottom"/>
              <a:pathLst>
                <a:path w="21600" h="25864">
                  <a:moveTo>
                    <a:pt x="3600" y="0"/>
                  </a:moveTo>
                  <a:arcTo wR="3600" hR="3600" stAng="16200000" swAng="-5400000"/>
                  <a:lnTo>
                    <a:pt x="0" y="22264"/>
                  </a:lnTo>
                  <a:arcTo wR="3600" hR="3600" stAng="10800000" swAng="-5400000"/>
                  <a:lnTo>
                    <a:pt x="18000" y="258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Rectangle 18"/>
            <p:cNvSpPr/>
            <p:nvPr/>
          </p:nvSpPr>
          <p:spPr>
            <a:xfrm>
              <a:off x="761760" y="2438280"/>
              <a:ext cx="2057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1.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" name="Group 23"/>
          <p:cNvGrpSpPr/>
          <p:nvPr/>
        </p:nvGrpSpPr>
        <p:grpSpPr>
          <a:xfrm>
            <a:off x="3436920" y="2347920"/>
            <a:ext cx="2241720" cy="2994120"/>
            <a:chOff x="3436920" y="2347920"/>
            <a:chExt cx="2241720" cy="2994120"/>
          </a:xfrm>
        </p:grpSpPr>
        <p:sp>
          <p:nvSpPr>
            <p:cNvPr id="89" name="AutoShape 10"/>
            <p:cNvSpPr/>
            <p:nvPr/>
          </p:nvSpPr>
          <p:spPr>
            <a:xfrm>
              <a:off x="3436920" y="2347920"/>
              <a:ext cx="2241720" cy="2994120"/>
            </a:xfrm>
            <a:custGeom>
              <a:avLst/>
              <a:gdLst>
                <a:gd name="textAreaLeft" fmla="*/ 109440 w 2241720"/>
                <a:gd name="textAreaRight" fmla="*/ 2132280 w 2241720"/>
                <a:gd name="textAreaTop" fmla="*/ 109440 h 2994120"/>
                <a:gd name="textAreaBottom" fmla="*/ 2884680 h 29941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utoShape 11"/>
            <p:cNvSpPr/>
            <p:nvPr/>
          </p:nvSpPr>
          <p:spPr>
            <a:xfrm>
              <a:off x="3559320" y="2835360"/>
              <a:ext cx="1996920" cy="2390760"/>
            </a:xfrm>
            <a:custGeom>
              <a:avLst/>
              <a:gdLst>
                <a:gd name="textAreaLeft" fmla="*/ 97200 w 1996920"/>
                <a:gd name="textAreaRight" fmla="*/ 1899720 w 1996920"/>
                <a:gd name="textAreaTop" fmla="*/ 97200 h 2390760"/>
                <a:gd name="textAreaBottom" fmla="*/ 2293560 h 2390760"/>
              </a:gdLst>
              <a:ahLst/>
              <a:rect l="textAreaLeft" t="textAreaTop" r="textAreaRight" b="textAreaBottom"/>
              <a:pathLst>
                <a:path w="21600" h="25859">
                  <a:moveTo>
                    <a:pt x="3600" y="0"/>
                  </a:moveTo>
                  <a:arcTo wR="3600" hR="3600" stAng="16200000" swAng="-5400000"/>
                  <a:lnTo>
                    <a:pt x="0" y="22259"/>
                  </a:lnTo>
                  <a:arcTo wR="3600" hR="3600" stAng="10800000" swAng="-5400000"/>
                  <a:lnTo>
                    <a:pt x="18000" y="258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Rectangle 19"/>
            <p:cNvSpPr/>
            <p:nvPr/>
          </p:nvSpPr>
          <p:spPr>
            <a:xfrm>
              <a:off x="3505320" y="2438280"/>
              <a:ext cx="2057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2.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" name="Group 22"/>
          <p:cNvGrpSpPr/>
          <p:nvPr/>
        </p:nvGrpSpPr>
        <p:grpSpPr>
          <a:xfrm>
            <a:off x="6248520" y="2347920"/>
            <a:ext cx="2241360" cy="2994120"/>
            <a:chOff x="6248520" y="2347920"/>
            <a:chExt cx="2241360" cy="2994120"/>
          </a:xfrm>
        </p:grpSpPr>
        <p:sp>
          <p:nvSpPr>
            <p:cNvPr id="93" name="AutoShape 14"/>
            <p:cNvSpPr/>
            <p:nvPr/>
          </p:nvSpPr>
          <p:spPr>
            <a:xfrm>
              <a:off x="6248520" y="2347920"/>
              <a:ext cx="2241360" cy="2994120"/>
            </a:xfrm>
            <a:custGeom>
              <a:avLst/>
              <a:gdLst>
                <a:gd name="textAreaLeft" fmla="*/ 109080 w 2241360"/>
                <a:gd name="textAreaRight" fmla="*/ 2132280 w 2241360"/>
                <a:gd name="textAreaTop" fmla="*/ 109080 h 2994120"/>
                <a:gd name="textAreaBottom" fmla="*/ 2885040 h 2994120"/>
              </a:gdLst>
              <a:ahLst/>
              <a:rect l="textAreaLeft" t="textAreaTop" r="textAreaRight" b="textAreaBottom"/>
              <a:pathLst>
                <a:path w="21600" h="28853">
                  <a:moveTo>
                    <a:pt x="3600" y="0"/>
                  </a:moveTo>
                  <a:arcTo wR="3600" hR="3600" stAng="16200000" swAng="-5400000"/>
                  <a:lnTo>
                    <a:pt x="0" y="25253"/>
                  </a:lnTo>
                  <a:arcTo wR="3600" hR="3600" stAng="10800000" swAng="-5400000"/>
                  <a:lnTo>
                    <a:pt x="18000" y="288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AutoShape 15"/>
            <p:cNvSpPr/>
            <p:nvPr/>
          </p:nvSpPr>
          <p:spPr>
            <a:xfrm>
              <a:off x="6400440" y="2819520"/>
              <a:ext cx="1996920" cy="2390760"/>
            </a:xfrm>
            <a:custGeom>
              <a:avLst/>
              <a:gdLst>
                <a:gd name="textAreaLeft" fmla="*/ 97200 w 1996920"/>
                <a:gd name="textAreaRight" fmla="*/ 1899720 w 1996920"/>
                <a:gd name="textAreaTop" fmla="*/ 97200 h 2390760"/>
                <a:gd name="textAreaBottom" fmla="*/ 2293560 h 2390760"/>
              </a:gdLst>
              <a:ahLst/>
              <a:rect l="textAreaLeft" t="textAreaTop" r="textAreaRight" b="textAreaBottom"/>
              <a:pathLst>
                <a:path w="21600" h="25859">
                  <a:moveTo>
                    <a:pt x="3600" y="0"/>
                  </a:moveTo>
                  <a:arcTo wR="3600" hR="3600" stAng="16200000" swAng="-5400000"/>
                  <a:lnTo>
                    <a:pt x="0" y="22259"/>
                  </a:lnTo>
                  <a:arcTo wR="3600" hR="3600" stAng="10800000" swAng="-5400000"/>
                  <a:lnTo>
                    <a:pt x="18000" y="258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Rectangle 20"/>
            <p:cNvSpPr/>
            <p:nvPr/>
          </p:nvSpPr>
          <p:spPr>
            <a:xfrm>
              <a:off x="6324480" y="2438280"/>
              <a:ext cx="2057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3.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" name="Rectangle 21"/>
          <p:cNvSpPr/>
          <p:nvPr/>
        </p:nvSpPr>
        <p:spPr>
          <a:xfrm>
            <a:off x="2362320" y="182880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Sub tit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1" lang="en-US" sz="14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1" lang="en-US" sz="14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C20D3-EC61-4B8B-BE59-37E4518A28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  <a:ea typeface="Gulim"/>
              </a:rPr>
              <a:t>Chart Documents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1" name="Object 7" descr=""/>
          <p:cNvPicPr/>
          <p:nvPr/>
        </p:nvPicPr>
        <p:blipFill>
          <a:blip r:embed="rId2"/>
          <a:stretch/>
        </p:blipFill>
        <p:spPr>
          <a:xfrm>
            <a:off x="2133720" y="1676520"/>
            <a:ext cx="6248160" cy="4514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2195640" y="6453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1600" spc="-1" strike="noStrike" u="sng">
                <a:solidFill>
                  <a:srgbClr val="996600"/>
                </a:solidFill>
                <a:uFillTx/>
                <a:latin typeface="Times New Roman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1T00:54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5:52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