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600"/>
                </a:solidFill>
                <a:latin typeface="Franklin Gothic Demi"/>
              </a:rPr>
              <a:t>Click to edit the title text format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hyperlink" Target="http://www.eeppt.com/moban/" TargetMode="External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672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Franklin Gothic Demi"/>
                <a:ea typeface="黑体"/>
              </a:rPr>
              <a:t>某某某个人简历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应聘职位：</a:t>
            </a:r>
            <a:r>
              <a:rPr b="0" lang="en-US" sz="28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xxx</a:t>
            </a:r>
            <a:r>
              <a:rPr b="0" lang="zh-CN" sz="28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经理</a:t>
            </a:r>
            <a:endParaRPr b="0" lang="en-US" sz="2800" spc="-1" strike="noStrike">
              <a:solidFill>
                <a:srgbClr val="cccccc"/>
              </a:solidFill>
              <a:latin typeface="Franklin Gothic Book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40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cccc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cccccc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419200" y="838080"/>
            <a:ext cx="44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机械</a:t>
            </a:r>
            <a:r>
              <a:rPr b="0" lang="zh-CN" sz="4000" spc="-1" strike="noStrike">
                <a:solidFill>
                  <a:srgbClr val="cccccc"/>
                </a:solidFill>
                <a:latin typeface="Arial"/>
                <a:ea typeface="宋体"/>
              </a:rPr>
              <a:t>专业</a:t>
            </a:r>
            <a:r>
              <a:rPr b="0" lang="en-US" sz="4000" spc="-1" strike="noStrike">
                <a:solidFill>
                  <a:srgbClr val="cccccc"/>
                </a:solidFill>
                <a:latin typeface="Arial"/>
              </a:rPr>
              <a:t>求职简历</a:t>
            </a:r>
            <a:r>
              <a:rPr b="0" lang="zh-CN" sz="4000" spc="-1" strike="noStrike">
                <a:solidFill>
                  <a:srgbClr val="cccccc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cccccc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Franklin Gothic Demi"/>
                <a:ea typeface="宋体"/>
              </a:rPr>
              <a:t>个人信息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姓      名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性      别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出生年月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专      业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毕业院校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联系电话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电子信箱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联系地址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Franklin Gothic Demi"/>
                <a:ea typeface="宋体"/>
              </a:rPr>
              <a:t>工作经历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2005.5-2008.6   xxx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xxx 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职位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具体负责某事，为公司创造了某些效益。</a:t>
            </a:r>
            <a:endParaRPr b="0" lang="en-US" sz="20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2003.5-2005.5   xxx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xxx 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职位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具体负责某事，工作中表现如何。</a:t>
            </a:r>
            <a:endParaRPr b="0" lang="en-US" sz="20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2000.5-2003.5   xxx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xxx 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职位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在公司中担负某种职责，学到了某种经验，体会到了公司的企业文化。</a:t>
            </a:r>
            <a:endParaRPr b="0" lang="en-US" sz="20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Franklin Gothic Demi"/>
                <a:ea typeface="宋体"/>
              </a:rPr>
              <a:t>教育培训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2003.9-2003.12   xxx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公司 </a:t>
            </a: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xxx 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资格培训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-343080"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获得某某证书</a:t>
            </a:r>
            <a:endParaRPr b="0" lang="en-US" sz="2000" spc="-1" strike="noStrike">
              <a:solidFill>
                <a:srgbClr val="cccccc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1996.9-2000.6   xxx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大学 </a:t>
            </a:r>
            <a:r>
              <a:rPr b="0" lang="en-US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xxx </a:t>
            </a: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专业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03848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339933"/>
                </a:solidFill>
                <a:uFillTx/>
                <a:latin typeface="Arial"/>
                <a:hlinkClick r:id="rId5"/>
              </a:rPr>
              <a:t>免费ppt模板</a:t>
            </a:r>
            <a:r>
              <a:rPr b="0" lang="zh-CN" sz="1600" spc="-1" strike="noStrike">
                <a:solidFill>
                  <a:srgbClr val="cccccc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cccccc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Franklin Gothic Demi"/>
              </a:rPr>
              <a:t>使用规范说明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Franklin Gothic Book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Franklin Gothic Book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特别说明：</a:t>
            </a: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Franklin Gothic Book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Franklin Gothic Book"/>
              </a:rPr>
              <a:t>：</a:t>
            </a:r>
            <a:endParaRPr b="0" lang="en-US" sz="14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339933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cccc"/>
              </a:solidFill>
              <a:latin typeface="Franklin Gothic Book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cccccc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cccccc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Franklin Gothic Demi"/>
                <a:ea typeface="宋体"/>
              </a:rPr>
              <a:t>自我评价</a:t>
            </a:r>
            <a:endParaRPr b="0" lang="en-US" sz="4400" spc="-1" strike="noStrike">
              <a:solidFill>
                <a:srgbClr val="ff6600"/>
              </a:solidFill>
              <a:latin typeface="Franklin Gothic Dem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cccc"/>
                </a:solidFill>
                <a:latin typeface="Franklin Gothic Book"/>
                <a:ea typeface="宋体"/>
              </a:rPr>
              <a:t>我的特长，我的优点，我擅长的职业领域，以及我的处事风格，等等；（拣好的说）。</a:t>
            </a:r>
            <a:endParaRPr b="0" lang="en-US" sz="3200" spc="-1" strike="noStrike">
              <a:solidFill>
                <a:srgbClr val="cccccc"/>
              </a:solidFill>
              <a:latin typeface="Franklin Gothic Book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5T01:13:3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20:52Z</dcterms:modified>
  <cp:revision>1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