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811-047B-47B7-9B04-EF031305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E97-AD87-4A78-8CC7-7D013419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145-9625-40E9-B2C2-A00B3130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FD8-54BC-45C8-860B-8BF6E73C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CDF-11A7-4065-A4F6-22B34E1A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6FF-B35E-4511-BAAD-4A59FB13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428-7BF4-409B-9D32-EBC9C1E2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C33-3927-4CE7-9332-7844313F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951-09E9-46C7-89EA-61C95528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A6D-5430-4B6D-A3D1-5470C591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9C2-C6C7-4026-89E9-5512C533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634-4858-448F-B2AB-D6EF2A5E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72C6-B7F7-4B6D-B389-C8DC465A6C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A703-A106-41E3-8405-A3251563BC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1187280" y="0"/>
            <a:ext cx="109800" cy="558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936880" y="2155680"/>
            <a:ext cx="108000" cy="470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6"/>
          <p:cNvSpPr/>
          <p:nvPr/>
        </p:nvSpPr>
        <p:spPr>
          <a:xfrm>
            <a:off x="1646280" y="40464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7"/>
          <p:cNvSpPr/>
          <p:nvPr/>
        </p:nvSpPr>
        <p:spPr>
          <a:xfrm>
            <a:off x="1646280" y="123336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8"/>
          <p:cNvSpPr/>
          <p:nvPr/>
        </p:nvSpPr>
        <p:spPr>
          <a:xfrm>
            <a:off x="1646280" y="206208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"/>
          <p:cNvSpPr/>
          <p:nvPr/>
        </p:nvSpPr>
        <p:spPr>
          <a:xfrm>
            <a:off x="1646280" y="289080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0"/>
          <p:cNvSpPr/>
          <p:nvPr/>
        </p:nvSpPr>
        <p:spPr>
          <a:xfrm>
            <a:off x="1646280" y="371808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1"/>
          <p:cNvSpPr/>
          <p:nvPr/>
        </p:nvSpPr>
        <p:spPr>
          <a:xfrm>
            <a:off x="1646280" y="454644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4962600" y="2890800"/>
            <a:ext cx="72374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5"/>
          <p:cNvSpPr/>
          <p:nvPr/>
        </p:nvSpPr>
        <p:spPr>
          <a:xfrm flipV="1">
            <a:off x="6262560" y="3189960"/>
            <a:ext cx="593748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6"/>
          <p:cNvSpPr/>
          <p:nvPr/>
        </p:nvSpPr>
        <p:spPr>
          <a:xfrm>
            <a:off x="7205760" y="3490920"/>
            <a:ext cx="499428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7"/>
          <p:cNvSpPr/>
          <p:nvPr/>
        </p:nvSpPr>
        <p:spPr>
          <a:xfrm>
            <a:off x="7807320" y="3790800"/>
            <a:ext cx="43927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8"/>
          <p:cNvSpPr/>
          <p:nvPr/>
        </p:nvSpPr>
        <p:spPr>
          <a:xfrm>
            <a:off x="10580760" y="6372360"/>
            <a:ext cx="145800" cy="48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000" y="67788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约黑色风格动态工作述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0" y="2890800"/>
            <a:ext cx="12200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"/>
          <p:cNvSpPr/>
          <p:nvPr/>
        </p:nvSpPr>
        <p:spPr>
          <a:xfrm flipV="1">
            <a:off x="0" y="3189960"/>
            <a:ext cx="12200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 flipV="1">
            <a:off x="0" y="3491280"/>
            <a:ext cx="12200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 flipV="1">
            <a:off x="0" y="3790440"/>
            <a:ext cx="12200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"/>
          <p:cNvSpPr/>
          <p:nvPr/>
        </p:nvSpPr>
        <p:spPr>
          <a:xfrm>
            <a:off x="1562040" y="1257480"/>
            <a:ext cx="35434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目录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5105520" y="2076480"/>
            <a:ext cx="34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cont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7"/>
          <p:cNvSpPr/>
          <p:nvPr/>
        </p:nvSpPr>
        <p:spPr>
          <a:xfrm>
            <a:off x="47628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1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8"/>
          <p:cNvSpPr/>
          <p:nvPr/>
        </p:nvSpPr>
        <p:spPr>
          <a:xfrm>
            <a:off x="335916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2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具体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9"/>
          <p:cNvSpPr/>
          <p:nvPr/>
        </p:nvSpPr>
        <p:spPr>
          <a:xfrm>
            <a:off x="624204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3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注意事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0"/>
          <p:cNvSpPr/>
          <p:nvPr/>
        </p:nvSpPr>
        <p:spPr>
          <a:xfrm>
            <a:off x="912492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4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总结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"/>
          <p:cNvSpPr/>
          <p:nvPr/>
        </p:nvSpPr>
        <p:spPr>
          <a:xfrm flipV="1">
            <a:off x="0" y="2890440"/>
            <a:ext cx="31622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"/>
          <p:cNvSpPr/>
          <p:nvPr/>
        </p:nvSpPr>
        <p:spPr>
          <a:xfrm>
            <a:off x="628560" y="33984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1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"/>
          <p:cNvSpPr/>
          <p:nvPr/>
        </p:nvSpPr>
        <p:spPr>
          <a:xfrm>
            <a:off x="3162240" y="1181160"/>
            <a:ext cx="36720" cy="56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314880" y="3009960"/>
            <a:ext cx="36360" cy="256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3467160" y="3409920"/>
            <a:ext cx="36360" cy="179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6686640" y="1638360"/>
            <a:ext cx="550548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0"/>
          <p:cNvSpPr/>
          <p:nvPr/>
        </p:nvSpPr>
        <p:spPr>
          <a:xfrm>
            <a:off x="6686640" y="6365880"/>
            <a:ext cx="550548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70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900"/>
                            </p:stCondLst>
                            <p:childTnLst>
                              <p:par>
                                <p:cTn id="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100"/>
                            </p:stCondLst>
                            <p:childTnLst>
                              <p:par>
                                <p:cTn id="2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5E-006 -1.11111E-006 L 1.25E-006 0.07292 E">
                                      <p:cBhvr>
                                        <p:cTn id="30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25E-006 -2.96296E-006 L 1.25E-006 -0.075 E">
                                      <p:cBhvr>
                                        <p:cTn id="36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3160800" y="-5448240"/>
            <a:ext cx="3636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3197160" y="160956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2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具体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"/>
          <p:cNvSpPr/>
          <p:nvPr/>
        </p:nvSpPr>
        <p:spPr>
          <a:xfrm rot="1539600">
            <a:off x="7445160" y="-993600"/>
            <a:ext cx="2247840" cy="888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 rot="2905200">
            <a:off x="8985600" y="309960"/>
            <a:ext cx="2247840" cy="837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 rot="1436400">
            <a:off x="10089720" y="1704600"/>
            <a:ext cx="2247840" cy="837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9" descr=""/>
          <p:cNvPicPr/>
          <p:nvPr/>
        </p:nvPicPr>
        <p:blipFill>
          <a:blip r:embed="rId1"/>
          <a:stretch/>
        </p:blipFill>
        <p:spPr>
          <a:xfrm>
            <a:off x="8166240" y="2160720"/>
            <a:ext cx="3535200" cy="4381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"/>
                            </p:stCondLst>
                            <p:childTnLst>
                              <p:par>
                                <p:cTn id="5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"/>
                            </p:stCondLst>
                            <p:childTnLst>
                              <p:par>
                                <p:cTn id="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"/>
                            </p:stCondLst>
                            <p:childTnLst>
                              <p:par>
                                <p:cTn id="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667E-006 3.33333E-006 L 2.91667E-006 0.70069 E">
                                      <p:cBhvr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3160800" y="-343080"/>
            <a:ext cx="3636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"/>
          <p:cNvSpPr/>
          <p:nvPr/>
        </p:nvSpPr>
        <p:spPr>
          <a:xfrm>
            <a:off x="3313080" y="-343080"/>
            <a:ext cx="3672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3465360" y="-343080"/>
            <a:ext cx="3672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"/>
          <p:cNvSpPr/>
          <p:nvPr/>
        </p:nvSpPr>
        <p:spPr>
          <a:xfrm>
            <a:off x="511200" y="66996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3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注意事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 rot="5400000">
            <a:off x="6155640" y="-1252440"/>
            <a:ext cx="36720" cy="129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 rot="5400000">
            <a:off x="6156000" y="-1100160"/>
            <a:ext cx="36360" cy="129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 rot="5400000">
            <a:off x="6156000" y="-947880"/>
            <a:ext cx="36360" cy="129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798720" y="1236600"/>
            <a:ext cx="8128080" cy="5418360"/>
            <a:chOff x="3798720" y="1236600"/>
            <a:chExt cx="8128080" cy="5418360"/>
          </a:xfrm>
        </p:grpSpPr>
        <p:sp>
          <p:nvSpPr>
            <p:cNvPr id="88" name=""/>
            <p:cNvSpPr/>
            <p:nvPr/>
          </p:nvSpPr>
          <p:spPr>
            <a:xfrm>
              <a:off x="3798720" y="1236600"/>
              <a:ext cx="629280" cy="10400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61360" y="1340280"/>
              <a:ext cx="503280" cy="83196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503123" h="503123">
                  <a:moveTo>
                    <a:pt x="488735" y="335415"/>
                  </a:moveTo>
                  <a:lnTo>
                    <a:pt x="488735" y="335415"/>
                  </a:lnTo>
                  <a:arcTo wR="251561" hR="251561" stAng="1168265" swAng="8463471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59040" y="2276640"/>
              <a:ext cx="1861560" cy="43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59040" y="2276640"/>
              <a:ext cx="1861560" cy="43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86400" bIns="86400" anchor="t">
              <a:noAutofit/>
            </a:bodyPr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一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二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三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59040" y="1236600"/>
              <a:ext cx="186156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59040" y="1236600"/>
              <a:ext cx="186156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81360" bIns="81360" anchor="b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要点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51640" y="1236600"/>
              <a:ext cx="629280" cy="10400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14640" y="1340280"/>
              <a:ext cx="503280" cy="83196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503123" h="503123">
                  <a:moveTo>
                    <a:pt x="488735" y="167707"/>
                  </a:moveTo>
                  <a:lnTo>
                    <a:pt x="488735" y="167707"/>
                  </a:lnTo>
                  <a:arcTo wR="251561" hR="251561" stAng="-1168265" swAng="13136529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1960" y="2276640"/>
              <a:ext cx="1861560" cy="43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1960" y="2276640"/>
              <a:ext cx="1861560" cy="43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86400" bIns="86400" anchor="t">
              <a:noAutofit/>
            </a:bodyPr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一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二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三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11960" y="1236600"/>
              <a:ext cx="186156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11960" y="1236600"/>
              <a:ext cx="186156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81360" bIns="81360" anchor="b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要点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304920" y="1236600"/>
              <a:ext cx="629280" cy="10400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67920" y="1340280"/>
              <a:ext cx="503280" cy="83196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503123" h="503123">
                  <a:moveTo>
                    <a:pt x="251561" y="0"/>
                  </a:moveTo>
                  <a:lnTo>
                    <a:pt x="251561" y="0"/>
                  </a:lnTo>
                  <a:arcTo wR="251561" hR="251561" stAng="-5400000" swAng="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065240" y="2276640"/>
              <a:ext cx="1861560" cy="43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065240" y="2276640"/>
              <a:ext cx="1861560" cy="43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86400" bIns="86400" anchor="t">
              <a:noAutofit/>
            </a:bodyPr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一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二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三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065240" y="1236600"/>
              <a:ext cx="186156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065240" y="1236600"/>
              <a:ext cx="186156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81360" bIns="81360" anchor="b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要点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"/>
                            </p:stCondLst>
                            <p:childTnLst>
                              <p:par>
                                <p:cTn id="9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"/>
                            </p:stCondLst>
                            <p:childTnLst>
                              <p:par>
                                <p:cTn id="9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00"/>
                            </p:stCondLst>
                            <p:childTnLst>
                              <p:par>
                                <p:cTn id="10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"/>
                            </p:stCondLst>
                            <p:childTnLst>
                              <p:par>
                                <p:cTn id="1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800"/>
                            </p:stCondLst>
                            <p:childTnLst>
                              <p:par>
                                <p:cTn id="1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400"/>
                            </p:stCondLst>
                            <p:childTnLst>
                              <p:par>
                                <p:cTn id="1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700"/>
                            </p:stCondLst>
                            <p:childTnLst>
                              <p:par>
                                <p:cTn id="1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300"/>
                            </p:stCondLst>
                            <p:childTnLst>
                              <p:par>
                                <p:cTn id="1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600"/>
                            </p:stCondLst>
                            <p:childTnLst>
                              <p:par>
                                <p:cTn id="1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900"/>
                            </p:stCondLst>
                            <p:childTnLst>
                              <p:par>
                                <p:cTn id="1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"/>
          <p:cNvSpPr/>
          <p:nvPr/>
        </p:nvSpPr>
        <p:spPr>
          <a:xfrm rot="5400000">
            <a:off x="6155640" y="-1252440"/>
            <a:ext cx="36720" cy="129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 rot="5400000">
            <a:off x="6156000" y="-1100160"/>
            <a:ext cx="36360" cy="129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"/>
          <p:cNvSpPr/>
          <p:nvPr/>
        </p:nvSpPr>
        <p:spPr>
          <a:xfrm rot="5400000">
            <a:off x="6156000" y="-947880"/>
            <a:ext cx="36360" cy="129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5"/>
          <p:cNvSpPr/>
          <p:nvPr/>
        </p:nvSpPr>
        <p:spPr>
          <a:xfrm>
            <a:off x="912492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4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总结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87520" y="236520"/>
            <a:ext cx="8127720" cy="4826160"/>
            <a:chOff x="587520" y="236520"/>
            <a:chExt cx="8127720" cy="4826160"/>
          </a:xfrm>
        </p:grpSpPr>
        <p:sp>
          <p:nvSpPr>
            <p:cNvPr id="111" name=""/>
            <p:cNvSpPr/>
            <p:nvPr/>
          </p:nvSpPr>
          <p:spPr>
            <a:xfrm>
              <a:off x="2354040" y="236520"/>
              <a:ext cx="6361200" cy="2323440"/>
            </a:xfrm>
            <a:custGeom>
              <a:avLst/>
              <a:gdLst>
                <a:gd name="textAreaLeft" fmla="*/ 0 w 6361200"/>
                <a:gd name="textAreaRight" fmla="*/ 6361560 w 6361200"/>
                <a:gd name="textAreaTop" fmla="*/ 0 h 2323440"/>
                <a:gd name="textAreaBottom" fmla="*/ 2323800 h 232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618" y="2658"/>
                  </a:moveTo>
                  <a:arcTo wR="-8429" hR="-8429" stAng="-6300000" swAng="-15300000"/>
                  <a:lnTo>
                    <a:pt x="0" y="10800"/>
                  </a:lnTo>
                  <a:arcTo wR="10800" hR="10800" stAng="10800000" swAng="15300000"/>
                  <a:lnTo>
                    <a:pt x="14294" y="23840"/>
                  </a:lnTo>
                  <a:lnTo>
                    <a:pt x="9535" y="21093"/>
                  </a:lnTo>
                  <a:lnTo>
                    <a:pt x="12283" y="163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60200" y="1075320"/>
              <a:ext cx="353448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60200" y="1075320"/>
              <a:ext cx="353448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800" rIns="19800" tIns="19800" bIns="1980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流程一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7520" y="1571400"/>
              <a:ext cx="6361200" cy="2323440"/>
            </a:xfrm>
            <a:custGeom>
              <a:avLst/>
              <a:gdLst>
                <a:gd name="textAreaLeft" fmla="*/ 0 w 6361200"/>
                <a:gd name="textAreaRight" fmla="*/ 6361560 w 6361200"/>
                <a:gd name="textAreaTop" fmla="*/ 0 h 2323440"/>
                <a:gd name="textAreaBottom" fmla="*/ 2323800 h 232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982" y="2658"/>
                  </a:moveTo>
                  <a:arcTo wR="-8429" hR="-8429" stAng="-4500000" swAng="-9000000"/>
                  <a:lnTo>
                    <a:pt x="18437" y="3163"/>
                  </a:lnTo>
                  <a:arcTo wR="10800" hR="10800" stAng="-2700000" swAng="9000000"/>
                  <a:lnTo>
                    <a:pt x="7306" y="23840"/>
                  </a:lnTo>
                  <a:lnTo>
                    <a:pt x="4558" y="19081"/>
                  </a:lnTo>
                  <a:lnTo>
                    <a:pt x="9317" y="163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00520" y="2417760"/>
              <a:ext cx="353448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0520" y="2417760"/>
              <a:ext cx="353448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800" rIns="19800" tIns="19800" bIns="1980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流程二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06920" y="3066120"/>
              <a:ext cx="5465160" cy="1996560"/>
            </a:xfrm>
            <a:prstGeom prst="blockArc">
              <a:avLst>
                <a:gd name="adj1" fmla="val 13500000"/>
                <a:gd name="adj2" fmla="val 8100000"/>
                <a:gd name="adj3" fmla="val 12731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68480" y="3762720"/>
              <a:ext cx="353448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68480" y="3762720"/>
              <a:ext cx="353448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800" rIns="19800" tIns="19800" bIns="1980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流程三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3A6-68DB-41C4-B989-DA779D381F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1"/>
          <p:cNvSpPr/>
          <p:nvPr/>
        </p:nvSpPr>
        <p:spPr>
          <a:xfrm>
            <a:off x="3863880" y="1003320"/>
            <a:ext cx="5634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谢谢观赏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9390240" y="-82440"/>
            <a:ext cx="107640" cy="470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2571840" y="2155680"/>
            <a:ext cx="108000" cy="470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>
            <a:off x="10580760" y="6372360"/>
            <a:ext cx="145800" cy="48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2:04:00Z</dcterms:created>
  <dc:creator>幻灯片之家：www.eeppt.com; www.pptbz.com</dc:creator>
  <dc:description>幻灯片之家：www.eeppt.com</dc:description>
  <cp:keywords>幻灯片之家：www.eeppt.com</cp:keywords>
  <dc:language>en-US</dc:language>
  <cp:lastModifiedBy>hong</cp:lastModifiedBy>
  <dcterms:modified xsi:type="dcterms:W3CDTF">2015-09-18T13:23:23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