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00A-7BAA-4B27-979C-7D1B45E1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E72-986E-40CF-B9EA-33E9DB5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693-880E-4B3F-8BF3-BCF2E5F4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875-455F-4FB4-B842-045D0900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A0B2-AF66-4BC4-A89F-852D0EAB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5F78-1D9B-4284-B14A-9DC76F56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28CF-A6B1-4212-BF4F-9FE6E8B1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5C6A-8446-4CDF-92E9-8AF015FD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D669-B197-4D73-AB8B-E18275B1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8380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5120-AD90-43A9-B77F-1AFFD8E9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A01-3189-4BB2-AE5B-7F29F514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8AF-0004-4E26-AF91-FE73EA58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569E-15FF-46A0-87D0-872BC0D1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C702-098F-4894-90F7-7747F663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ACE2-3746-45B6-86CF-1D4CD593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BEDF-2123-45E7-9AA9-8ABCD7A9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1C62-5089-44F6-8B2E-375F798B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BBE-2231-447E-8D4B-FC4A17B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CD6-B2A4-4ED6-A9B2-E41E927F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36A-239C-4AD5-905B-A75BBC6F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8380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938-D6BE-41D4-9952-5C000913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D9D-D9EF-49C0-BD99-A8C5B113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4A1-189A-44BE-901B-70CE8B4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31E-AAAE-467B-84E6-AA986F9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A72B-876A-452F-B77D-5D80C5AEF1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680" y="27428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51F4-5877-42AA-B276-D672C3E6B3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428640" y="5105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Sub Title here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55280" y="422064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可爱卡通</a:t>
            </a: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宋体"/>
              </a:rPr>
              <a:t>模板免费</a:t>
            </a: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下载</a:t>
            </a:r>
            <a:endParaRPr b="0" lang="en-US" sz="40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  <a:ea typeface="宋体"/>
              </a:rPr>
              <a:t>Reading Fun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Sub Topics here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  <a:ea typeface="宋体"/>
              </a:rPr>
              <a:t>Print Page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Print topics here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FB9-E8DA-4A3D-9DDC-17C938D22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  <a:ea typeface="宋体"/>
              </a:rPr>
              <a:t>Transitional Page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0:40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3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