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C766-DDDF-4289-9081-1065F852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110-E438-49EF-BEEA-9D64B15E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4D8-4037-4797-9592-B318A047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97D-80B0-404D-B8F4-65795059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81EB-5FD7-443E-AA1C-58C4D814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F3E8-D1EA-4B65-9420-D11F3BAC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91E6-E880-45FD-A6E1-96DA7AB0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B323-9B18-415B-B685-731D47A5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D3A8-2FE0-4D3D-A7C6-3525FC9B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16E4-772F-4129-AE1F-4307452D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491D-7B08-4785-AEC5-F21659AD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527-E024-42FE-A81C-E7E3998B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8CF3-1BC0-4684-8F6F-0C958669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DFBE-7302-4F8C-90CD-A2B0AE4D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FADA-8245-42AC-997E-DC6E6721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67D3-15B4-4B52-96DA-720699AF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FED5-7281-4E72-9D23-43B284D3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B39A0-1EC8-4B3E-96BB-61864356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028AB-4B42-4C0C-8663-29942152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C1076-C216-4E69-870A-D1DA0311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0896-73C7-4B8A-BD73-3EA8D672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4C6C3-CF0C-41A0-AFD4-E621734E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DA7-7E00-4949-836D-332C4FDE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92952-75F4-45A4-B459-F9BEAC3A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C1DE-77DE-480D-9C57-373A1A7E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13765-25E9-4805-A5FF-19BC7872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1CA9E-364F-42ED-8C5C-6782FCCE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4F8A-C835-49B6-B06B-77C5670E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28DDB-C7C7-4266-BDD8-3281E98E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5F436-DC92-4B44-A20E-F0F48696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AEF-4E10-469D-8D1F-45BF6F2C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6F1-3A32-46A7-8DA9-C4E71E65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B37-14F6-43D8-AB5B-494083BC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EA8-83B0-403D-8F67-EDE7A8C7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46A-8027-40AE-84A3-098F0325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814-9C97-4467-B762-DCD541FA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theoatmeal.com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F22C-0F9B-46AC-9A29-37BA4757DF6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9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25A4-7A56-492D-A2C1-3078DACF4EC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3A56-C404-4EA9-8356-3D4920EC777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theoatmeal.com/comics" TargetMode="External"/><Relationship Id="rId3" Type="http://schemas.openxmlformats.org/officeDocument/2006/relationships/hyperlink" Target="http://www.reddit.com/r/pics/comments/b0jqz/the_10_types_of_crappy_interviewees_the_oatmeal/" TargetMode="External"/><Relationship Id="rId4" Type="http://schemas.openxmlformats.org/officeDocument/2006/relationships/hyperlink" Target="http://www.reddit.com/r/pics/comments/b0jqz/the_10_types_of_crappy_interviewees_the_oatmeal/" TargetMode="External"/><Relationship Id="rId5" Type="http://schemas.openxmlformats.org/officeDocument/2006/relationships/hyperlink" Target="http://www.facebook.com/share.php?u=http://theoatmeal.com/comics/interviewees" TargetMode="External"/><Relationship Id="rId6" Type="http://schemas.openxmlformats.org/officeDocument/2006/relationships/hyperlink" Target="http://twitter.com/home?status=The+10+Types+of+Crappy+Interviewees+http://theoatmeal.com/comics/interviewees+from+@oatmeal" TargetMode="External"/><Relationship Id="rId7" Type="http://schemas.openxmlformats.org/officeDocument/2006/relationships/hyperlink" Target="http://www.myspace.com/index.cfm?fuseaction=postto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700200" y="1676520"/>
            <a:ext cx="7605720" cy="2847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6320" y="49528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6320" y="10666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卡通人物对话欧美风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779480" y="1081080"/>
            <a:ext cx="55850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rcRect l="4308" t="5275" r="0" b="0"/>
          <a:stretch/>
        </p:blipFill>
        <p:spPr>
          <a:xfrm>
            <a:off x="2270160" y="1138320"/>
            <a:ext cx="46036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295360" y="2328840"/>
            <a:ext cx="4553280" cy="981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2969640" y="160020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e3f"/>
                </a:solidFill>
                <a:latin typeface="Georgia"/>
              </a:rPr>
              <a:t>Share this com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3434760" y="388620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e3f"/>
                </a:solidFill>
                <a:latin typeface="Georgia"/>
              </a:rPr>
              <a:t>find more comics @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3017160" y="4129200"/>
            <a:ext cx="302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6600"/>
                </a:solidFill>
                <a:uFillTx/>
                <a:latin typeface="Georgia"/>
                <a:hlinkClick r:id="rId2"/>
              </a:rPr>
              <a:t>theoatmeal.com/c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2429640" y="29052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hlinkClick r:id="rId3"/>
              </a:rPr>
              <a:t>red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3272400" y="290520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hlinkClick r:id="rId4"/>
              </a:rPr>
              <a:t>Stu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4213800" y="289728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hlinkClick r:id="rId5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5183640" y="288432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6600"/>
                </a:solidFill>
                <a:uFillTx/>
                <a:latin typeface="Calibri"/>
                <a:hlinkClick r:id="rId6"/>
              </a:rPr>
              <a:t>Tw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6024240" y="29034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hlinkClick r:id="rId7"/>
              </a:rPr>
              <a:t>My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BD8-A0DB-480C-ABEA-120080DEB8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119320" y="1152360"/>
            <a:ext cx="4905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rcRect l="0" t="0" r="0" b="4741"/>
          <a:stretch/>
        </p:blipFill>
        <p:spPr>
          <a:xfrm>
            <a:off x="1967040" y="1257480"/>
            <a:ext cx="52099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828800" y="1081080"/>
            <a:ext cx="54864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rcRect l="4259" t="0" r="0" b="0"/>
          <a:stretch/>
        </p:blipFill>
        <p:spPr>
          <a:xfrm>
            <a:off x="1789200" y="1077840"/>
            <a:ext cx="5486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785960" y="1143000"/>
            <a:ext cx="55720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5960" y="1076400"/>
            <a:ext cx="55720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rcRect l="0" t="4936" r="0" b="0"/>
          <a:stretch/>
        </p:blipFill>
        <p:spPr>
          <a:xfrm>
            <a:off x="2008080" y="1143000"/>
            <a:ext cx="5129280" cy="4051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505320" y="380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rcRect l="0" t="3593" r="0" b="0"/>
          <a:stretch/>
        </p:blipFill>
        <p:spPr>
          <a:xfrm>
            <a:off x="1447920" y="1066680"/>
            <a:ext cx="61657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2:04:4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40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93A4EAA9143924D9E7AE997567DACBC</vt:lpwstr>
  </property>
  <property fmtid="{D5CDD505-2E9C-101B-9397-08002B2CF9AE}" pid="3" name="KSOProductBuildVer">
    <vt:lpwstr>2052-9.1.0.5132</vt:lpwstr>
  </property>
</Properties>
</file>