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0FE3-2F1E-46F4-8D75-FD1317DC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AB1B-72E2-47AB-9055-73735FEE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938-BD73-4018-8102-DB415EBA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C28-FFFB-4D50-83AC-245B5BBD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7127-E31B-486A-959F-95AFE9F9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F4D-3D43-41B1-A5F0-1A2C059A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071C-F620-40C4-90BB-0BB10491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D49B-6E6E-41A1-B63A-EFF02FD0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1D8-5423-4D35-827C-93186132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5A2-2C80-458D-BEF3-9A22318A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2BD-6AB4-4416-8794-77BB2BEA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888-87EE-4930-A6C0-0212491D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3E2E-7525-486C-B4E8-C79C1D0B795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F1EC-07EB-44E0-87F1-693A2944EBB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1200" y="4955760"/>
            <a:ext cx="82472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1200" y="5719680"/>
            <a:ext cx="82472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c0a00"/>
                </a:solidFill>
                <a:latin typeface="Calibri"/>
              </a:rPr>
              <a:t>Click to edit Master subtitle sty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1517760" y="4076640"/>
            <a:ext cx="7635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040" y="449892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可爱魔法小公主生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9280" y="159660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lide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8920" y="2187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0a00"/>
                </a:solidFill>
                <a:latin typeface="Calibri"/>
              </a:rPr>
              <a:t>Product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48920" y="2817720"/>
            <a:ext cx="404028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36800" y="2187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0a00"/>
                </a:solidFill>
                <a:latin typeface="Calibri"/>
              </a:rPr>
              <a:t>Product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36800" y="2817720"/>
            <a:ext cx="404172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9280" y="14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lide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87680" y="2053800"/>
            <a:ext cx="5649840" cy="41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c0a00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c0a00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c0a00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c0a00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6D8-6A49-4D36-8284-9CE99D579C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9280" y="159660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lide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8920" y="2187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0a00"/>
                </a:solidFill>
                <a:latin typeface="Calibri"/>
              </a:rPr>
              <a:t>Product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8920" y="2817720"/>
            <a:ext cx="404028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36800" y="2187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0a00"/>
                </a:solidFill>
                <a:latin typeface="Calibri"/>
              </a:rPr>
              <a:t>Product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36800" y="2817720"/>
            <a:ext cx="404172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0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17:44Z</dcterms:modified>
  <cp:revision>50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