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VIVE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5DA-B9D7-4DA6-B1CF-BFF127E0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C8E-8AB8-4E75-8069-14633D9F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854-41E2-4C68-8875-882DE55E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AC0-10F6-47AA-99B9-CC249BB9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6E3-A1E5-4DF4-A45D-075F9510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E0F-CB47-4CFB-9A4D-8C94FBF6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294-558B-4C68-892F-78981667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070-BAA1-4131-8961-283E8BC7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4C1-BD51-47ED-A2A8-6E230944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13C-604A-425A-BA26-9C07891B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8CD-B2E6-4E6B-B6BD-6CB85154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1D4-573F-446E-B8F4-7C7EFC6E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D3DF-8F82-4D3B-ACAE-08B4C08A6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IVE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可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熊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卡通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VIV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24000" y="33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432-5549-413D-8517-D6D3D3E3DB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639720"/>
            <a:ext cx="5828040" cy="4506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lfredo's Dance"/>
              <a:ea typeface="宋体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942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468000" cy="702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6:47:1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4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