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27.png" ContentType="image/pn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4978-0519-430F-83D9-A9D092000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1326-5C8F-4FF7-A595-920ADC76D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A48B-D361-4A9A-9BB6-83C96CF40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7853-537A-4C3B-8E09-BED560177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B2F8-7625-47B4-9F02-633C5DA46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969C-6C47-4171-8BD0-570C0F4C7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C873-A760-45CD-9072-BE0BF5FFC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8E06-C617-48C0-B4E7-60DE33F35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D663-A57C-48C3-9AEB-02A1EC49A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5C26-79B7-4CFC-9E9D-5C8C0612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D6C2-0D5D-4F83-A842-2D416B90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8166-8CD3-4CCF-A72E-08040B68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1F347-395B-4B4F-9701-12312F9DD7F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FAF29-3AF3-48B1-9C72-78F9B997CE3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9"/>
          <p:cNvSpPr/>
          <p:nvPr/>
        </p:nvSpPr>
        <p:spPr>
          <a:xfrm>
            <a:off x="0" y="9360"/>
            <a:ext cx="9144000" cy="6858000"/>
          </a:xfrm>
          <a:prstGeom prst="rect">
            <a:avLst/>
          </a:prstGeom>
          <a:solidFill>
            <a:srgbClr val="00ad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9"/>
          <p:cNvSpPr/>
          <p:nvPr/>
        </p:nvSpPr>
        <p:spPr>
          <a:xfrm>
            <a:off x="0" y="-17640"/>
            <a:ext cx="9144000" cy="97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7"/>
          <p:cNvSpPr/>
          <p:nvPr/>
        </p:nvSpPr>
        <p:spPr>
          <a:xfrm>
            <a:off x="3240" y="5929200"/>
            <a:ext cx="914400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0"/>
          <p:cNvSpPr/>
          <p:nvPr/>
        </p:nvSpPr>
        <p:spPr>
          <a:xfrm>
            <a:off x="2554920" y="2529000"/>
            <a:ext cx="4038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快乐</a:t>
            </a:r>
            <a:r>
              <a:rPr b="1" lang="en-US" sz="96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9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C:\Users\liuying\Desktop\4_副本_副本_副本.png"/>
          <p:cNvPicPr/>
          <p:nvPr/>
        </p:nvPicPr>
        <p:blipFill>
          <a:blip r:embed="rId1"/>
          <a:stretch/>
        </p:blipFill>
        <p:spPr>
          <a:xfrm rot="3792000">
            <a:off x="6213240" y="3709800"/>
            <a:ext cx="1166760" cy="1077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98240" y="26028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快乐工作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750"/>
                            </p:stCondLst>
                            <p:childTnLst>
                              <p:par>
                                <p:cTn id="1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250"/>
                            </p:stCondLst>
                            <p:childTnLst>
                              <p:par>
                                <p:cTn id="22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1000" autoRev="1" fill="hold"/>
                                        <p:tgtEl>
                                          <p:spTgt spid="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219640" y="1700280"/>
            <a:ext cx="3564000" cy="25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当你把</a:t>
            </a:r>
            <a:r>
              <a:rPr b="0" lang="zh-CN" sz="2800" spc="-1" strike="noStrike">
                <a:solidFill>
                  <a:srgbClr val="00adea"/>
                </a:solidFill>
                <a:latin typeface="微软雅黑"/>
                <a:ea typeface="微软雅黑"/>
              </a:rPr>
              <a:t>简单</a:t>
            </a: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的事情成千上万次做对，就是</a:t>
            </a:r>
            <a:r>
              <a:rPr b="0" lang="zh-CN" sz="2800" spc="-1" strike="noStrike">
                <a:solidFill>
                  <a:srgbClr val="00adea"/>
                </a:solidFill>
                <a:latin typeface="微软雅黑"/>
                <a:ea typeface="微软雅黑"/>
              </a:rPr>
              <a:t>不简单</a:t>
            </a: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          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海尔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CEO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张瑞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C:\Users\liuying\Desktop\58ee3d6d55fbb2fbcb84c3624f4a20a44623dc17_副本.jpg"/>
          <p:cNvPicPr/>
          <p:nvPr/>
        </p:nvPicPr>
        <p:blipFill>
          <a:blip r:embed="rId1"/>
          <a:stretch/>
        </p:blipFill>
        <p:spPr>
          <a:xfrm>
            <a:off x="539640" y="1427040"/>
            <a:ext cx="4345200" cy="3365640"/>
          </a:xfrm>
          <a:prstGeom prst="rect">
            <a:avLst/>
          </a:prstGeom>
          <a:ln cap="sq" w="190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C:\Users\liuying\Desktop\蓝3_副本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2276640"/>
          </a:xfrm>
          <a:prstGeom prst="rect">
            <a:avLst/>
          </a:prstGeom>
          <a:ln w="0">
            <a:noFill/>
          </a:ln>
        </p:spPr>
      </p:pic>
      <p:sp>
        <p:nvSpPr>
          <p:cNvPr id="111" name="矩形 5"/>
          <p:cNvSpPr/>
          <p:nvPr/>
        </p:nvSpPr>
        <p:spPr>
          <a:xfrm rot="20273400">
            <a:off x="4390560" y="1035000"/>
            <a:ext cx="2430720" cy="665280"/>
          </a:xfrm>
          <a:prstGeom prst="rect">
            <a:avLst/>
          </a:prstGeom>
          <a:solidFill>
            <a:srgbClr val="00ad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Powerfu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2"/>
          <a:stretch/>
        </p:blipFill>
        <p:spPr>
          <a:xfrm>
            <a:off x="611280" y="2984400"/>
            <a:ext cx="1155600" cy="1790640"/>
          </a:xfrm>
          <a:prstGeom prst="rect">
            <a:avLst/>
          </a:prstGeom>
          <a:ln w="0">
            <a:noFill/>
          </a:ln>
        </p:spPr>
      </p:pic>
      <p:sp>
        <p:nvSpPr>
          <p:cNvPr id="113" name="TextBox 13"/>
          <p:cNvSpPr/>
          <p:nvPr/>
        </p:nvSpPr>
        <p:spPr>
          <a:xfrm>
            <a:off x="2638440" y="420372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0c0"/>
                </a:solidFill>
                <a:latin typeface="Miriam"/>
                <a:ea typeface="微软雅黑"/>
              </a:rPr>
              <a:t>让自己更</a:t>
            </a:r>
            <a:r>
              <a:rPr b="0" lang="en-US" sz="4400" spc="-1" strike="noStrike">
                <a:solidFill>
                  <a:srgbClr val="0070c0"/>
                </a:solidFill>
                <a:latin typeface="Miriam"/>
                <a:ea typeface="微软雅黑"/>
              </a:rPr>
              <a:t>Powerfu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1640" y="278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ep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C:\Users\liuying\Desktop\122675303.jpg"/>
          <p:cNvPicPr/>
          <p:nvPr/>
        </p:nvPicPr>
        <p:blipFill>
          <a:blip r:embed="rId1"/>
          <a:stretch/>
        </p:blipFill>
        <p:spPr>
          <a:xfrm>
            <a:off x="250920" y="1268280"/>
            <a:ext cx="2449440" cy="34545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3"/>
          <p:cNvSpPr/>
          <p:nvPr/>
        </p:nvSpPr>
        <p:spPr>
          <a:xfrm>
            <a:off x="395280" y="477216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理想</a:t>
            </a: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是明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C:\Users\liuying\Desktop\108194775.jpg"/>
          <p:cNvPicPr/>
          <p:nvPr/>
        </p:nvPicPr>
        <p:blipFill>
          <a:blip r:embed="rId2"/>
          <a:stretch/>
        </p:blipFill>
        <p:spPr>
          <a:xfrm>
            <a:off x="3419640" y="620640"/>
            <a:ext cx="3686040" cy="2563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C:\Users\liuying\Desktop\72779102.jpg"/>
          <p:cNvPicPr/>
          <p:nvPr/>
        </p:nvPicPr>
        <p:blipFill>
          <a:blip r:embed="rId3"/>
          <a:stretch/>
        </p:blipFill>
        <p:spPr>
          <a:xfrm>
            <a:off x="5127480" y="3556080"/>
            <a:ext cx="3448080" cy="24350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C:\Users\liuying\Desktop\129147693 (2)_副本.jpg"/>
          <p:cNvPicPr/>
          <p:nvPr/>
        </p:nvPicPr>
        <p:blipFill>
          <a:blip r:embed="rId4"/>
          <a:stretch/>
        </p:blipFill>
        <p:spPr>
          <a:xfrm>
            <a:off x="5956200" y="1268280"/>
            <a:ext cx="2589480" cy="2881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C:\Users\liuying\Desktop\gic5370497.jpg"/>
          <p:cNvPicPr/>
          <p:nvPr/>
        </p:nvPicPr>
        <p:blipFill>
          <a:blip r:embed="rId5"/>
          <a:stretch/>
        </p:blipFill>
        <p:spPr>
          <a:xfrm>
            <a:off x="3720960" y="3094200"/>
            <a:ext cx="2235240" cy="3357360"/>
          </a:xfrm>
          <a:prstGeom prst="rect">
            <a:avLst/>
          </a:prstGeom>
          <a:ln w="0">
            <a:noFill/>
          </a:ln>
        </p:spPr>
      </p:pic>
      <p:sp>
        <p:nvSpPr>
          <p:cNvPr id="121" name="TextBox 4"/>
          <p:cNvSpPr/>
          <p:nvPr/>
        </p:nvSpPr>
        <p:spPr>
          <a:xfrm>
            <a:off x="3348000" y="620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积极进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5"/>
          <p:cNvSpPr/>
          <p:nvPr/>
        </p:nvSpPr>
        <p:spPr>
          <a:xfrm>
            <a:off x="7812000" y="3357720"/>
            <a:ext cx="8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学无止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6"/>
          <p:cNvSpPr/>
          <p:nvPr/>
        </p:nvSpPr>
        <p:spPr>
          <a:xfrm>
            <a:off x="7305840" y="4076640"/>
            <a:ext cx="86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认真培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7"/>
          <p:cNvSpPr/>
          <p:nvPr/>
        </p:nvSpPr>
        <p:spPr>
          <a:xfrm>
            <a:off x="3635280" y="3390840"/>
            <a:ext cx="8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用心观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直接箭头连接符 6"/>
          <p:cNvCxnSpPr/>
          <p:nvPr/>
        </p:nvCxnSpPr>
        <p:spPr>
          <a:xfrm flipV="1">
            <a:off x="4500360" y="2333160"/>
            <a:ext cx="5400" cy="807120"/>
          </a:xfrm>
          <a:prstGeom prst="straightConnector1">
            <a:avLst/>
          </a:prstGeom>
          <a:ln w="381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126" name="直接箭头连接符 20"/>
          <p:cNvCxnSpPr/>
          <p:nvPr/>
        </p:nvCxnSpPr>
        <p:spPr>
          <a:xfrm flipH="1">
            <a:off x="4500000" y="3860640"/>
            <a:ext cx="1080" cy="610560"/>
          </a:xfrm>
          <a:prstGeom prst="straightConnector1">
            <a:avLst/>
          </a:prstGeom>
          <a:ln w="381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127" name="直接箭头连接符 23"/>
          <p:cNvCxnSpPr/>
          <p:nvPr/>
        </p:nvCxnSpPr>
        <p:spPr>
          <a:xfrm>
            <a:off x="5664240" y="3428640"/>
            <a:ext cx="1442160" cy="1080"/>
          </a:xfrm>
          <a:prstGeom prst="straightConnector1">
            <a:avLst/>
          </a:prstGeom>
          <a:ln w="381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128" name="直接箭头连接符 29"/>
          <p:cNvCxnSpPr/>
          <p:nvPr/>
        </p:nvCxnSpPr>
        <p:spPr>
          <a:xfrm flipH="1">
            <a:off x="2050560" y="3401640"/>
            <a:ext cx="1372320" cy="1080"/>
          </a:xfrm>
          <a:prstGeom prst="straightConnector1">
            <a:avLst/>
          </a:prstGeom>
          <a:ln w="38160">
            <a:solidFill>
              <a:srgbClr val="7f7f7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250" autoRev="1" fill="hold"/>
                                        <p:tgtEl>
                                          <p:spTgt spid="1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" dur="250" autoRev="1" fill="hold"/>
                                        <p:tgtEl>
                                          <p:spTgt spid="1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dur="indefinite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dur="indefinite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1262E-007 L 0.33872 -0.2337 E">
                                      <p:cBhvr>
                                        <p:cTn id="156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3.40268E-006 L 0.07882 0.13892 E">
                                      <p:cBhvr>
                                        <p:cTn id="158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8294E-006 L -0.08681 -0.04993 E">
                                      <p:cBhvr>
                                        <p:cTn id="160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0037E-006 L -0.34635 0.05479 E">
                                      <p:cBhvr>
                                        <p:cTn id="162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-0.00231 L -0.2757 -0.0571 E">
                                      <p:cBhvr>
                                        <p:cTn id="164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C:\Users\liuying\Desktop\蓝3_副本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2276640"/>
          </a:xfrm>
          <a:prstGeom prst="rect">
            <a:avLst/>
          </a:prstGeom>
          <a:ln w="0">
            <a:noFill/>
          </a:ln>
        </p:spPr>
      </p:pic>
      <p:sp>
        <p:nvSpPr>
          <p:cNvPr id="130" name="矩形 5"/>
          <p:cNvSpPr/>
          <p:nvPr/>
        </p:nvSpPr>
        <p:spPr>
          <a:xfrm rot="20273400">
            <a:off x="4578120" y="1076400"/>
            <a:ext cx="2268360" cy="647640"/>
          </a:xfrm>
          <a:prstGeom prst="rect">
            <a:avLst/>
          </a:prstGeom>
          <a:solidFill>
            <a:srgbClr val="00ad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F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7"/>
          <p:cNvSpPr/>
          <p:nvPr/>
        </p:nvSpPr>
        <p:spPr>
          <a:xfrm>
            <a:off x="3132000" y="4203720"/>
            <a:ext cx="336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0c0"/>
                </a:solidFill>
                <a:latin typeface="Miriam"/>
                <a:ea typeface="微软雅黑"/>
              </a:rPr>
              <a:t>享受</a:t>
            </a:r>
            <a:r>
              <a:rPr b="0" lang="en-US" sz="4400" spc="-1" strike="noStrike">
                <a:solidFill>
                  <a:srgbClr val="0070c0"/>
                </a:solidFill>
                <a:latin typeface="Miriam"/>
                <a:ea typeface="微软雅黑"/>
              </a:rPr>
              <a:t>Free</a:t>
            </a:r>
            <a:r>
              <a:rPr b="0" lang="zh-CN" sz="3600" spc="-1" strike="noStrike">
                <a:solidFill>
                  <a:srgbClr val="0070c0"/>
                </a:solidFill>
                <a:latin typeface="Miriam"/>
                <a:ea typeface="微软雅黑"/>
              </a:rPr>
              <a:t>工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236520" y="2852640"/>
            <a:ext cx="181440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椭圆形标注 3"/>
          <p:cNvSpPr/>
          <p:nvPr/>
        </p:nvSpPr>
        <p:spPr>
          <a:xfrm>
            <a:off x="2685960" y="2025720"/>
            <a:ext cx="1604880" cy="663480"/>
          </a:xfrm>
          <a:prstGeom prst="wedgeEllipseCallout">
            <a:avLst>
              <a:gd name="adj1" fmla="val 96699"/>
              <a:gd name="adj2" fmla="val -38819"/>
            </a:avLst>
          </a:prstGeom>
          <a:solidFill>
            <a:srgbClr val="93b3d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砌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椭圆形标注 5"/>
          <p:cNvSpPr/>
          <p:nvPr/>
        </p:nvSpPr>
        <p:spPr>
          <a:xfrm>
            <a:off x="2685960" y="438120"/>
            <a:ext cx="3225960" cy="685800"/>
          </a:xfrm>
          <a:prstGeom prst="wedgeEllipseCallout">
            <a:avLst>
              <a:gd name="adj1" fmla="val 55981"/>
              <a:gd name="adj2" fmla="val 91768"/>
            </a:avLst>
          </a:prstGeom>
          <a:solidFill>
            <a:srgbClr val="93b3d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盖高楼大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椭圆形标注 6"/>
          <p:cNvSpPr/>
          <p:nvPr/>
        </p:nvSpPr>
        <p:spPr>
          <a:xfrm>
            <a:off x="6519960" y="6480"/>
            <a:ext cx="2592360" cy="863640"/>
          </a:xfrm>
          <a:prstGeom prst="wedgeEllipseCallout">
            <a:avLst>
              <a:gd name="adj1" fmla="val -8259"/>
              <a:gd name="adj2" fmla="val 82759"/>
            </a:avLst>
          </a:prstGeom>
          <a:solidFill>
            <a:srgbClr val="93b3d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建设一座新城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1038240" y="2025720"/>
            <a:ext cx="68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十年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3" descr="C:\Users\liuying\Desktop\141659849_副本.png"/>
          <p:cNvPicPr/>
          <p:nvPr/>
        </p:nvPicPr>
        <p:blipFill>
          <a:blip r:embed="rId2"/>
          <a:stretch/>
        </p:blipFill>
        <p:spPr>
          <a:xfrm>
            <a:off x="5780160" y="169920"/>
            <a:ext cx="3809880" cy="507672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1"/>
          <p:cNvSpPr/>
          <p:nvPr/>
        </p:nvSpPr>
        <p:spPr>
          <a:xfrm>
            <a:off x="2776680" y="3138480"/>
            <a:ext cx="444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生活的内涵从来就包括诸多的无奈与失落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2"/>
          <p:cNvSpPr/>
          <p:nvPr/>
        </p:nvSpPr>
        <p:spPr>
          <a:xfrm>
            <a:off x="3716640" y="177156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实际上不可能每天都尝试一种崭新的生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3"/>
          <p:cNvSpPr/>
          <p:nvPr/>
        </p:nvSpPr>
        <p:spPr>
          <a:xfrm>
            <a:off x="1421280" y="472284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也不可能时刻都保有那种对生活的全部激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4"/>
          <p:cNvSpPr/>
          <p:nvPr/>
        </p:nvSpPr>
        <p:spPr>
          <a:xfrm>
            <a:off x="876240" y="1195560"/>
            <a:ext cx="48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一切都在于心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6492960" y="1122480"/>
            <a:ext cx="2651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心</a:t>
            </a:r>
            <a:r>
              <a:rPr b="1" lang="zh-CN" sz="4000" spc="-1" strike="noStrike">
                <a:solidFill>
                  <a:srgbClr val="0070c0"/>
                </a:solidFill>
                <a:latin typeface="微软雅黑"/>
                <a:ea typeface="微软雅黑"/>
              </a:rPr>
              <a:t>自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工作便</a:t>
            </a:r>
            <a:r>
              <a:rPr b="1" lang="zh-CN" sz="4000" spc="-1" strike="noStrike">
                <a:solidFill>
                  <a:srgbClr val="0070c0"/>
                </a:solidFill>
                <a:latin typeface="微软雅黑"/>
                <a:ea typeface="微软雅黑"/>
              </a:rPr>
              <a:t>自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450"/>
                            </p:stCondLst>
                            <p:childTnLst>
                              <p:par>
                                <p:cTn id="187" dur="indefinite" nodeType="after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animMotion origin="layout" path="M 3.61111E-006 4.44444E-006 L 0.02378 0.43055 E">
                                      <p:cBhvr>
                                        <p:cTn id="188" dur="5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615"/>
                            </p:stCondLst>
                            <p:childTnLst>
                              <p:par>
                                <p:cTn id="190" dur="indefinite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615"/>
                            </p:stCondLst>
                            <p:childTnLst>
                              <p:par>
                                <p:cTn id="196" dur="indefinite" nodeType="after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Motion origin="layout" path="M 0 0 C 0.06892 0 0.125 0.01389 0.125 0.03125 C 0.125 0.04861 0.06892 0.06273 0 0.06273 C -0.06892 0.06273 -0.125 0.04861 -0.125 0.03125 C -0.125 0.01389 -0.06892 0 0 0 Z">
                                      <p:cBhvr>
                                        <p:cTn id="19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795"/>
                            </p:stCondLst>
                            <p:childTnLst>
                              <p:par>
                                <p:cTn id="199" dur="indefinite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nimMotion origin="layout" path="M -0.05087 -0.00439 C -0.01979 0.00371 0.02292 0.03867 0.03629 0.04445 C 0.04844 0.05024 0.01667 0.01668 0.02587 0.0301 C 0.03455 0.04353 0.07379 0.08357 0.09063 0.12455 C 0.10781 0.16552 0.12934 0.22524 0.12813 0.2764 C 0.12691 0.32756 0.10104 0.39515 0.08368 0.43195 C 0.06632 0.46876 0.04202 0.48195 0.02292 0.49677 C 0.00452 0.51158 -0.01458 0.51529 -0.02899 0.52084 C -0.0434 0.5264 -0.05607 0.52871 -0.06354 0.5308 E">
                                      <p:cBhvr>
                                        <p:cTn id="20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635"/>
                            </p:stCondLst>
                            <p:childTnLst>
                              <p:par>
                                <p:cTn id="202" dur="indefinite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7035"/>
                            </p:stCondLst>
                            <p:childTnLst>
                              <p:par>
                                <p:cTn id="208" dur="indefinite" nodeType="afterEffect" fill="hold" presetClass="path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2.77778E-007 -4.07407E-006 C 0.00295 -0.06064 0.00694 -0.11782 0.01493 -0.11782 C 0.02396 -0.11782 0.02708 -0.06064 0.03003 -4.07407E-006 C 0.03403 0.0669 0.03698 0.13426 0.04705 0.13426 C 0.05608 0.13426 0.05903 0.0669 0.06302 -4.07407E-006 C 0.06493 -0.06064 0.06892 -0.11782 0.07795 -0.11782 C 0.08594 -0.11782 0.08993 -0.06064 0.09306 -4.07407E-006 C 0.09601 0.0669 0.1 0.13426 0.10903 0.13426 C 0.11806 0.13426 0.125 -4.07407000000001E-006 0.125 0.00047 C 0.12795 -0.06064 0.13108 -0.11782 0.13993 -0.11782 C 0.14896 -0.11782 0.15208 -0.06064 0.15503 -4.07407E-006 C 0.15903 0.0669 0.16198 0.13426 0.17205 0.13426 C 0.18108 0.13426 0.18403 0.0669 0.18698 -4.07407E-006 C 0.19097 -0.06064 0.19392 -0.11782 0.20295 -0.11782 C 0.21094 -0.11782 0.21493 -0.06064 0.21806 -4.07407E-006 C 0.22101 0.0669 0.225 0.13426 0.23403 0.13426 C 0.24306 0.13426 0.24601 0.0669 0.25 -4.07407E-006 E">
                                      <p:cBhvr>
                                        <p:cTn id="209" dur="1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8935"/>
                            </p:stCondLst>
                            <p:childTnLst>
                              <p:par>
                                <p:cTn id="211" dur="indefinite" nodeType="afterEffect" fill="hold" presetClass="entr" presetID="17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9735"/>
                            </p:stCondLst>
                            <p:childTnLst>
                              <p:par>
                                <p:cTn id="218" dur="indefinite" nodeType="after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nimMotion origin="layout" path="M -4.16667E-006 4.81481E-006 L 0.38993 -0.00672 E">
                                      <p:cBhvr>
                                        <p:cTn id="219" dur="5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685"/>
                            </p:stCondLst>
                            <p:childTnLst>
                              <p:par>
                                <p:cTn id="221" dur="indefinite" nodeType="after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.38993 -0.00672 L 0.15365 -0.00672 E">
                                      <p:cBhvr>
                                        <p:cTn id="222" dur="1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2285"/>
                            </p:stCondLst>
                            <p:childTnLst>
                              <p:par>
                                <p:cTn id="224" dur="indefinite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2286"/>
                            </p:stCondLst>
                            <p:childTnLst>
                              <p:par>
                                <p:cTn id="227" dur="indefinite" nodeType="afterEffect" fill="hold" presetClass="path" presetID="41">
                                  <p:stCondLst>
                                    <p:cond delay="0"/>
                                  </p:stCondLst>
                                  <p:iterate type="lt">
                                    <p:tmAbs val="260"/>
                                  </p:iterate>
                                  <p:childTnLst>
                                    <p:animMotion origin="layout" path="M -3.88889E-006 2.59259E-006 C -0.00902 -0.00903 -0.03993 -0.01783 -0.05052 -0.01783 C -0.11875 -0.01783 -0.18888 0.12199 -0.18888 0.2618 C -0.18888 0.1912 -0.22395 0.12199 -0.25711 0.12199 C -0.29218 0.12199 -0.32534 0.19236 -0.32534 0.2618 C -0.32534 0.22685 -0.34305 0.1912 -0.36041 0.1912 C -0.37812 0.1912 -0.39548 0.22592 -0.39548 0.2618 C -0.39548 0.24375 -0.40434 0.22685 -0.41302 0.22685 C -0.42187 0.22685 -0.43055 0.2449 -0.43055 0.2618 C -0.43055 0.25278 -0.43507 0.24375 -0.43941 0.24375 C -0.44166 0.24375 -0.44809 0.25278 -0.44809 0.2618 C -0.44809 0.25717 -0.45052 0.25278 -0.45277 0.25278 C -0.45277 0.25162 -0.45729 0.25717 -0.45729 0.2618 C -0.45729 0.25926 -0.45729 0.25717 -0.45954 0.25717 C -0.45954 0.25833 -0.46198 0.25949 -0.46198 0.2618 C -0.46198 0.26041 -0.46198 0.25926 -0.46198 0.25833 C -0.46423 0.25833 -0.46423 0.25949 -0.46423 0.26065 C -0.46649 0.26065 -0.46649 0.25949 -0.46649 0.25833 C -0.46857 0.25833 -0.46857 0.25949 -0.46857 0.26065 E">
                                      <p:cBhvr>
                                        <p:cTn id="228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1" dur="250" autoRev="1" fill="hold"/>
                                        <p:tgtEl>
                                          <p:spTgt spid="1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矩形 1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ad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9"/>
          <p:cNvSpPr/>
          <p:nvPr/>
        </p:nvSpPr>
        <p:spPr>
          <a:xfrm>
            <a:off x="0" y="-17640"/>
            <a:ext cx="9144000" cy="97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7"/>
          <p:cNvSpPr/>
          <p:nvPr/>
        </p:nvSpPr>
        <p:spPr>
          <a:xfrm>
            <a:off x="3240" y="5929200"/>
            <a:ext cx="914400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0"/>
          <p:cNvSpPr/>
          <p:nvPr/>
        </p:nvSpPr>
        <p:spPr>
          <a:xfrm>
            <a:off x="2750400" y="2529000"/>
            <a:ext cx="310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敬请指教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C:\Users\liuying\Desktop\4_副本_副本_副本.png"/>
          <p:cNvPicPr/>
          <p:nvPr/>
        </p:nvPicPr>
        <p:blipFill>
          <a:blip r:embed="rId1"/>
          <a:stretch/>
        </p:blipFill>
        <p:spPr>
          <a:xfrm rot="3792000">
            <a:off x="6213240" y="3709800"/>
            <a:ext cx="116676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dur="indefinite" nodeType="withEffect" fill="hold" presetClass="entr" presetID="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ntr" presetID="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750"/>
                            </p:stCondLst>
                            <p:childTnLst>
                              <p:par>
                                <p:cTn id="24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250"/>
                            </p:stCondLst>
                            <p:childTnLst>
                              <p:par>
                                <p:cTn id="253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5" dur="1000" autoRev="1" fill="hold"/>
                                        <p:tgtEl>
                                          <p:spTgt spid="1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7E89-194D-4552-8D62-037AF1E7838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7f7f7f"/>
                </a:solidFill>
                <a:latin typeface="微软雅黑"/>
                <a:ea typeface="微软雅黑"/>
              </a:rPr>
              <a:t>目录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reeform 3"/>
          <p:cNvSpPr/>
          <p:nvPr/>
        </p:nvSpPr>
        <p:spPr>
          <a:xfrm>
            <a:off x="1895400" y="2284560"/>
            <a:ext cx="6566040" cy="21960"/>
          </a:xfrm>
          <a:prstGeom prst="pie">
            <a:avLst/>
          </a:prstGeom>
          <a:noFill/>
          <a:ln w="12600">
            <a:solidFill>
              <a:srgbClr val="bfbfb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1895400" y="3213000"/>
            <a:ext cx="6566040" cy="22320"/>
          </a:xfrm>
          <a:prstGeom prst="pie">
            <a:avLst/>
          </a:prstGeom>
          <a:noFill/>
          <a:ln w="12600">
            <a:solidFill>
              <a:srgbClr val="bfbfb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1895400" y="4141800"/>
            <a:ext cx="6566040" cy="22320"/>
          </a:xfrm>
          <a:prstGeom prst="pie">
            <a:avLst/>
          </a:prstGeom>
          <a:noFill/>
          <a:ln w="12600">
            <a:solidFill>
              <a:srgbClr val="bfbfb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3"/>
          <p:cNvSpPr/>
          <p:nvPr/>
        </p:nvSpPr>
        <p:spPr>
          <a:xfrm>
            <a:off x="1895400" y="5070600"/>
            <a:ext cx="6566040" cy="21960"/>
          </a:xfrm>
          <a:prstGeom prst="pie">
            <a:avLst/>
          </a:prstGeom>
          <a:noFill/>
          <a:ln w="12600">
            <a:solidFill>
              <a:srgbClr val="bfbfb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2067840" y="1738440"/>
            <a:ext cx="305640" cy="43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cc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cc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cc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cc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"/>
          <p:cNvSpPr/>
          <p:nvPr/>
        </p:nvSpPr>
        <p:spPr>
          <a:xfrm>
            <a:off x="3078360" y="2052720"/>
            <a:ext cx="242712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工作为何如此苦恼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从</a:t>
            </a:r>
            <a:r>
              <a:rPr b="0" lang="en-US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Simple</a:t>
            </a: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开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让自己更</a:t>
            </a:r>
            <a:r>
              <a:rPr b="0" lang="en-US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Power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享受</a:t>
            </a:r>
            <a:r>
              <a:rPr b="0" lang="en-US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Free</a:t>
            </a: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工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工作并快乐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3"/>
          <p:cNvSpPr/>
          <p:nvPr/>
        </p:nvSpPr>
        <p:spPr>
          <a:xfrm>
            <a:off x="1979640" y="6021360"/>
            <a:ext cx="6566040" cy="22320"/>
          </a:xfrm>
          <a:prstGeom prst="pie">
            <a:avLst/>
          </a:prstGeom>
          <a:noFill/>
          <a:ln w="12600">
            <a:solidFill>
              <a:srgbClr val="bfbfb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C:\Users\liuying\Desktop\蓝3_副本.jpg"/>
          <p:cNvPicPr/>
          <p:nvPr/>
        </p:nvPicPr>
        <p:blipFill>
          <a:blip r:embed="rId1"/>
          <a:stretch/>
        </p:blipFill>
        <p:spPr>
          <a:xfrm>
            <a:off x="0" y="-7920"/>
            <a:ext cx="180036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C:\Users\liuying\Desktop\蓝3_副本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2276640"/>
          </a:xfrm>
          <a:prstGeom prst="rect">
            <a:avLst/>
          </a:prstGeom>
          <a:ln w="0">
            <a:noFill/>
          </a:ln>
        </p:spPr>
      </p:pic>
      <p:sp>
        <p:nvSpPr>
          <p:cNvPr id="58" name="TextBox 28"/>
          <p:cNvSpPr/>
          <p:nvPr/>
        </p:nvSpPr>
        <p:spPr>
          <a:xfrm>
            <a:off x="2590920" y="421956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0c0"/>
                </a:solidFill>
                <a:latin typeface="微软雅黑"/>
                <a:ea typeface="微软雅黑"/>
              </a:rPr>
              <a:t>工作为何如此苦恼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1009800" y="2924280"/>
            <a:ext cx="660240" cy="1752480"/>
          </a:xfrm>
          <a:prstGeom prst="rect">
            <a:avLst/>
          </a:prstGeom>
          <a:ln w="0">
            <a:noFill/>
          </a:ln>
        </p:spPr>
      </p:pic>
      <p:sp>
        <p:nvSpPr>
          <p:cNvPr id="60" name="矩形 38"/>
          <p:cNvSpPr/>
          <p:nvPr/>
        </p:nvSpPr>
        <p:spPr>
          <a:xfrm rot="20273400">
            <a:off x="4621320" y="1053720"/>
            <a:ext cx="2077920" cy="663480"/>
          </a:xfrm>
          <a:prstGeom prst="rect">
            <a:avLst/>
          </a:prstGeom>
          <a:solidFill>
            <a:srgbClr val="00ad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Hel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圆角矩形标注 4"/>
          <p:cNvSpPr/>
          <p:nvPr/>
        </p:nvSpPr>
        <p:spPr>
          <a:xfrm>
            <a:off x="69840" y="1268280"/>
            <a:ext cx="4502160" cy="720720"/>
          </a:xfrm>
          <a:prstGeom prst="wedgeRoundRectCallout">
            <a:avLst>
              <a:gd name="adj1" fmla="val 33250"/>
              <a:gd name="adj2" fmla="val 98092"/>
              <a:gd name="adj3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dea"/>
                </a:solidFill>
                <a:latin typeface="微软雅黑"/>
                <a:ea typeface="微软雅黑"/>
              </a:rPr>
              <a:t>70%</a:t>
            </a: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的工作者成为“过劳模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8" descr=""/>
          <p:cNvPicPr/>
          <p:nvPr/>
        </p:nvPicPr>
        <p:blipFill>
          <a:blip r:embed="rId1"/>
          <a:stretch/>
        </p:blipFill>
        <p:spPr>
          <a:xfrm>
            <a:off x="17640" y="0"/>
            <a:ext cx="6129000" cy="6997680"/>
          </a:xfrm>
          <a:prstGeom prst="rect">
            <a:avLst/>
          </a:prstGeom>
          <a:ln w="0">
            <a:noFill/>
          </a:ln>
        </p:spPr>
      </p:pic>
      <p:sp>
        <p:nvSpPr>
          <p:cNvPr id="63" name="矩形 104"/>
          <p:cNvSpPr/>
          <p:nvPr/>
        </p:nvSpPr>
        <p:spPr>
          <a:xfrm>
            <a:off x="7790040" y="2011320"/>
            <a:ext cx="1319040" cy="287280"/>
          </a:xfrm>
          <a:prstGeom prst="rect">
            <a:avLst/>
          </a:prstGeom>
          <a:solidFill>
            <a:srgbClr val="92ccdc"/>
          </a:solidFill>
          <a:ln w="25560">
            <a:solidFill>
              <a:srgbClr val="92c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-414720" y="3003480"/>
            <a:ext cx="9117720" cy="4017960"/>
            <a:chOff x="-414720" y="3003480"/>
            <a:chExt cx="9117720" cy="4017960"/>
          </a:xfrm>
        </p:grpSpPr>
        <p:sp>
          <p:nvSpPr>
            <p:cNvPr id="65" name="Text Box 5"/>
            <p:cNvSpPr/>
            <p:nvPr/>
          </p:nvSpPr>
          <p:spPr>
            <a:xfrm rot="20194200">
              <a:off x="5793120" y="3664080"/>
              <a:ext cx="200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疲劳感经过休息仍不易解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矩形 103"/>
            <p:cNvSpPr/>
            <p:nvPr/>
          </p:nvSpPr>
          <p:spPr>
            <a:xfrm flipV="1" rot="20278200">
              <a:off x="-676440" y="4629600"/>
              <a:ext cx="8730000" cy="302760"/>
            </a:xfrm>
            <a:prstGeom prst="rect">
              <a:avLst/>
            </a:prstGeom>
            <a:solidFill>
              <a:srgbClr val="92ccdc"/>
            </a:solidFill>
            <a:ln w="25560">
              <a:solidFill>
                <a:srgbClr val="92c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矩形 4095"/>
            <p:cNvSpPr/>
            <p:nvPr/>
          </p:nvSpPr>
          <p:spPr>
            <a:xfrm rot="20309400">
              <a:off x="3761640" y="4728600"/>
              <a:ext cx="1631160" cy="199440"/>
            </a:xfrm>
            <a:prstGeom prst="rect">
              <a:avLst/>
            </a:prstGeom>
            <a:solidFill>
              <a:srgbClr val="92ccdc"/>
            </a:solidFill>
            <a:ln w="25560">
              <a:solidFill>
                <a:srgbClr val="92c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矩形 140"/>
            <p:cNvSpPr/>
            <p:nvPr/>
          </p:nvSpPr>
          <p:spPr>
            <a:xfrm rot="20309400">
              <a:off x="3905640" y="5024880"/>
              <a:ext cx="1631160" cy="199440"/>
            </a:xfrm>
            <a:prstGeom prst="rect">
              <a:avLst/>
            </a:prstGeom>
            <a:solidFill>
              <a:srgbClr val="92ccdc"/>
            </a:solidFill>
            <a:ln w="25560">
              <a:solidFill>
                <a:srgbClr val="92c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矩形 141"/>
            <p:cNvSpPr/>
            <p:nvPr/>
          </p:nvSpPr>
          <p:spPr>
            <a:xfrm rot="20309400">
              <a:off x="4009680" y="5313240"/>
              <a:ext cx="1631160" cy="199440"/>
            </a:xfrm>
            <a:prstGeom prst="rect">
              <a:avLst/>
            </a:prstGeom>
            <a:solidFill>
              <a:srgbClr val="92ccdc"/>
            </a:solidFill>
            <a:ln w="25560">
              <a:solidFill>
                <a:srgbClr val="92c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矩形 143"/>
            <p:cNvSpPr/>
            <p:nvPr/>
          </p:nvSpPr>
          <p:spPr>
            <a:xfrm rot="20309400">
              <a:off x="4114440" y="5612760"/>
              <a:ext cx="1631160" cy="199440"/>
            </a:xfrm>
            <a:prstGeom prst="rect">
              <a:avLst/>
            </a:prstGeom>
            <a:solidFill>
              <a:srgbClr val="92ccdc"/>
            </a:solidFill>
            <a:ln w="25560">
              <a:solidFill>
                <a:srgbClr val="92c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矩形 144"/>
            <p:cNvSpPr/>
            <p:nvPr/>
          </p:nvSpPr>
          <p:spPr>
            <a:xfrm rot="20309400">
              <a:off x="4233240" y="5929200"/>
              <a:ext cx="1631160" cy="199440"/>
            </a:xfrm>
            <a:prstGeom prst="rect">
              <a:avLst/>
            </a:prstGeom>
            <a:solidFill>
              <a:srgbClr val="92ccdc"/>
            </a:solidFill>
            <a:ln w="25560">
              <a:solidFill>
                <a:srgbClr val="92c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矩形 145"/>
            <p:cNvSpPr/>
            <p:nvPr/>
          </p:nvSpPr>
          <p:spPr>
            <a:xfrm rot="20309400">
              <a:off x="4357440" y="6229440"/>
              <a:ext cx="1631160" cy="199440"/>
            </a:xfrm>
            <a:prstGeom prst="rect">
              <a:avLst/>
            </a:prstGeom>
            <a:solidFill>
              <a:srgbClr val="92ccdc"/>
            </a:solidFill>
            <a:ln w="25560">
              <a:solidFill>
                <a:srgbClr val="92c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5"/>
            <p:cNvSpPr/>
            <p:nvPr/>
          </p:nvSpPr>
          <p:spPr>
            <a:xfrm rot="20194200">
              <a:off x="6442560" y="4103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感到情绪沮丧、郁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5"/>
            <p:cNvSpPr/>
            <p:nvPr/>
          </p:nvSpPr>
          <p:spPr>
            <a:xfrm rot="20194200">
              <a:off x="6118920" y="4230000"/>
              <a:ext cx="216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觉得手上工作太多，无法应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5"/>
            <p:cNvSpPr/>
            <p:nvPr/>
          </p:nvSpPr>
          <p:spPr>
            <a:xfrm rot="20194200">
              <a:off x="5966280" y="482616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眼睛很容易疲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5"/>
            <p:cNvSpPr/>
            <p:nvPr/>
          </p:nvSpPr>
          <p:spPr>
            <a:xfrm rot="20194200">
              <a:off x="6078960" y="512424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想哭或想要发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5"/>
            <p:cNvSpPr/>
            <p:nvPr/>
          </p:nvSpPr>
          <p:spPr>
            <a:xfrm rot="20194200">
              <a:off x="6401520" y="5185440"/>
              <a:ext cx="200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很多事情想做却没有时间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矩形 151"/>
            <p:cNvSpPr/>
            <p:nvPr/>
          </p:nvSpPr>
          <p:spPr>
            <a:xfrm rot="20309400">
              <a:off x="4489920" y="6530040"/>
              <a:ext cx="1631160" cy="199440"/>
            </a:xfrm>
            <a:prstGeom prst="rect">
              <a:avLst/>
            </a:prstGeom>
            <a:solidFill>
              <a:srgbClr val="92ccdc"/>
            </a:solidFill>
            <a:ln w="25560">
              <a:solidFill>
                <a:srgbClr val="92c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5"/>
            <p:cNvSpPr/>
            <p:nvPr/>
          </p:nvSpPr>
          <p:spPr>
            <a:xfrm rot="20194200">
              <a:off x="6550920" y="5481000"/>
              <a:ext cx="216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感觉脑子每天都被塞得满满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圆角矩形 153"/>
          <p:cNvSpPr/>
          <p:nvPr/>
        </p:nvSpPr>
        <p:spPr>
          <a:xfrm>
            <a:off x="5505480" y="1616040"/>
            <a:ext cx="1866960" cy="7905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症状表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C:\Users\liuying\Desktop\1238452_46868173_副本.jpg"/>
          <p:cNvPicPr/>
          <p:nvPr/>
        </p:nvPicPr>
        <p:blipFill>
          <a:blip r:embed="rId1"/>
          <a:stretch/>
        </p:blipFill>
        <p:spPr>
          <a:xfrm>
            <a:off x="466560" y="2255760"/>
            <a:ext cx="2813040" cy="2109960"/>
          </a:xfrm>
          <a:prstGeom prst="rect">
            <a:avLst/>
          </a:prstGeom>
          <a:ln w="0">
            <a:noFill/>
          </a:ln>
        </p:spPr>
      </p:pic>
      <p:grpSp>
        <p:nvGrpSpPr>
          <p:cNvPr id="82" name=""/>
          <p:cNvGrpSpPr/>
          <p:nvPr/>
        </p:nvGrpSpPr>
        <p:grpSpPr>
          <a:xfrm>
            <a:off x="3718080" y="744480"/>
            <a:ext cx="4457520" cy="4729320"/>
            <a:chOff x="3718080" y="744480"/>
            <a:chExt cx="4457520" cy="4729320"/>
          </a:xfrm>
        </p:grpSpPr>
        <p:sp>
          <p:nvSpPr>
            <p:cNvPr id="83" name="圆角矩形 15"/>
            <p:cNvSpPr/>
            <p:nvPr/>
          </p:nvSpPr>
          <p:spPr>
            <a:xfrm>
              <a:off x="3720600" y="3433680"/>
              <a:ext cx="4452120" cy="79200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     </a:t>
              </a:r>
              <a:r>
                <a:rPr b="0" lang="zh-CN" sz="2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被工作追着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Picture 11" descr="C:\Users\liuying\Desktop\319354_5040_副本.jpg"/>
            <p:cNvPicPr/>
            <p:nvPr/>
          </p:nvPicPr>
          <p:blipFill>
            <a:blip r:embed="rId2"/>
            <a:stretch/>
          </p:blipFill>
          <p:spPr>
            <a:xfrm>
              <a:off x="3777120" y="3471120"/>
              <a:ext cx="1364040" cy="79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圆角矩形 20"/>
            <p:cNvSpPr/>
            <p:nvPr/>
          </p:nvSpPr>
          <p:spPr>
            <a:xfrm>
              <a:off x="3723480" y="4652640"/>
              <a:ext cx="4452120" cy="79200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               </a:t>
              </a:r>
              <a:r>
                <a:rPr b="0" lang="zh-CN" sz="2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缺乏焦点，目标模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Picture 10" descr="C:\Users\liuying\Desktop\1111030_19526517_副本.jpg"/>
            <p:cNvPicPr/>
            <p:nvPr/>
          </p:nvPicPr>
          <p:blipFill>
            <a:blip r:embed="rId3"/>
            <a:stretch/>
          </p:blipFill>
          <p:spPr>
            <a:xfrm>
              <a:off x="3779640" y="4601880"/>
              <a:ext cx="1357200" cy="87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圆角矩形 21"/>
            <p:cNvSpPr/>
            <p:nvPr/>
          </p:nvSpPr>
          <p:spPr>
            <a:xfrm>
              <a:off x="3723480" y="1164240"/>
              <a:ext cx="4452120" cy="79200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               </a:t>
              </a:r>
              <a:r>
                <a:rPr b="0" lang="zh-CN" sz="2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工作繁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Picture 9" descr=""/>
            <p:cNvPicPr/>
            <p:nvPr/>
          </p:nvPicPr>
          <p:blipFill>
            <a:blip r:embed="rId4"/>
            <a:stretch/>
          </p:blipFill>
          <p:spPr>
            <a:xfrm>
              <a:off x="3779640" y="744480"/>
              <a:ext cx="135720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圆角矩形 22"/>
            <p:cNvSpPr/>
            <p:nvPr/>
          </p:nvSpPr>
          <p:spPr>
            <a:xfrm>
              <a:off x="3718080" y="2282760"/>
              <a:ext cx="4452120" cy="79200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2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工资压力大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5" descr="C:\Users\liuying\Desktop\1162219_63560400.jpg"/>
            <p:cNvPicPr/>
            <p:nvPr/>
          </p:nvPicPr>
          <p:blipFill>
            <a:blip r:embed="rId5"/>
            <a:stretch/>
          </p:blipFill>
          <p:spPr>
            <a:xfrm>
              <a:off x="3773520" y="1960200"/>
              <a:ext cx="1357200" cy="1152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直接连接符 3"/>
          <p:cNvSpPr/>
          <p:nvPr/>
        </p:nvSpPr>
        <p:spPr>
          <a:xfrm>
            <a:off x="4572000" y="1413000"/>
            <a:ext cx="0" cy="4248000"/>
          </a:xfrm>
          <a:prstGeom prst="line">
            <a:avLst/>
          </a:prstGeom>
          <a:ln w="25560">
            <a:solidFill>
              <a:srgbClr val="7f7f7f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C:\Users\liuying\Desktop\951925_143825096308_2_副本.jpg"/>
          <p:cNvPicPr/>
          <p:nvPr/>
        </p:nvPicPr>
        <p:blipFill>
          <a:blip r:embed="rId1"/>
          <a:stretch/>
        </p:blipFill>
        <p:spPr>
          <a:xfrm>
            <a:off x="338040" y="1052640"/>
            <a:ext cx="3881520" cy="4336920"/>
          </a:xfrm>
          <a:prstGeom prst="rect">
            <a:avLst/>
          </a:prstGeom>
          <a:ln w="0">
            <a:noFill/>
          </a:ln>
        </p:spPr>
      </p:pic>
      <p:sp>
        <p:nvSpPr>
          <p:cNvPr id="93" name="矩形 5"/>
          <p:cNvSpPr/>
          <p:nvPr/>
        </p:nvSpPr>
        <p:spPr>
          <a:xfrm>
            <a:off x="1122480" y="567216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不停地开会，做方案，等待审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C:\Users\liuying\Desktop\84868411.jpg"/>
          <p:cNvPicPr/>
          <p:nvPr/>
        </p:nvPicPr>
        <p:blipFill>
          <a:blip r:embed="rId2"/>
          <a:stretch/>
        </p:blipFill>
        <p:spPr>
          <a:xfrm>
            <a:off x="-3994200" y="1052640"/>
            <a:ext cx="3745080" cy="4322520"/>
          </a:xfrm>
          <a:prstGeom prst="rect">
            <a:avLst/>
          </a:prstGeom>
          <a:ln w="0">
            <a:noFill/>
          </a:ln>
        </p:spPr>
      </p:pic>
      <p:sp>
        <p:nvSpPr>
          <p:cNvPr id="95" name="TextBox 7"/>
          <p:cNvSpPr/>
          <p:nvPr/>
        </p:nvSpPr>
        <p:spPr>
          <a:xfrm>
            <a:off x="-3633840" y="564192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铺天漫地的任务安排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8"/>
          <p:cNvSpPr/>
          <p:nvPr/>
        </p:nvSpPr>
        <p:spPr>
          <a:xfrm>
            <a:off x="-3510000" y="560880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失去自我，渴望自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C:\Users\liuying\Desktop\108003322_副本.jpg"/>
          <p:cNvPicPr/>
          <p:nvPr/>
        </p:nvPicPr>
        <p:blipFill>
          <a:blip r:embed="rId3"/>
          <a:stretch/>
        </p:blipFill>
        <p:spPr>
          <a:xfrm>
            <a:off x="-3994200" y="1057320"/>
            <a:ext cx="379404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50301E-006 L 0.51077 -0.00115 E">
                                      <p:cBhvr>
                                        <p:cTn id="43" dur="175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2 -2.41331E-006 L 0.50261 0.0007 E">
                                      <p:cBhvr>
                                        <p:cTn id="45" dur="175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038 0.00116 L 0.48142 0.00116 E">
                                      <p:cBhvr>
                                        <p:cTn id="47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03 -0.00069 L 0.48559 0.0044 E">
                                      <p:cBhvr>
                                        <p:cTn id="49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1077 -0.00115 L 0.97535 -0.00115 E">
                                      <p:cBhvr>
                                        <p:cTn id="53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026 0.0007 L 0.95937 0.01133 E">
                                      <p:cBhvr>
                                        <p:cTn id="55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142 0.00115 L 0.98437 1.29912E-006 E">
                                      <p:cBhvr>
                                        <p:cTn id="57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559 0.00439 L 0.97257 0.00509 E">
                                      <p:cBhvr>
                                        <p:cTn id="59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17614E-006 L 0.46875 -0.00162 E">
                                      <p:cBhvr>
                                        <p:cTn id="61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458 -0.00069 L 0.4934 0.00717 E">
                                      <p:cBhvr>
                                        <p:cTn id="63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C:\Users\liuying\Desktop\蓝3_副本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2276640"/>
          </a:xfrm>
          <a:prstGeom prst="rect">
            <a:avLst/>
          </a:prstGeom>
          <a:ln w="0">
            <a:noFill/>
          </a:ln>
        </p:spPr>
      </p:pic>
      <p:sp>
        <p:nvSpPr>
          <p:cNvPr id="99" name="矩形 4"/>
          <p:cNvSpPr/>
          <p:nvPr/>
        </p:nvSpPr>
        <p:spPr>
          <a:xfrm rot="20273400">
            <a:off x="4621320" y="1053720"/>
            <a:ext cx="2077920" cy="663480"/>
          </a:xfrm>
          <a:prstGeom prst="rect">
            <a:avLst/>
          </a:prstGeom>
          <a:solidFill>
            <a:srgbClr val="00ad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2987640" y="4203720"/>
            <a:ext cx="37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0c0"/>
                </a:solidFill>
                <a:latin typeface="Miriam"/>
                <a:ea typeface="微软雅黑"/>
              </a:rPr>
              <a:t>从</a:t>
            </a:r>
            <a:r>
              <a:rPr b="0" lang="zh-CN" sz="4400" spc="-1" strike="noStrike">
                <a:solidFill>
                  <a:srgbClr val="0070c0"/>
                </a:solidFill>
                <a:latin typeface="Miriam"/>
                <a:ea typeface="微软雅黑"/>
              </a:rPr>
              <a:t> </a:t>
            </a:r>
            <a:r>
              <a:rPr b="0" lang="en-US" sz="4400" spc="-1" strike="noStrike">
                <a:solidFill>
                  <a:srgbClr val="0070c0"/>
                </a:solidFill>
                <a:latin typeface="Miriam"/>
                <a:ea typeface="微软雅黑"/>
              </a:rPr>
              <a:t>Simple</a:t>
            </a:r>
            <a:r>
              <a:rPr b="0" lang="zh-CN" sz="3600" spc="-1" strike="noStrike">
                <a:solidFill>
                  <a:srgbClr val="0070c0"/>
                </a:solidFill>
                <a:latin typeface="Miriam"/>
                <a:ea typeface="微软雅黑"/>
              </a:rPr>
              <a:t>起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603360" y="2959200"/>
            <a:ext cx="1168200" cy="17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8" descr="C:\Users\liuying\Desktop\gic5896856.jpg"/>
          <p:cNvPicPr/>
          <p:nvPr/>
        </p:nvPicPr>
        <p:blipFill>
          <a:blip r:embed="rId1"/>
          <a:stretch/>
        </p:blipFill>
        <p:spPr>
          <a:xfrm>
            <a:off x="969840" y="2060640"/>
            <a:ext cx="7202520" cy="4797360"/>
          </a:xfrm>
          <a:prstGeom prst="rect">
            <a:avLst/>
          </a:prstGeom>
          <a:ln w="0">
            <a:noFill/>
          </a:ln>
        </p:spPr>
      </p:pic>
      <p:sp>
        <p:nvSpPr>
          <p:cNvPr id="103" name="云形标注 19"/>
          <p:cNvSpPr/>
          <p:nvPr/>
        </p:nvSpPr>
        <p:spPr>
          <a:xfrm>
            <a:off x="4572000" y="620640"/>
            <a:ext cx="2736720" cy="743040"/>
          </a:xfrm>
          <a:prstGeom prst="cloudCallout">
            <a:avLst>
              <a:gd name="adj1" fmla="val 175"/>
              <a:gd name="adj2" fmla="val 234884"/>
            </a:avLst>
          </a:prstGeom>
          <a:solidFill>
            <a:srgbClr val="ffffff"/>
          </a:solidFill>
          <a:ln w="9360">
            <a:solidFill>
              <a:srgbClr val="318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工作优先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云形标注 20"/>
          <p:cNvSpPr/>
          <p:nvPr/>
        </p:nvSpPr>
        <p:spPr>
          <a:xfrm>
            <a:off x="-466560" y="1933560"/>
            <a:ext cx="2122200" cy="922320"/>
          </a:xfrm>
          <a:prstGeom prst="cloudCallout">
            <a:avLst>
              <a:gd name="adj1" fmla="val 18819"/>
              <a:gd name="adj2" fmla="val 72532"/>
            </a:avLst>
          </a:prstGeom>
          <a:solidFill>
            <a:srgbClr val="ffffff"/>
          </a:solidFill>
          <a:ln w="9360">
            <a:solidFill>
              <a:srgbClr val="318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细分工作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云形标注 21"/>
          <p:cNvSpPr/>
          <p:nvPr/>
        </p:nvSpPr>
        <p:spPr>
          <a:xfrm>
            <a:off x="3670200" y="1363680"/>
            <a:ext cx="1873440" cy="939960"/>
          </a:xfrm>
          <a:prstGeom prst="cloudCallout">
            <a:avLst>
              <a:gd name="adj1" fmla="val -15444"/>
              <a:gd name="adj2" fmla="val 180763"/>
            </a:avLst>
          </a:prstGeom>
          <a:solidFill>
            <a:srgbClr val="ffffff"/>
          </a:solidFill>
          <a:ln w="9360">
            <a:solidFill>
              <a:srgbClr val="318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理性</a:t>
            </a:r>
            <a:r>
              <a:rPr b="0" lang="en-US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say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云形标注 22"/>
          <p:cNvSpPr/>
          <p:nvPr/>
        </p:nvSpPr>
        <p:spPr>
          <a:xfrm>
            <a:off x="7453440" y="189000"/>
            <a:ext cx="2016000" cy="1427040"/>
          </a:xfrm>
          <a:prstGeom prst="cloudCallout">
            <a:avLst>
              <a:gd name="adj1" fmla="val -38944"/>
              <a:gd name="adj2" fmla="val 69712"/>
            </a:avLst>
          </a:prstGeom>
          <a:solidFill>
            <a:srgbClr val="ffffff"/>
          </a:solidFill>
          <a:ln w="9360">
            <a:solidFill>
              <a:srgbClr val="318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标准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流程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模板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云形标注 23"/>
          <p:cNvSpPr/>
          <p:nvPr/>
        </p:nvSpPr>
        <p:spPr>
          <a:xfrm>
            <a:off x="905040" y="816120"/>
            <a:ext cx="2736720" cy="742680"/>
          </a:xfrm>
          <a:prstGeom prst="cloudCallout">
            <a:avLst>
              <a:gd name="adj1" fmla="val 12972"/>
              <a:gd name="adj2" fmla="val 158916"/>
            </a:avLst>
          </a:prstGeom>
          <a:solidFill>
            <a:srgbClr val="ffffff"/>
          </a:solidFill>
          <a:ln w="9360">
            <a:solidFill>
              <a:srgbClr val="318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持续改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1T22:00:00Z</dcterms:created>
  <dc:creator>幻灯片之家：www.eeppt.com; liuying</dc:creator>
  <dc:description>幻灯片之家：www.eeppt.com</dc:description>
  <cp:keywords>幻灯片之家：www.eeppt.com</cp:keywords>
  <dc:language>en-US</dc:language>
  <cp:lastModifiedBy>微软用户</cp:lastModifiedBy>
  <dcterms:modified xsi:type="dcterms:W3CDTF">2015-09-20T08:14:08Z</dcterms:modified>
  <cp:revision>14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