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ACF-7B5D-411D-958F-7906E887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E18-1F7F-44ED-BFAF-97DD03AC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2D9-4E14-4416-888B-1D64EE5C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120-85D4-4542-8394-2A9B16C0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802-F432-42CE-8946-392600D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628-5132-436E-9124-DE7256B3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C00-2E1E-4D12-B08F-C2052207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94F-F9DA-4DA2-B7DB-E9ABBD2D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EC6-E425-4DCA-86B1-DC93A2D4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C14-2E5C-403A-BDBC-B3AA534A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3E7-645C-4293-A726-81F99B6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025-80AC-43AD-92A1-60F46AF9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E6E6-34BA-4518-8786-406FC82C8D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3CED-A252-492D-80E0-CA75A30D76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60360" y="486900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方叠体简"/>
                <a:ea typeface="汉仪方叠体简"/>
              </a:rPr>
              <a:t>快乐万圣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50920" y="6381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64281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47A-3845-487D-9640-223C26B0A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0:04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