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71B-FC95-4664-84CB-D6198951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185-16CB-47A1-8BC6-5A6E9EB8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873-564A-4ED5-AED8-9DC8D284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694-150A-4F81-863D-EFC8B593D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24A2-0F39-4F06-873B-3E9C3724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0F89-EAC9-4628-9D7A-B6A9C31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6D78-9269-4A14-947C-73BDC12D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C444-C0CC-40B1-913F-184DF027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FE56-210E-45E7-9D5C-82E9F496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30EB-76E0-4443-A0E8-F97BD41A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FCA8-58F1-4781-B869-362480F7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56CD-08D9-4949-B2A1-B62D9FC4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DB4F-C4DA-4301-B592-522A0699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04B4-DA6C-4E57-AD98-82F56DD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DAF4-559E-4AB9-BACF-55065F5A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A628-776D-433C-AB9F-14B6A851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48F7-0D7C-4D70-BB8B-ABC5AE09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4C87-D784-4BD3-9DE5-4FE4B2EC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4F9-529A-4297-A096-33135F2B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2ED-337D-498A-8268-1DF88A76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867-EDF2-4888-A9E5-C65CCA6B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44D5-940D-4A8A-8B0F-F9E37FEA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E00-D31B-46B9-A51E-2F26B4B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8AA-D281-404E-91C2-D269EFB7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A145-97BF-40D1-9BF5-E13A078F6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3200" y="457200"/>
            <a:ext cx="556272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6467-24E0-48C5-B134-4801361E42B7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0240" y="5335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乐阅读卡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57200" y="45720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1447920"/>
            <a:ext cx="83059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配色方案在【格式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幻灯片设计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配色方案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编辑配色方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添加修改在【视图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幻灯片母版】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括标题和文本格式的设置在【视图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母版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--&gt;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【幻灯片母版】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首页主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副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内页标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中文黑体英文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ria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加粗；内页内容文字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号（宋体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1360" y="53352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380880"/>
            <a:ext cx="121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F0B5-C8CC-4591-8ABC-930AFE5AEA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00400" y="1599840"/>
            <a:ext cx="4386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438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9T09:55:1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8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