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E32E-B5A3-4071-A1DE-EE6CDB34E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B491-2242-4026-BDE4-D85AB34C4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1DD8-E4B4-4129-AB5C-3BAAA9290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37B0-9EB5-4D7D-B03D-994BC648C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0C53-76AE-434E-A475-62820B2FD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EC26-F478-478D-9DE3-7B00F1300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8617-302A-45A5-9EDE-058033AEF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FE74-8639-4AF3-8327-E6956E555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8528-F8AD-4624-B7AF-1205C8E8A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4967-8FBF-4B17-B072-A11780958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5210-ED39-487B-8E22-51705D187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A3AF-8D20-4004-9EAA-48B9DCB9F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b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57C0CA-CC4E-4AB9-944B-94EE8CDC35F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0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卡通儿童节节日</a:t>
            </a:r>
            <a:r>
              <a:rPr b="0" lang="en-US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BE00A9-8D7C-4C7E-AC46-7DF9D231328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525366A-7270-42D7-9B0E-A9724B363DE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0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1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2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1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1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78400" y="1333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56ED-97FA-48E2-A80F-AE5D3683E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AFE3882-D90C-4A01-9E72-685171BA28C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bg1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68360" y="51404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17:30Z</dcterms:modified>
  <cp:revision>15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