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Eurostile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Eurostile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Eurostile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Eurostile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Eurostile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Eurostile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Eurostile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image" Target="../media/image6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640" y="610920"/>
            <a:ext cx="878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Eurostile"/>
              </a:rPr>
              <a:t>卡通形象体育运动应用</a:t>
            </a:r>
            <a:r>
              <a:rPr b="1" lang="zh-CN" sz="4000" spc="-1" strike="noStrike">
                <a:solidFill>
                  <a:srgbClr val="000000"/>
                </a:solidFill>
                <a:latin typeface="Eurostile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Eurostile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Eurostile"/>
                <a:ea typeface="宋体"/>
              </a:rPr>
              <a:t>下载</a:t>
            </a:r>
            <a:endParaRPr b="1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宋体"/>
              </a:rPr>
              <a:t>CLICK TO ADD TITL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25000"/>
              <a:buFont typeface="Eurostile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Eurostile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宋体"/>
              </a:rPr>
              <a:t>CLICK TO ADD TITL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25000"/>
              <a:buFont typeface="Eurostile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Eurostile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urostile"/>
                <a:ea typeface="宋体"/>
              </a:rPr>
              <a:t>TRANSITIONAL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6" name=""/>
          <p:cNvSpPr/>
          <p:nvPr/>
        </p:nvSpPr>
        <p:spPr>
          <a:xfrm>
            <a:off x="252360" y="479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rostile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Eurostile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Eurostile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Eurostile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Eurostil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Eurostile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Eurostil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Eurostil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urostile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urostile"/>
                <a:ea typeface="宋体"/>
              </a:rPr>
              <a:t>ELEMENTS</a:t>
            </a: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2914560" cy="21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" name="Picture 4" descr="extreme_angle_prt"/>
          <p:cNvPicPr/>
          <p:nvPr/>
        </p:nvPicPr>
        <p:blipFill>
          <a:blip r:embed="rId2"/>
          <a:stretch/>
        </p:blipFill>
        <p:spPr>
          <a:xfrm>
            <a:off x="1219320" y="1523880"/>
            <a:ext cx="2914560" cy="21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733920" y="1981080"/>
            <a:ext cx="2914560" cy="21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extreme_angle_qx"/>
          <p:cNvPicPr/>
          <p:nvPr/>
        </p:nvPicPr>
        <p:blipFill>
          <a:blip r:embed="rId4"/>
          <a:stretch/>
        </p:blipFill>
        <p:spPr>
          <a:xfrm>
            <a:off x="3733920" y="1981080"/>
            <a:ext cx="2914560" cy="21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09480" y="3352680"/>
            <a:ext cx="2916360" cy="218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extreme_angle_sld"/>
          <p:cNvPicPr/>
          <p:nvPr/>
        </p:nvPicPr>
        <p:blipFill>
          <a:blip r:embed="rId6"/>
          <a:stretch/>
        </p:blipFill>
        <p:spPr>
          <a:xfrm>
            <a:off x="609480" y="3352680"/>
            <a:ext cx="2916360" cy="218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124080" y="4343400"/>
            <a:ext cx="2916360" cy="218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extreme_angle_trs"/>
          <p:cNvPicPr/>
          <p:nvPr/>
        </p:nvPicPr>
        <p:blipFill>
          <a:blip r:embed="rId8"/>
          <a:stretch/>
        </p:blipFill>
        <p:spPr>
          <a:xfrm>
            <a:off x="3124080" y="4343400"/>
            <a:ext cx="2916360" cy="218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8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3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