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B14-A20E-4AE5-A8CE-9B451220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28C-635F-4D7E-869F-1C7F37A6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00BB-26FE-4E0A-A7EB-0D6D131B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4A03-C192-4C65-807E-4A817FE8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807-FD84-464B-B341-BB54611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F39-4D26-4EF4-BB3C-C4A8EB5A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E91-E2A7-4D3B-8AC8-116E1CFF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256-2586-4408-918D-87A21F8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394-F925-40B2-83E3-C1032F4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8395-D40D-4E2F-81F8-94E0BDA0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3FE-891D-4145-BC05-C3287D1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DF2-AE86-450F-A75E-F50AD3B7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218-F971-4A43-8681-A2A29119D5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8611-4E7E-42C9-9127-A176D4A31F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2"/>
          <p:cNvSpPr/>
          <p:nvPr/>
        </p:nvSpPr>
        <p:spPr>
          <a:xfrm>
            <a:off x="2792520" y="3259080"/>
            <a:ext cx="3558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Franklin Gothic Book"/>
                <a:ea typeface="黑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Franklin Gothic Book"/>
                <a:ea typeface="黑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95640" y="4911480"/>
            <a:ext cx="6649920" cy="11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伦敦奥运会</a:t>
            </a:r>
            <a:r>
              <a:rPr b="1" lang="en-US" sz="36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模板打包下载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6238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160" y="-11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8880" y="264276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"/>
          <p:cNvSpPr/>
          <p:nvPr/>
        </p:nvSpPr>
        <p:spPr>
          <a:xfrm>
            <a:off x="969840" y="24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13840"/>
            <a:ext cx="55008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7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rcRect l="2477" t="2264" r="88944" b="82142"/>
          <a:stretch/>
        </p:blipFill>
        <p:spPr>
          <a:xfrm>
            <a:off x="214200" y="142920"/>
            <a:ext cx="785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07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49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