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A3D-639F-4E6B-95AF-BC05A285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79C-4122-4BE8-9716-11BD81B0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A94-6D7A-4AE2-B4E4-E41832A6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A66-A383-48A7-9AF5-23D55319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5CA0-B53A-42AF-9D9B-985EF0BB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D2B-EFB6-446F-8C3B-B104F701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5C2B-D856-45F9-9E72-DDB2859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335-6287-4645-9EA2-5F9232E2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C43-4FED-4D59-BE27-5EC8FF6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9AB-DE5C-4D8A-80B5-0256AE14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A47-B7AD-432A-918F-4773B164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6EF-B249-4859-818D-2F6EEBDE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2871-CEAF-4435-9530-C430A252C1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62360" y="450720"/>
            <a:ext cx="4800600" cy="605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4308480" y="82404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乐工作悦生活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94240" y="982800"/>
            <a:ext cx="4681440" cy="466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1000" y="2790720"/>
            <a:ext cx="1257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16996"/>
                </a:solidFill>
                <a:latin typeface="Calibri"/>
                <a:ea typeface="微软雅黑"/>
              </a:rPr>
              <a:t>目录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114880" y="3257640"/>
            <a:ext cx="1714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16996"/>
                </a:solidFill>
                <a:latin typeface="Arial"/>
                <a:ea typeface="微软雅黑"/>
              </a:rPr>
              <a:t>CONT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390760" y="1571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819440" y="152388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676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不能缺少的要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1638360" y="462924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05400" y="56008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展现自己的价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55530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455292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围绕在身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7810560" y="450540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8972640" y="336240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让快乐变得简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8400960" y="331488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8620200" y="20764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做个快乐生活的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8048520" y="202896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6896160" y="10191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/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用心去生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6305400" y="971640"/>
            <a:ext cx="7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NO.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4280" y="2523960"/>
            <a:ext cx="4095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819680" y="32194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81200" y="552600"/>
            <a:ext cx="1704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微软雅黑"/>
              </a:rPr>
              <a:t>NO.1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371680" y="838080"/>
            <a:ext cx="39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快乐工作源于自己的选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76240" y="1857240"/>
            <a:ext cx="4924440" cy="4124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343560" y="3152880"/>
            <a:ext cx="521028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活着永远有两个选择：快乐和悲伤，快乐的人活得洒脱活得知足， 悲伤的人活得苦恼活得压抑。 工作的乐趣就在工作是生活中的一部分，用好的心态去对待工作 中的每一件事，快乐地完成它，这样我们就可以享受工作带来的乐趣， 并且可以在整个工作过程中感受到自己成长的幸福。 生活的乐趣本来就是生存中非常重要的内容，但是由于社会竞争 的空前激烈和工作强度的不断提高，现代社会的人性，已经完全被金钱 淹没在无休止的打拼和无尽头的奋斗中了，很多人为了追求金钱和名 誉，把自己的健康、空闲时间、舒畅的心情等等全都牺牲掉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077480" y="318960"/>
            <a:ext cx="1771560" cy="132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C3A-5F1B-4D61-9EF7-6C7063D5EF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87760" y="698400"/>
            <a:ext cx="53211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5:17Z</dcterms:modified>
  <cp:revision>20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