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E83-1971-4467-8D59-B065BA36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B29-2BD8-4240-B9C8-3E8972F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F3A-BF18-435A-9A54-45382393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DDC-EB61-46C1-B253-46FEF412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9F4-4DF9-42DC-8763-495E7253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7FD9-282F-4181-8BEA-E3A0487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4DD-DA0C-444E-A36B-A72D6F1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90A7-641E-47DB-8C0B-75E61403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BE8-A06E-4F63-AE53-223EA5B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C27-C667-4CA3-9BE9-3B795E2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5A60-2A87-47F5-A36B-D7A5688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520-5922-4C9B-B90F-E479ADA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02CF-01A8-4922-89BF-5802427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D44-13EF-4ED7-AE5F-E33DD78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F94-F511-4A47-9ED3-81AFD23E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A437-6837-43DD-86FD-4A61488E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FC54-7E5A-4EA6-80D9-0C79F712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356-F4C1-4D96-9DFB-D93133C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D9B-D824-48C2-A9C7-64B4EB7A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310-FA76-44DD-86C2-2B79CA7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9B5-B310-49E8-8963-92940547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43B-8046-413C-9B26-970DA57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F9A-ABB8-4979-8CC6-98150883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B02-0AB8-46C8-A8AE-02D030B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6583320"/>
            <a:ext cx="9144000" cy="274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B96-18F6-4594-8FF4-0E054B60E4C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6583320"/>
            <a:ext cx="9144000" cy="274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B090-172C-4913-876F-BAA19FBF092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3022920" y="219564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2"/>
          <a:stretch/>
        </p:blipFill>
        <p:spPr>
          <a:xfrm>
            <a:off x="2627280" y="473040"/>
            <a:ext cx="3827520" cy="3782880"/>
          </a:xfrm>
          <a:prstGeom prst="rect">
            <a:avLst/>
          </a:prstGeom>
          <a:ln w="0">
            <a:noFill/>
          </a:ln>
        </p:spPr>
      </p:pic>
      <p:sp>
        <p:nvSpPr>
          <p:cNvPr id="88" name="对角圆角矩形 6"/>
          <p:cNvSpPr/>
          <p:nvPr/>
        </p:nvSpPr>
        <p:spPr>
          <a:xfrm>
            <a:off x="1763640" y="4579920"/>
            <a:ext cx="6048360" cy="963720"/>
          </a:xfrm>
          <a:custGeom>
            <a:avLst/>
            <a:gdLst/>
            <a:ahLst/>
            <a:rect l="l" t="t" r="r" b="b"/>
            <a:pathLst>
              <a:path w="6048672" h="963980">
                <a:moveTo>
                  <a:pt x="160667" y="0"/>
                </a:moveTo>
                <a:lnTo>
                  <a:pt x="6048672" y="0"/>
                </a:lnTo>
                <a:lnTo>
                  <a:pt x="6048672" y="803313"/>
                </a:lnTo>
                <a:cubicBezTo>
                  <a:pt x="6048672" y="892047"/>
                  <a:pt x="5976739" y="963980"/>
                  <a:pt x="5888005" y="963980"/>
                </a:cubicBezTo>
                <a:lnTo>
                  <a:pt x="0" y="963980"/>
                </a:lnTo>
                <a:lnTo>
                  <a:pt x="0" y="160667"/>
                </a:lnTo>
                <a:cubicBezTo>
                  <a:pt x="0" y="71933"/>
                  <a:pt x="71933" y="0"/>
                  <a:pt x="160667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109320" y="47260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53735"/>
                </a:solidFill>
                <a:latin typeface="华文新魏"/>
                <a:ea typeface="华文新魏"/>
              </a:rPr>
              <a:t>龙年</a:t>
            </a:r>
            <a:r>
              <a:rPr b="0" lang="zh-CN" sz="4000" spc="-1" strike="noStrike">
                <a:solidFill>
                  <a:srgbClr val="953735"/>
                </a:solidFill>
                <a:latin typeface="华文新魏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953735"/>
                </a:solidFill>
                <a:latin typeface="华文新魏"/>
                <a:ea typeface="华文新魏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对角圆角矩形 4"/>
          <p:cNvSpPr/>
          <p:nvPr/>
        </p:nvSpPr>
        <p:spPr>
          <a:xfrm>
            <a:off x="298440" y="907920"/>
            <a:ext cx="5040360" cy="5113440"/>
          </a:xfrm>
          <a:custGeom>
            <a:avLst/>
            <a:gdLst/>
            <a:ahLst/>
            <a:rect l="l" t="t" r="r" b="b"/>
            <a:pathLst>
              <a:path w="5040560" h="5112568">
                <a:moveTo>
                  <a:pt x="840110" y="0"/>
                </a:moveTo>
                <a:lnTo>
                  <a:pt x="5040560" y="0"/>
                </a:lnTo>
                <a:lnTo>
                  <a:pt x="5040560" y="4272458"/>
                </a:lnTo>
                <a:cubicBezTo>
                  <a:pt x="5040560" y="4736438"/>
                  <a:pt x="4664430" y="5112568"/>
                  <a:pt x="4200450" y="5112568"/>
                </a:cubicBezTo>
                <a:lnTo>
                  <a:pt x="0" y="5112568"/>
                </a:lnTo>
                <a:lnTo>
                  <a:pt x="0" y="840110"/>
                </a:lnTo>
                <a:cubicBezTo>
                  <a:pt x="0" y="376130"/>
                  <a:pt x="376130" y="0"/>
                  <a:pt x="84011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单圆角矩形 5"/>
          <p:cNvSpPr/>
          <p:nvPr/>
        </p:nvSpPr>
        <p:spPr>
          <a:xfrm>
            <a:off x="5651640" y="907920"/>
            <a:ext cx="3241440" cy="5113440"/>
          </a:xfrm>
          <a:custGeom>
            <a:avLst/>
            <a:gdLst/>
            <a:ahLst/>
            <a:rect l="l" t="t" r="r" b="b"/>
            <a:pathLst>
              <a:path w="3240360" h="5112568">
                <a:moveTo>
                  <a:pt x="0" y="0"/>
                </a:moveTo>
                <a:lnTo>
                  <a:pt x="2700289" y="0"/>
                </a:lnTo>
                <a:cubicBezTo>
                  <a:pt x="2998562" y="0"/>
                  <a:pt x="3240360" y="241798"/>
                  <a:pt x="3240360" y="540071"/>
                </a:cubicBezTo>
                <a:lnTo>
                  <a:pt x="3240360" y="5112568"/>
                </a:lnTo>
                <a:lnTo>
                  <a:pt x="0" y="51125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72640" y="126828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272640" y="270828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272640" y="414972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2301480" y="320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添加图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C35-512A-40EF-9772-8D2A9B4F4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接连接符 2"/>
          <p:cNvSpPr/>
          <p:nvPr/>
        </p:nvSpPr>
        <p:spPr>
          <a:xfrm>
            <a:off x="539640" y="3429000"/>
            <a:ext cx="8136000" cy="0"/>
          </a:xfrm>
          <a:prstGeom prst="line">
            <a:avLst/>
          </a:prstGeom>
          <a:ln w="540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剪去对角的矩形 3"/>
          <p:cNvSpPr/>
          <p:nvPr/>
        </p:nvSpPr>
        <p:spPr>
          <a:xfrm>
            <a:off x="539640" y="1139760"/>
            <a:ext cx="2519640" cy="2016360"/>
          </a:xfrm>
          <a:custGeom>
            <a:avLst/>
            <a:gdLst/>
            <a:ahLst/>
            <a:rect l="l" t="t" r="r" b="b"/>
            <a:pathLst>
              <a:path w="2520280" h="2016224">
                <a:moveTo>
                  <a:pt x="0" y="0"/>
                </a:moveTo>
                <a:lnTo>
                  <a:pt x="2184236" y="0"/>
                </a:lnTo>
                <a:lnTo>
                  <a:pt x="2520280" y="336044"/>
                </a:lnTo>
                <a:lnTo>
                  <a:pt x="2520280" y="2016224"/>
                </a:lnTo>
                <a:lnTo>
                  <a:pt x="336044" y="2016224"/>
                </a:lnTo>
                <a:lnTo>
                  <a:pt x="0" y="16801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4"/>
          <p:cNvSpPr/>
          <p:nvPr/>
        </p:nvSpPr>
        <p:spPr>
          <a:xfrm>
            <a:off x="3348000" y="1139760"/>
            <a:ext cx="2519280" cy="2016360"/>
          </a:xfrm>
          <a:custGeom>
            <a:avLst/>
            <a:gdLst/>
            <a:ahLst/>
            <a:rect l="l" t="t" r="r" b="b"/>
            <a:pathLst>
              <a:path w="2520280" h="2016224">
                <a:moveTo>
                  <a:pt x="0" y="0"/>
                </a:moveTo>
                <a:lnTo>
                  <a:pt x="2184236" y="0"/>
                </a:lnTo>
                <a:lnTo>
                  <a:pt x="2520280" y="336044"/>
                </a:lnTo>
                <a:lnTo>
                  <a:pt x="2520280" y="2016224"/>
                </a:lnTo>
                <a:lnTo>
                  <a:pt x="336044" y="2016224"/>
                </a:lnTo>
                <a:lnTo>
                  <a:pt x="0" y="16801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剪去对角的矩形 5"/>
          <p:cNvSpPr/>
          <p:nvPr/>
        </p:nvSpPr>
        <p:spPr>
          <a:xfrm>
            <a:off x="6156360" y="1139760"/>
            <a:ext cx="2519280" cy="2016360"/>
          </a:xfrm>
          <a:custGeom>
            <a:avLst/>
            <a:gdLst/>
            <a:ahLst/>
            <a:rect l="l" t="t" r="r" b="b"/>
            <a:pathLst>
              <a:path w="2520280" h="2016224">
                <a:moveTo>
                  <a:pt x="0" y="0"/>
                </a:moveTo>
                <a:lnTo>
                  <a:pt x="2184236" y="0"/>
                </a:lnTo>
                <a:lnTo>
                  <a:pt x="2520280" y="336044"/>
                </a:lnTo>
                <a:lnTo>
                  <a:pt x="2520280" y="2016224"/>
                </a:lnTo>
                <a:lnTo>
                  <a:pt x="336044" y="2016224"/>
                </a:lnTo>
                <a:lnTo>
                  <a:pt x="0" y="168018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直接箭头连接符 7"/>
          <p:cNvCxnSpPr>
            <a:stCxn id="102" idx="8"/>
          </p:cNvCxnSpPr>
          <p:nvPr/>
        </p:nvCxnSpPr>
        <p:spPr>
          <a:xfrm>
            <a:off x="1800000" y="3155760"/>
            <a:ext cx="1080" cy="705240"/>
          </a:xfrm>
          <a:prstGeom prst="straightConnector1">
            <a:avLst/>
          </a:prstGeom>
          <a:ln w="34920">
            <a:solidFill>
              <a:srgbClr val="95373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直接箭头连接符 8"/>
          <p:cNvCxnSpPr/>
          <p:nvPr/>
        </p:nvCxnSpPr>
        <p:spPr>
          <a:xfrm>
            <a:off x="4716000" y="3155760"/>
            <a:ext cx="1080" cy="705240"/>
          </a:xfrm>
          <a:prstGeom prst="straightConnector1">
            <a:avLst/>
          </a:prstGeom>
          <a:ln w="34920">
            <a:solidFill>
              <a:srgbClr val="95373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" name="直接箭头连接符 9"/>
          <p:cNvCxnSpPr/>
          <p:nvPr/>
        </p:nvCxnSpPr>
        <p:spPr>
          <a:xfrm>
            <a:off x="7524360" y="3155760"/>
            <a:ext cx="1080" cy="705240"/>
          </a:xfrm>
          <a:prstGeom prst="straightConnector1">
            <a:avLst/>
          </a:prstGeom>
          <a:ln w="34920">
            <a:solidFill>
              <a:srgbClr val="953735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剪去同侧角的矩形 14"/>
          <p:cNvSpPr/>
          <p:nvPr/>
        </p:nvSpPr>
        <p:spPr>
          <a:xfrm rot="10800000">
            <a:off x="468000" y="3860280"/>
            <a:ext cx="2663640" cy="2016360"/>
          </a:xfrm>
          <a:custGeom>
            <a:avLst/>
            <a:gdLst/>
            <a:ahLst/>
            <a:rect l="l" t="t" r="r" b="b"/>
            <a:pathLst>
              <a:path w="2664296" h="2016224">
                <a:moveTo>
                  <a:pt x="336044" y="0"/>
                </a:moveTo>
                <a:lnTo>
                  <a:pt x="2328252" y="0"/>
                </a:lnTo>
                <a:lnTo>
                  <a:pt x="2664296" y="336044"/>
                </a:lnTo>
                <a:lnTo>
                  <a:pt x="2664296" y="2016224"/>
                </a:lnTo>
                <a:lnTo>
                  <a:pt x="0" y="2016224"/>
                </a:lnTo>
                <a:lnTo>
                  <a:pt x="0" y="336044"/>
                </a:lnTo>
                <a:lnTo>
                  <a:pt x="336044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剪去同侧角的矩形 15"/>
          <p:cNvSpPr/>
          <p:nvPr/>
        </p:nvSpPr>
        <p:spPr>
          <a:xfrm rot="10800000">
            <a:off x="3348000" y="3860280"/>
            <a:ext cx="2664000" cy="2016360"/>
          </a:xfrm>
          <a:custGeom>
            <a:avLst/>
            <a:gdLst/>
            <a:ahLst/>
            <a:rect l="l" t="t" r="r" b="b"/>
            <a:pathLst>
              <a:path w="2664296" h="2016224">
                <a:moveTo>
                  <a:pt x="336044" y="0"/>
                </a:moveTo>
                <a:lnTo>
                  <a:pt x="2328252" y="0"/>
                </a:lnTo>
                <a:lnTo>
                  <a:pt x="2664296" y="336044"/>
                </a:lnTo>
                <a:lnTo>
                  <a:pt x="2664296" y="2016224"/>
                </a:lnTo>
                <a:lnTo>
                  <a:pt x="0" y="2016224"/>
                </a:lnTo>
                <a:lnTo>
                  <a:pt x="0" y="336044"/>
                </a:lnTo>
                <a:lnTo>
                  <a:pt x="336044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剪去同侧角的矩形 16"/>
          <p:cNvSpPr/>
          <p:nvPr/>
        </p:nvSpPr>
        <p:spPr>
          <a:xfrm rot="10800000">
            <a:off x="6227640" y="3860280"/>
            <a:ext cx="2665440" cy="2016360"/>
          </a:xfrm>
          <a:custGeom>
            <a:avLst/>
            <a:gdLst/>
            <a:ahLst/>
            <a:rect l="l" t="t" r="r" b="b"/>
            <a:pathLst>
              <a:path w="2664296" h="2016224">
                <a:moveTo>
                  <a:pt x="336044" y="0"/>
                </a:moveTo>
                <a:lnTo>
                  <a:pt x="2328252" y="0"/>
                </a:lnTo>
                <a:lnTo>
                  <a:pt x="2664296" y="336044"/>
                </a:lnTo>
                <a:lnTo>
                  <a:pt x="2664296" y="2016224"/>
                </a:lnTo>
                <a:lnTo>
                  <a:pt x="0" y="2016224"/>
                </a:lnTo>
                <a:lnTo>
                  <a:pt x="0" y="336044"/>
                </a:lnTo>
                <a:lnTo>
                  <a:pt x="336044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1272600" y="188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添加图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4163400" y="188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添加图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6898680" y="188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添加图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967320" y="460692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3859560" y="460692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6739920" y="460692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·</a:t>
            </a:r>
            <a:r>
              <a:rPr b="0" lang="zh-CN" sz="2800" spc="-1" strike="noStrike">
                <a:solidFill>
                  <a:srgbClr val="953735"/>
                </a:solidFill>
                <a:latin typeface="方正行楷简体"/>
                <a:ea typeface="方正行楷简体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22:02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6:32Z</dcterms:modified>
  <cp:revision>9</cp:revision>
  <dc:subject>雅致中国文理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