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164-AFC8-4C64-BF12-B2268A70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5457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2D1-3733-47FC-AA84-6F4A1A6C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1676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D65-5431-49C6-BCA7-E04E12BF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160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776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160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776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2A2-AFB1-4571-BEDE-D2EB8EEB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AF84-27F7-46BD-82E2-ED8AC821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A048-56D2-4B13-9AAF-1E5A5979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D7F1-1365-4551-B474-BF1BB49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2280-8430-4EB8-ADE9-DAECE6F6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F76F-0C6F-41C0-A859-4D0CC16B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0F87-0F6C-4100-B561-767AAAA5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A55-65DD-4E03-AB75-9C964F79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43D-E767-4BA8-B473-39683444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76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2ED7-78C4-4593-8848-0484CF2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7195-1885-4BA4-9D9E-0C6FEFF0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5457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6155-5ECC-4C1C-A5B1-D04388A3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1676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FCC2-BA45-4B6D-B41C-AE653B02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160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776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160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7776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5F82-93C8-4636-AAEA-62514107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CCB-5672-49E8-9599-3A9A595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7D7-C22B-4AC3-BDCA-4C1795E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E26-7DBA-4CE8-8319-AF43F084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016-8F9F-4331-B191-37B279C3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526-A3F1-4CD3-9DC6-A6453A53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76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B5E-69CD-41C3-9157-0A02ECDB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18A-EFDC-4FE4-848C-189FC94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A4E0-7607-4F11-AA66-1F1D31C32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42F7-80BB-49A2-8598-2F29DA8A8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bee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In The Making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bee7"/>
                </a:solidFill>
                <a:latin typeface="Arial"/>
              </a:rPr>
              <a:t>YOUR SUBTITLE GOES HERE</a:t>
            </a: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4560" y="3808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蓝色大方企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066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60F-1C5C-4CA9-AB44-73D5BCD4E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element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81080" y="129528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638680" y="129528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10:4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50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