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912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112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6504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112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6504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7912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47912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1112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6504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1112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6504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912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4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838080"/>
            <a:ext cx="9144000" cy="75960"/>
            <a:chOff x="0" y="838080"/>
            <a:chExt cx="9144000" cy="759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895320"/>
              <a:ext cx="9144000" cy="1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0" y="838080"/>
              <a:ext cx="9144000" cy="5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4572000" y="6561000"/>
            <a:ext cx="4572000" cy="297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241720"/>
            <a:ext cx="9144000" cy="792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14800"/>
            <a:ext cx="9144000" cy="161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924280"/>
            <a:ext cx="9144000" cy="11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4038480"/>
            <a:ext cx="9144000" cy="110880"/>
            <a:chOff x="0" y="4038480"/>
            <a:chExt cx="9144000" cy="1108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4122000"/>
              <a:ext cx="9144000" cy="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4038480"/>
              <a:ext cx="9144000" cy="8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0" y="2819520"/>
            <a:ext cx="9144000" cy="110880"/>
            <a:chOff x="0" y="2819520"/>
            <a:chExt cx="9144000" cy="11088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0" y="2903040"/>
              <a:ext cx="9144000" cy="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0" y="2819520"/>
              <a:ext cx="9144000" cy="8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042920" y="0"/>
            <a:ext cx="504720" cy="6858000"/>
            <a:chOff x="1042920" y="0"/>
            <a:chExt cx="504720" cy="6858000"/>
          </a:xfrm>
        </p:grpSpPr>
        <p:grpSp>
          <p:nvGrpSpPr>
            <p:cNvPr id="55" name=""/>
            <p:cNvGrpSpPr/>
            <p:nvPr/>
          </p:nvGrpSpPr>
          <p:grpSpPr>
            <a:xfrm>
              <a:off x="1463400" y="0"/>
              <a:ext cx="84240" cy="6858000"/>
              <a:chOff x="1463400" y="0"/>
              <a:chExt cx="84240" cy="685800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 rot="16200000">
                <a:off x="-1891440" y="3418560"/>
                <a:ext cx="6858000" cy="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933560" y="3397320"/>
                <a:ext cx="6858000" cy="6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"/>
            <p:cNvGrpSpPr/>
            <p:nvPr/>
          </p:nvGrpSpPr>
          <p:grpSpPr>
            <a:xfrm>
              <a:off x="1253160" y="0"/>
              <a:ext cx="84240" cy="6858000"/>
              <a:chOff x="1253160" y="0"/>
              <a:chExt cx="84240" cy="6858000"/>
            </a:xfrm>
          </p:grpSpPr>
          <p:pic>
            <p:nvPicPr>
              <p:cNvPr id="59" name="" descr="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2101680" y="3418560"/>
                <a:ext cx="6858000" cy="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143800" y="3397320"/>
                <a:ext cx="6858000" cy="6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1042920" y="0"/>
              <a:ext cx="84240" cy="6858000"/>
              <a:chOff x="1042920" y="0"/>
              <a:chExt cx="84240" cy="6858000"/>
            </a:xfrm>
          </p:grpSpPr>
          <p:pic>
            <p:nvPicPr>
              <p:cNvPr id="62" name="" descr="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2311920" y="3418560"/>
                <a:ext cx="6858000" cy="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11"/>
              <a:stretch/>
            </p:blipFill>
            <p:spPr>
              <a:xfrm rot="16200000">
                <a:off x="-2354040" y="3397320"/>
                <a:ext cx="6858000" cy="6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-154080" y="2060640"/>
            <a:ext cx="4365720" cy="3273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360" y="2895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99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19360" y="2895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PowerPoint </a:t>
            </a:r>
            <a:r>
              <a:rPr b="1" lang="en-US" sz="3200" spc="-1" strike="noStrike">
                <a:solidFill>
                  <a:srgbClr val="0099ff"/>
                </a:solidFill>
                <a:latin typeface="Verdana"/>
                <a:ea typeface="Gulim"/>
              </a:rPr>
              <a:t>Templa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8028000" y="152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0" y="434340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2339640" y="83664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蓝色的工作报告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3640" y="502272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0099ff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3640" y="396864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0099ff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3640" y="289872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0099ff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640" y="185724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0099ff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 of 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1028880" y="289872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73c0"/>
              </a:gs>
              <a:gs pos="50000">
                <a:srgbClr val="0099ff"/>
              </a:gs>
              <a:gs pos="100000">
                <a:srgbClr val="0073c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2. Main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28880" y="396720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73c0"/>
              </a:gs>
              <a:gs pos="50000">
                <a:srgbClr val="0099ff"/>
              </a:gs>
              <a:gs pos="100000">
                <a:srgbClr val="0073c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3.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28880" y="502272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73c0"/>
              </a:gs>
              <a:gs pos="50000">
                <a:srgbClr val="0099ff"/>
              </a:gs>
              <a:gs pos="100000">
                <a:srgbClr val="0073c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4.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28880" y="185724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73c0"/>
              </a:gs>
              <a:gs pos="50000">
                <a:srgbClr val="0099ff"/>
              </a:gs>
              <a:gs pos="100000">
                <a:srgbClr val="0073c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1.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429000"/>
            <a:ext cx="576000" cy="824040"/>
          </a:xfrm>
          <a:prstGeom prst="rightArrow">
            <a:avLst>
              <a:gd name="adj1" fmla="val 66093"/>
              <a:gd name="adj2" fmla="val 26722"/>
            </a:avLst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2360" y="1773360"/>
            <a:ext cx="2270160" cy="417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767" y="0"/>
                </a:lnTo>
                <a:lnTo>
                  <a:pt x="21600" y="10800"/>
                </a:lnTo>
                <a:lnTo>
                  <a:pt x="19767" y="21600"/>
                </a:lnTo>
                <a:lnTo>
                  <a:pt x="0" y="21600"/>
                </a:lnTo>
                <a:lnTo>
                  <a:pt x="1833" y="10800"/>
                </a:lnTo>
                <a:close/>
              </a:path>
            </a:pathLst>
          </a:cu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examp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36920" y="1773360"/>
            <a:ext cx="2270160" cy="417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767" y="0"/>
                </a:lnTo>
                <a:lnTo>
                  <a:pt x="21600" y="10800"/>
                </a:lnTo>
                <a:lnTo>
                  <a:pt x="19767" y="21600"/>
                </a:lnTo>
                <a:lnTo>
                  <a:pt x="0" y="21600"/>
                </a:lnTo>
                <a:lnTo>
                  <a:pt x="1833" y="10800"/>
                </a:lnTo>
                <a:close/>
              </a:path>
            </a:pathLst>
          </a:cu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exampl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53280" y="1773360"/>
            <a:ext cx="2270160" cy="417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767" y="0"/>
                </a:lnTo>
                <a:lnTo>
                  <a:pt x="21600" y="10800"/>
                </a:lnTo>
                <a:lnTo>
                  <a:pt x="19767" y="21600"/>
                </a:lnTo>
                <a:lnTo>
                  <a:pt x="0" y="21600"/>
                </a:lnTo>
                <a:lnTo>
                  <a:pt x="1833" y="10800"/>
                </a:lnTo>
                <a:close/>
              </a:path>
            </a:pathLst>
          </a:cu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exampl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32360" y="3429000"/>
            <a:ext cx="576360" cy="824040"/>
          </a:xfrm>
          <a:prstGeom prst="rightArrow">
            <a:avLst>
              <a:gd name="adj1" fmla="val 66093"/>
              <a:gd name="adj2" fmla="val 26722"/>
            </a:avLst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0320" y="6060960"/>
            <a:ext cx="1758960" cy="176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13040" y="6060960"/>
            <a:ext cx="1758960" cy="176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23200" y="6060960"/>
            <a:ext cx="1749240" cy="17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5840" y="1773360"/>
            <a:ext cx="2235240" cy="468360"/>
          </a:xfrm>
          <a:prstGeom prst="parallelogram">
            <a:avLst>
              <a:gd name="adj" fmla="val 12395"/>
            </a:avLst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80760" y="1736640"/>
            <a:ext cx="2235240" cy="468360"/>
          </a:xfrm>
          <a:prstGeom prst="parallelogram">
            <a:avLst>
              <a:gd name="adj" fmla="val 12395"/>
            </a:avLst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296760" y="1736640"/>
            <a:ext cx="2235240" cy="468360"/>
          </a:xfrm>
          <a:prstGeom prst="parallelogram">
            <a:avLst>
              <a:gd name="adj" fmla="val 12395"/>
            </a:avLst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43280" y="4869000"/>
            <a:ext cx="2160720" cy="68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11280" y="2368440"/>
            <a:ext cx="1513080" cy="86364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9280" y="4384440"/>
            <a:ext cx="1405080" cy="71892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327640" y="2440080"/>
            <a:ext cx="1440000" cy="79200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543640" y="4492440"/>
            <a:ext cx="1116000" cy="61092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62560" y="4518000"/>
            <a:ext cx="2486160" cy="1708200"/>
          </a:xfrm>
          <a:prstGeom prst="hexagon">
            <a:avLst>
              <a:gd name="adj" fmla="val 36386"/>
              <a:gd name="vf" fmla="val 115470"/>
            </a:avLst>
          </a:prstGeom>
          <a:gradFill rotWithShape="0">
            <a:gsLst>
              <a:gs pos="0">
                <a:srgbClr val="0060a1"/>
              </a:gs>
              <a:gs pos="50000">
                <a:srgbClr val="0099ff"/>
              </a:gs>
              <a:gs pos="100000">
                <a:srgbClr val="0060a1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518000"/>
            <a:ext cx="2486160" cy="1708200"/>
          </a:xfrm>
          <a:prstGeom prst="hexagon">
            <a:avLst>
              <a:gd name="adj" fmla="val 36386"/>
              <a:gd name="vf" fmla="val 115470"/>
            </a:avLst>
          </a:prstGeom>
          <a:gradFill rotWithShape="0">
            <a:gsLst>
              <a:gs pos="0">
                <a:srgbClr val="0060a1"/>
              </a:gs>
              <a:gs pos="50000">
                <a:srgbClr val="0099ff"/>
              </a:gs>
              <a:gs pos="100000">
                <a:srgbClr val="0060a1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305000"/>
            <a:ext cx="2486160" cy="1708200"/>
          </a:xfrm>
          <a:prstGeom prst="hexagon">
            <a:avLst>
              <a:gd name="adj" fmla="val 36386"/>
              <a:gd name="vf" fmla="val 115470"/>
            </a:avLst>
          </a:prstGeom>
          <a:gradFill rotWithShape="0">
            <a:gsLst>
              <a:gs pos="0">
                <a:srgbClr val="0060a1"/>
              </a:gs>
              <a:gs pos="50000">
                <a:srgbClr val="0099ff"/>
              </a:gs>
              <a:gs pos="100000">
                <a:srgbClr val="0060a1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62560" y="1305000"/>
            <a:ext cx="2486160" cy="1708200"/>
          </a:xfrm>
          <a:prstGeom prst="hexagon">
            <a:avLst>
              <a:gd name="adj" fmla="val 36386"/>
              <a:gd name="vf" fmla="val 115470"/>
            </a:avLst>
          </a:prstGeom>
          <a:gradFill rotWithShape="0">
            <a:gsLst>
              <a:gs pos="0">
                <a:srgbClr val="0060a1"/>
              </a:gs>
              <a:gs pos="50000">
                <a:srgbClr val="0099ff"/>
              </a:gs>
              <a:gs pos="100000">
                <a:srgbClr val="0060a1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0" y="2960640"/>
            <a:ext cx="2664000" cy="2305080"/>
          </a:xfrm>
          <a:prstGeom prst="hexagon">
            <a:avLst>
              <a:gd name="adj" fmla="val 28893"/>
              <a:gd name="vf" fmla="val 115470"/>
            </a:avLst>
          </a:prstGeom>
          <a:gradFill rotWithShape="0">
            <a:gsLst>
              <a:gs pos="0">
                <a:srgbClr val="002e4c"/>
              </a:gs>
              <a:gs pos="100000">
                <a:srgbClr val="0099ff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2760" y="6310440"/>
            <a:ext cx="1120680" cy="15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12760" y="3141720"/>
            <a:ext cx="1120680" cy="150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983280" y="3141720"/>
            <a:ext cx="1117800" cy="15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981840" y="6310440"/>
            <a:ext cx="1120680" cy="1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1103400" cy="1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14600" y="1592280"/>
            <a:ext cx="2057400" cy="1779480"/>
          </a:xfrm>
          <a:prstGeom prst="hexagon">
            <a:avLst>
              <a:gd name="adj" fmla="val 28905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486240"/>
            <a:ext cx="2057400" cy="1779480"/>
          </a:xfrm>
          <a:prstGeom prst="hexagon">
            <a:avLst>
              <a:gd name="adj" fmla="val 28905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538360"/>
            <a:ext cx="2057400" cy="1779480"/>
          </a:xfrm>
          <a:prstGeom prst="hexagon">
            <a:avLst>
              <a:gd name="adj" fmla="val 28905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4437000"/>
            <a:ext cx="2057400" cy="1779480"/>
          </a:xfrm>
          <a:prstGeom prst="hexagon">
            <a:avLst>
              <a:gd name="adj" fmla="val 28905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500280"/>
            <a:ext cx="2057400" cy="1779840"/>
          </a:xfrm>
          <a:prstGeom prst="hexagon">
            <a:avLst>
              <a:gd name="adj" fmla="val 28899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24360" y="5302080"/>
            <a:ext cx="1103040" cy="17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43280" y="6272280"/>
            <a:ext cx="1103400" cy="1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264360" y="5337000"/>
            <a:ext cx="1103400" cy="17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32000" y="112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00200" y="1828800"/>
            <a:ext cx="6019920" cy="4038480"/>
          </a:xfrm>
          <a:prstGeom prst="ellipse">
            <a:avLst/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264360" y="3645000"/>
            <a:ext cx="1008000" cy="3636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12000" y="2924280"/>
            <a:ext cx="1790640" cy="1482480"/>
          </a:xfrm>
          <a:prstGeom prst="hexagon">
            <a:avLst>
              <a:gd name="adj" fmla="val 30197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2168640"/>
            <a:ext cx="1463760" cy="6508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1557360"/>
            <a:ext cx="1378080" cy="1143000"/>
          </a:xfrm>
          <a:prstGeom prst="hexagon">
            <a:avLst>
              <a:gd name="adj" fmla="val 30142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411280" y="3809520"/>
            <a:ext cx="1703520" cy="127476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640" y="4257720"/>
            <a:ext cx="2419560" cy="2009880"/>
          </a:xfrm>
          <a:prstGeom prst="hexagon">
            <a:avLst>
              <a:gd name="adj" fmla="val 30096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311640" cy="248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43000" y="26370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1280" y="35733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exampl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65120" y="3092400"/>
            <a:ext cx="11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example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332000" y="6381720"/>
            <a:ext cx="1079280" cy="1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458120" y="4508640"/>
            <a:ext cx="714240" cy="10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664000" y="2781360"/>
            <a:ext cx="79200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1909200">
            <a:off x="3123720" y="2638080"/>
            <a:ext cx="2895840" cy="2222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11280" y="1522440"/>
            <a:ext cx="1368360" cy="122400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9202400">
            <a:off x="3662640" y="306936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376600">
            <a:off x="3697920" y="393336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8900600">
            <a:off x="4851720" y="400644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169000">
            <a:off x="4705560" y="306972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227280" y="3683160"/>
            <a:ext cx="187164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616360" y="4798800"/>
            <a:ext cx="1439640" cy="125892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79640" y="4906800"/>
            <a:ext cx="1332000" cy="11512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79640" y="3610080"/>
            <a:ext cx="180000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592000" y="1341000"/>
            <a:ext cx="1476360" cy="129852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81400" y="148104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33520" y="242244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33520" y="4510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02240" y="5626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3880" y="436572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38960" y="2494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4:35:28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4:59Z</dcterms:modified>
  <cp:revision>3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