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E677-283D-4C14-A9A0-7393B0989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300276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4EF4-2A85-45C8-896E-945B25617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7480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ABC6-E08C-400A-9756-7CA5CFEF8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721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105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721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105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6C8C-AC83-4FF8-89C1-303C8722F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33720" y="22860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068560" y="524628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22860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4F67-5BCA-49B1-99CB-45A9A7B31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7480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133720" y="300276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7480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721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105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1337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721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105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C9AA-DDDF-45F8-A1F5-8C0FB0B48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C35F-2681-45EC-AEC2-AE9DCBD7A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E47B-AB09-4568-ADAB-0054178D8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68560" y="524628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60C2-9D18-4C07-A83D-9204AD983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34D1-4411-4470-A195-6514BE147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7480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9B26-3FA7-4432-9960-8923781F3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BC32-6999-4962-A888-646412499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" y="55440"/>
            <a:ext cx="9088560" cy="925560"/>
          </a:xfrm>
          <a:prstGeom prst="rect">
            <a:avLst/>
          </a:prstGeom>
          <a:gradFill rotWithShape="0">
            <a:gsLst>
              <a:gs pos="0">
                <a:srgbClr val="225174"/>
              </a:gs>
              <a:gs pos="100000">
                <a:srgbClr val="0f25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52237" t="0" r="937" b="9457"/>
          <a:stretch/>
        </p:blipFill>
        <p:spPr>
          <a:xfrm>
            <a:off x="0" y="0"/>
            <a:ext cx="118728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1160" y="981000"/>
            <a:ext cx="1187280" cy="589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720" y="0"/>
            <a:ext cx="9149400" cy="6856920"/>
            <a:chOff x="-720" y="0"/>
            <a:chExt cx="9149400" cy="6856920"/>
          </a:xfrm>
        </p:grpSpPr>
        <p:sp>
          <p:nvSpPr>
            <p:cNvPr id="4" name=""/>
            <p:cNvSpPr/>
            <p:nvPr/>
          </p:nvSpPr>
          <p:spPr>
            <a:xfrm>
              <a:off x="4284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0768800">
              <a:off x="8766000" y="6398640"/>
              <a:ext cx="36864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5400000">
              <a:off x="86914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662904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e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8D89-5E26-4AAF-A6AD-DE88C2EB0C9D}" type="slidenum">
              <a:rPr b="0" lang="en-US" sz="1400" spc="-1" strike="noStrike">
                <a:solidFill>
                  <a:srgbClr val="ffffe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3" name=""/>
          <p:cNvSpPr/>
          <p:nvPr/>
        </p:nvSpPr>
        <p:spPr>
          <a:xfrm>
            <a:off x="1187280" y="6453360"/>
            <a:ext cx="7488360" cy="0"/>
          </a:xfrm>
          <a:prstGeom prst="line">
            <a:avLst/>
          </a:prstGeom>
          <a:ln w="9360">
            <a:solidFill>
              <a:srgbClr val="ff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148360" y="1450800"/>
            <a:ext cx="3744720" cy="3816000"/>
            <a:chOff x="5148360" y="1450800"/>
            <a:chExt cx="3744720" cy="3816000"/>
          </a:xfrm>
        </p:grpSpPr>
        <p:sp>
          <p:nvSpPr>
            <p:cNvPr id="51" name=""/>
            <p:cNvSpPr/>
            <p:nvPr/>
          </p:nvSpPr>
          <p:spPr>
            <a:xfrm>
              <a:off x="5148360" y="1456200"/>
              <a:ext cx="3744720" cy="3764160"/>
            </a:xfrm>
            <a:prstGeom prst="donut">
              <a:avLst>
                <a:gd name="adj" fmla="val 1481"/>
              </a:avLst>
            </a:pr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08160" y="4524840"/>
              <a:ext cx="446760" cy="34200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46440" y="2623320"/>
              <a:ext cx="577440" cy="264348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46120" y="2578320"/>
              <a:ext cx="589680" cy="25750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85600" y="2377800"/>
              <a:ext cx="825480" cy="266328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55360" y="2661120"/>
              <a:ext cx="464760" cy="2095200"/>
            </a:xfrm>
            <a:custGeom>
              <a:avLst/>
              <a:gdLst/>
              <a:ahLst/>
              <a:rect l="l" t="t" r="r" b="b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98440" y="3304800"/>
              <a:ext cx="788040" cy="180900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48080" y="1616040"/>
              <a:ext cx="900720" cy="26928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57240" y="1991880"/>
              <a:ext cx="693360" cy="11484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73480" y="1450800"/>
              <a:ext cx="280440" cy="34632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13200" y="1485720"/>
              <a:ext cx="92160" cy="40248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77360" y="2637360"/>
              <a:ext cx="2320560" cy="85104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98120" y="2830680"/>
              <a:ext cx="3543840" cy="1541160"/>
            </a:xfrm>
            <a:custGeom>
              <a:avLst/>
              <a:gdLst/>
              <a:ahLst/>
              <a:rect l="l" t="t" r="r" b="b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9040" y="3993480"/>
              <a:ext cx="2697840" cy="990000"/>
            </a:xfrm>
            <a:custGeom>
              <a:avLst/>
              <a:gdLst/>
              <a:ahLst/>
              <a:rect l="l" t="t" r="r" b="b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86600" y="1729800"/>
              <a:ext cx="1751400" cy="1425960"/>
            </a:xfrm>
            <a:custGeom>
              <a:avLst/>
              <a:gdLst/>
              <a:ahLst/>
              <a:rect l="l" t="t" r="r" b="b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75320" y="1740960"/>
              <a:ext cx="287640" cy="26352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73480" y="1668240"/>
              <a:ext cx="620280" cy="48780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76800" y="1549080"/>
              <a:ext cx="239040" cy="21852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48360" y="1558800"/>
              <a:ext cx="2008440" cy="25102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6320" y="4781520"/>
              <a:ext cx="549720" cy="413640"/>
            </a:xfrm>
            <a:custGeom>
              <a:avLst/>
              <a:gdLst/>
              <a:ahLst/>
              <a:rect l="l" t="t" r="r" b="b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6720" y="4665240"/>
              <a:ext cx="543240" cy="183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61480" y="4098960"/>
              <a:ext cx="183960" cy="24912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40400" y="3984840"/>
              <a:ext cx="109800" cy="36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05280" y="3694680"/>
              <a:ext cx="354960" cy="31392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6210000" y="1787040"/>
              <a:ext cx="1117080" cy="855360"/>
            </a:xfrm>
            <a:prstGeom prst="donut">
              <a:avLst>
                <a:gd name="adj" fmla="val 6907"/>
              </a:avLst>
            </a:pr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3"/>
          <a:srcRect l="0" t="0" r="14949" b="0"/>
          <a:stretch/>
        </p:blipFill>
        <p:spPr>
          <a:xfrm>
            <a:off x="0" y="0"/>
            <a:ext cx="2050920" cy="5300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160" y="5229360"/>
            <a:ext cx="9132840" cy="1628640"/>
          </a:xfrm>
          <a:prstGeom prst="rect">
            <a:avLst/>
          </a:prstGeom>
          <a:gradFill rotWithShape="0">
            <a:gsLst>
              <a:gs pos="0">
                <a:srgbClr val="0f2535"/>
              </a:gs>
              <a:gs pos="100000">
                <a:srgbClr val="2251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7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720" y="1440"/>
            <a:ext cx="9149400" cy="6856920"/>
            <a:chOff x="-720" y="1440"/>
            <a:chExt cx="9149400" cy="6856920"/>
          </a:xfrm>
        </p:grpSpPr>
        <p:sp>
          <p:nvSpPr>
            <p:cNvPr id="81" name=""/>
            <p:cNvSpPr/>
            <p:nvPr/>
          </p:nvSpPr>
          <p:spPr>
            <a:xfrm>
              <a:off x="42840" y="3960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80" y="144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191000">
              <a:off x="-74520" y="639900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768800">
              <a:off x="8766000" y="6400080"/>
              <a:ext cx="36864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8691480" y="108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76120" y="5000760"/>
            <a:ext cx="676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09680" y="25142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dd Your Compan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log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78960" y="8380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蓝色地球企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67" name=""/>
            <p:cNvSpPr/>
            <p:nvPr/>
          </p:nvSpPr>
          <p:spPr>
            <a:xfrm flipH="1" rot="16200000">
              <a:off x="2809440" y="32472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5400000">
              <a:off x="5680440" y="31928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676520" y="1828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295280" y="1752480"/>
            <a:ext cx="7467480" cy="3886200"/>
            <a:chOff x="1295280" y="1752480"/>
            <a:chExt cx="7467480" cy="3886200"/>
          </a:xfrm>
        </p:grpSpPr>
        <p:sp>
          <p:nvSpPr>
            <p:cNvPr id="293" name=""/>
            <p:cNvSpPr/>
            <p:nvPr/>
          </p:nvSpPr>
          <p:spPr>
            <a:xfrm>
              <a:off x="814212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0200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2472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1784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552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100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5888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29528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29528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29528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29528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29528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8572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8572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8572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572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8924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0848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1964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4016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4160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5744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2316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2316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2316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2316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3276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327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0"/>
                  </a:srgbClr>
                </a:gs>
                <a:gs pos="100000">
                  <a:srgbClr val="a1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66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66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b366d"/>
                </a:gs>
                <a:gs pos="50000">
                  <a:srgbClr val="3366cc"/>
                </a:gs>
                <a:gs pos="100000">
                  <a:srgbClr val="1b36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66cc">
                    <a:alpha val="0"/>
                  </a:srgbClr>
                </a:gs>
                <a:gs pos="100000">
                  <a:srgbClr val="204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40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699ff">
                    <a:alpha val="0"/>
                  </a:srgbClr>
                </a:gs>
                <a:gs pos="100000">
                  <a:srgbClr val="4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50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55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00200" y="1498680"/>
            <a:ext cx="7010280" cy="4521240"/>
            <a:chOff x="1600200" y="1498680"/>
            <a:chExt cx="7010280" cy="4521240"/>
          </a:xfrm>
        </p:grpSpPr>
        <p:sp>
          <p:nvSpPr>
            <p:cNvPr id="367" name=""/>
            <p:cNvSpPr/>
            <p:nvPr/>
          </p:nvSpPr>
          <p:spPr>
            <a:xfrm>
              <a:off x="1600200" y="19814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876400">
              <a:off x="3916440" y="4927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48040" y="370836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68560" y="37180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37339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78360" y="377820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6000" y="4335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826600">
              <a:off x="2087640" y="43178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011320" y="3327480"/>
              <a:ext cx="1371240" cy="1441080"/>
              <a:chOff x="2011320" y="3327480"/>
              <a:chExt cx="1371240" cy="1441080"/>
            </a:xfrm>
          </p:grpSpPr>
          <p:sp>
            <p:nvSpPr>
              <p:cNvPr id="377" name=""/>
              <p:cNvSpPr/>
              <p:nvPr/>
            </p:nvSpPr>
            <p:spPr>
              <a:xfrm>
                <a:off x="2011320" y="3327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29320" y="33357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042280" y="33490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113920" y="33858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91760" y="3833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752480" y="2562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8800" y="19558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1400" y="19605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2560" y="1971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06560" y="1997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25720" y="2305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8120" y="20322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70160" y="14986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79880" y="15019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86000" y="1508040"/>
              <a:ext cx="63360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2720" y="15271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720" y="1722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400760" y="1828800"/>
            <a:ext cx="7282440" cy="3770280"/>
            <a:chOff x="1400760" y="1828800"/>
            <a:chExt cx="7282440" cy="3770280"/>
          </a:xfrm>
        </p:grpSpPr>
        <p:sp>
          <p:nvSpPr>
            <p:cNvPr id="396" name=""/>
            <p:cNvSpPr/>
            <p:nvPr/>
          </p:nvSpPr>
          <p:spPr>
            <a:xfrm rot="17973000">
              <a:off x="5209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3465600">
              <a:off x="5259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4368800">
              <a:off x="4041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534800">
              <a:off x="4002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42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0800000">
              <a:off x="3431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2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04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15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18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04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0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38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09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29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48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29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43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92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97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03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00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0"/>
                  </a:srgbClr>
                </a:gs>
                <a:gs pos="100000">
                  <a:srgbClr val="a1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78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399200" y="3087720"/>
              <a:ext cx="1290600" cy="1278000"/>
              <a:chOff x="4399200" y="3087720"/>
              <a:chExt cx="1290600" cy="1278000"/>
            </a:xfrm>
          </p:grpSpPr>
          <p:sp>
            <p:nvSpPr>
              <p:cNvPr id="421" name=""/>
              <p:cNvSpPr/>
              <p:nvPr/>
            </p:nvSpPr>
            <p:spPr>
              <a:xfrm>
                <a:off x="4399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15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29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98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4662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2039760"/>
            <a:ext cx="6887520" cy="3165480"/>
            <a:chOff x="1494000" y="2039760"/>
            <a:chExt cx="6887520" cy="3165480"/>
          </a:xfrm>
        </p:grpSpPr>
        <p:grpSp>
          <p:nvGrpSpPr>
            <p:cNvPr id="428" name=""/>
            <p:cNvGrpSpPr/>
            <p:nvPr/>
          </p:nvGrpSpPr>
          <p:grpSpPr>
            <a:xfrm>
              <a:off x="1494000" y="2039760"/>
              <a:ext cx="2163240" cy="3165480"/>
              <a:chOff x="1494000" y="2039760"/>
              <a:chExt cx="2163240" cy="3165480"/>
            </a:xfrm>
          </p:grpSpPr>
          <p:sp>
            <p:nvSpPr>
              <p:cNvPr id="429" name=""/>
              <p:cNvSpPr/>
              <p:nvPr/>
            </p:nvSpPr>
            <p:spPr>
              <a:xfrm>
                <a:off x="1494000" y="2347560"/>
                <a:ext cx="2163240" cy="285768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33">
                    <a:moveTo>
                      <a:pt x="3782" y="0"/>
                    </a:moveTo>
                    <a:arcTo wR="3782" hR="3782" stAng="16200000" swAng="-5400000"/>
                    <a:lnTo>
                      <a:pt x="0" y="24751"/>
                    </a:lnTo>
                    <a:arcTo wR="3782" hR="3782" stAng="10800000" swAng="-5400000"/>
                    <a:lnTo>
                      <a:pt x="17818" y="2853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7120" y="2355840"/>
                <a:ext cx="2098080" cy="2803320"/>
              </a:xfrm>
              <a:custGeom>
                <a:avLst/>
                <a:gdLst>
                  <a:gd name="textAreaLeft" fmla="*/ 102240 w 2098080"/>
                  <a:gd name="textAreaRight" fmla="*/ 1995840 w 209808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9">
                    <a:moveTo>
                      <a:pt x="3600" y="0"/>
                    </a:moveTo>
                    <a:arcTo wR="3600" hR="3600" stAng="16200000" swAng="-5400000"/>
                    <a:lnTo>
                      <a:pt x="0" y="25259"/>
                    </a:lnTo>
                    <a:arcTo wR="3600" hR="3600" stAng="10800000" swAng="-5400000"/>
                    <a:lnTo>
                      <a:pt x="18000" y="288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44400" y="4419360"/>
                <a:ext cx="206964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acd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44400" y="2377800"/>
                <a:ext cx="206964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ddef5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2238120" y="2039760"/>
                <a:ext cx="642600" cy="642960"/>
                <a:chOff x="2238120" y="2039760"/>
                <a:chExt cx="642600" cy="6429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238120" y="2039760"/>
                  <a:ext cx="64260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44600" y="2044440"/>
                  <a:ext cx="62136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252160" y="2048400"/>
                  <a:ext cx="60696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59000" y="2054160"/>
                  <a:ext cx="57708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292840" y="2069640"/>
                  <a:ext cx="51264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237816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69960" y="2801880"/>
                <a:ext cx="20570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6217920" y="2039760"/>
              <a:ext cx="2163600" cy="3165480"/>
              <a:chOff x="6217920" y="2039760"/>
              <a:chExt cx="2163600" cy="3165480"/>
            </a:xfrm>
          </p:grpSpPr>
          <p:sp>
            <p:nvSpPr>
              <p:cNvPr id="442" name=""/>
              <p:cNvSpPr/>
              <p:nvPr/>
            </p:nvSpPr>
            <p:spPr>
              <a:xfrm>
                <a:off x="6217920" y="2347560"/>
                <a:ext cx="2163600" cy="285768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28">
                    <a:moveTo>
                      <a:pt x="3782" y="0"/>
                    </a:moveTo>
                    <a:arcTo wR="3782" hR="3782" stAng="16200000" swAng="-5400000"/>
                    <a:lnTo>
                      <a:pt x="0" y="24746"/>
                    </a:lnTo>
                    <a:arcTo wR="3782" hR="3782" stAng="10800000" swAng="-5400000"/>
                    <a:lnTo>
                      <a:pt x="17818" y="2852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f8849"/>
                  </a:gs>
                  <a:gs pos="100000">
                    <a:srgbClr val="b59f43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51400" y="235584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68680" y="441936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1ec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268680" y="237780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f3ca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6962400" y="2039760"/>
                <a:ext cx="642960" cy="642960"/>
                <a:chOff x="6962400" y="2039760"/>
                <a:chExt cx="642960" cy="642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962400" y="203976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968880" y="204444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976800" y="2048400"/>
                  <a:ext cx="60732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83280" y="205416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17120" y="206964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710244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9424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855960" y="2039760"/>
              <a:ext cx="2163240" cy="3165480"/>
              <a:chOff x="3855960" y="2039760"/>
              <a:chExt cx="2163240" cy="3165480"/>
            </a:xfrm>
          </p:grpSpPr>
          <p:sp>
            <p:nvSpPr>
              <p:cNvPr id="455" name=""/>
              <p:cNvSpPr/>
              <p:nvPr/>
            </p:nvSpPr>
            <p:spPr>
              <a:xfrm>
                <a:off x="3855960" y="2347560"/>
                <a:ext cx="2163240" cy="285768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33">
                    <a:moveTo>
                      <a:pt x="3782" y="0"/>
                    </a:moveTo>
                    <a:arcTo wR="3782" hR="3782" stAng="16200000" swAng="-5400000"/>
                    <a:lnTo>
                      <a:pt x="0" y="24751"/>
                    </a:lnTo>
                    <a:arcTo wR="3782" hR="3782" stAng="10800000" swAng="-5400000"/>
                    <a:lnTo>
                      <a:pt x="17818" y="2853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f8b4a"/>
                  </a:gs>
                  <a:gs pos="100000">
                    <a:srgbClr val="34b0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89080" y="2355840"/>
                <a:ext cx="2098080" cy="2803320"/>
              </a:xfrm>
              <a:custGeom>
                <a:avLst/>
                <a:gdLst>
                  <a:gd name="textAreaLeft" fmla="*/ 102240 w 2098080"/>
                  <a:gd name="textAreaRight" fmla="*/ 1995840 w 209808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9">
                    <a:moveTo>
                      <a:pt x="3600" y="0"/>
                    </a:moveTo>
                    <a:arcTo wR="3600" hR="3600" stAng="16200000" swAng="-5400000"/>
                    <a:lnTo>
                      <a:pt x="0" y="25259"/>
                    </a:lnTo>
                    <a:arcTo wR="3600" hR="3600" stAng="10800000" swAng="-5400000"/>
                    <a:lnTo>
                      <a:pt x="18000" y="288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06360" y="4419360"/>
                <a:ext cx="206964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1f0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06360" y="2377800"/>
                <a:ext cx="206964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ff6d3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00080" y="2039760"/>
                <a:ext cx="64260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06560" y="20444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614480" y="2047680"/>
                <a:ext cx="607680" cy="60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20600" y="2054160"/>
                <a:ext cx="57780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55880" y="2070000"/>
                <a:ext cx="5122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4012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931920" y="2801880"/>
                <a:ext cx="20570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468" name="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96720" y="2292480"/>
              <a:ext cx="2183040" cy="3600720"/>
              <a:chOff x="396720" y="2292480"/>
              <a:chExt cx="2183040" cy="360072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873720" y="3211560"/>
                <a:ext cx="1706040" cy="2681640"/>
                <a:chOff x="873720" y="3211560"/>
                <a:chExt cx="1706040" cy="2681640"/>
              </a:xfrm>
            </p:grpSpPr>
            <p:grpSp>
              <p:nvGrpSpPr>
                <p:cNvPr id="472" name=""/>
                <p:cNvGrpSpPr/>
                <p:nvPr/>
              </p:nvGrpSpPr>
              <p:grpSpPr>
                <a:xfrm>
                  <a:off x="873720" y="3390480"/>
                  <a:ext cx="1578600" cy="2502720"/>
                  <a:chOff x="873720" y="3390480"/>
                  <a:chExt cx="1578600" cy="250272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3876600">
                    <a:off x="41004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3876600">
                    <a:off x="191592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1368360" y="3211560"/>
                  <a:ext cx="1211400" cy="1920240"/>
                  <a:chOff x="1368360" y="3211560"/>
                  <a:chExt cx="1211400" cy="19202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flipV="1" rot="3876600">
                    <a:off x="101268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V="1" rot="3876600">
                    <a:off x="215064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396720" y="2292480"/>
                <a:ext cx="1441800" cy="1440720"/>
                <a:chOff x="396720" y="2292480"/>
                <a:chExt cx="1441800" cy="14407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9212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9212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5404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571320" y="2467080"/>
                  <a:ext cx="1092240" cy="1092960"/>
                  <a:chOff x="571320" y="2467080"/>
                  <a:chExt cx="1092240" cy="10929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57132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8536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9652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5592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"/>
              <p:cNvSpPr/>
              <p:nvPr/>
            </p:nvSpPr>
            <p:spPr>
              <a:xfrm rot="3925800">
                <a:off x="89784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925800">
                <a:off x="14018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379600" y="2292480"/>
              <a:ext cx="2183040" cy="3600720"/>
              <a:chOff x="2379600" y="2292480"/>
              <a:chExt cx="2183040" cy="36007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2856600" y="3211560"/>
                <a:ext cx="1706040" cy="2681640"/>
                <a:chOff x="2856600" y="3211560"/>
                <a:chExt cx="1706040" cy="268164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2856600" y="3390480"/>
                  <a:ext cx="1578600" cy="2502720"/>
                  <a:chOff x="2856600" y="3390480"/>
                  <a:chExt cx="1578600" cy="250272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3876600">
                    <a:off x="239292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3876600">
                    <a:off x="389880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3351240" y="3211560"/>
                  <a:ext cx="1211400" cy="1920240"/>
                  <a:chOff x="3351240" y="3211560"/>
                  <a:chExt cx="1211400" cy="192024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 rot="3876600">
                    <a:off x="299556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V="1" rot="3876600">
                    <a:off x="413352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2379600" y="2292480"/>
                <a:ext cx="1441800" cy="1440720"/>
                <a:chOff x="2379600" y="2292480"/>
                <a:chExt cx="1441800" cy="14407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47500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47500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3692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2554200" y="2467080"/>
                  <a:ext cx="1092240" cy="1092960"/>
                  <a:chOff x="2554200" y="2467080"/>
                  <a:chExt cx="1092240" cy="10929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255420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56824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57940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63880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0" name=""/>
              <p:cNvSpPr/>
              <p:nvPr/>
            </p:nvSpPr>
            <p:spPr>
              <a:xfrm rot="3925800">
                <a:off x="28749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3925800">
                <a:off x="33782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427640" y="2292480"/>
              <a:ext cx="2182680" cy="3600720"/>
              <a:chOff x="4427640" y="2292480"/>
              <a:chExt cx="2182680" cy="36007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4904280" y="3211560"/>
                <a:ext cx="1706040" cy="2681640"/>
                <a:chOff x="4904280" y="3211560"/>
                <a:chExt cx="1706040" cy="268164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4904280" y="3390480"/>
                  <a:ext cx="1578600" cy="2502720"/>
                  <a:chOff x="4904280" y="3390480"/>
                  <a:chExt cx="1578600" cy="25027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3876600">
                    <a:off x="444060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3876600">
                    <a:off x="594648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5398920" y="3211560"/>
                  <a:ext cx="1211400" cy="1920240"/>
                  <a:chOff x="5398920" y="3211560"/>
                  <a:chExt cx="1211400" cy="19202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V="1" rot="3876600">
                    <a:off x="504324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V="1" rot="3876600">
                    <a:off x="618120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4427640" y="2292480"/>
                <a:ext cx="1441440" cy="1440720"/>
                <a:chOff x="4427640" y="2292480"/>
                <a:chExt cx="1441440" cy="1440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523040" y="23860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523040" y="23893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584960" y="24498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4602240" y="2467080"/>
                  <a:ext cx="1091880" cy="1092960"/>
                  <a:chOff x="4602240" y="2467080"/>
                  <a:chExt cx="1091880" cy="109296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4602240" y="24670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4616280" y="24732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627440" y="24836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686840" y="25113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1" name=""/>
              <p:cNvSpPr/>
              <p:nvPr/>
            </p:nvSpPr>
            <p:spPr>
              <a:xfrm rot="3925800">
                <a:off x="493200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925800">
                <a:off x="54356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442200" y="2133720"/>
              <a:ext cx="2399760" cy="3832560"/>
              <a:chOff x="6442200" y="2133720"/>
              <a:chExt cx="2399760" cy="38325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7136280" y="3284640"/>
                <a:ext cx="1705680" cy="2681640"/>
                <a:chOff x="7136280" y="3284640"/>
                <a:chExt cx="1705680" cy="268164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7136280" y="3463560"/>
                  <a:ext cx="1578600" cy="2502720"/>
                  <a:chOff x="7136280" y="3463560"/>
                  <a:chExt cx="1578600" cy="250272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3876600">
                    <a:off x="6672600" y="443556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3876600">
                    <a:off x="8178480" y="54043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630560" y="3284640"/>
                  <a:ext cx="1211400" cy="1920240"/>
                  <a:chOff x="7630560" y="3284640"/>
                  <a:chExt cx="1211400" cy="19202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flipV="1" rot="3876600">
                    <a:off x="7274880" y="403056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 rot="3876600">
                    <a:off x="8412840" y="4782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1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58120" y="22464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59560" y="22496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632640" y="23227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6653160" y="2343240"/>
                <a:ext cx="1312920" cy="1310400"/>
                <a:chOff x="6653160" y="2343240"/>
                <a:chExt cx="1312920" cy="13104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653160" y="23432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669720" y="23504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83400" y="23630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54680" y="23965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 rot="3925800">
                <a:off x="7147080" y="43966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3925800">
                <a:off x="7649640" y="4105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57" name=""/>
            <p:cNvCxnSpPr>
              <a:stCxn id="553" idx="3"/>
              <a:endCxn id="554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4" idx="3"/>
              <a:endCxn id="555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5" idx="3"/>
              <a:endCxn id="556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Progress 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ff999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66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6699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3-D Pie Chart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142280" y="1173600"/>
            <a:ext cx="6879600" cy="4804560"/>
            <a:chOff x="1142280" y="1173600"/>
            <a:chExt cx="6879600" cy="4804560"/>
          </a:xfrm>
        </p:grpSpPr>
        <p:sp>
          <p:nvSpPr>
            <p:cNvPr id="569" name="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c32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54116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45548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0602200">
              <a:off x="143352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146520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rot="20602200">
              <a:off x="144756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539200">
              <a:off x="145980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420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153c52"/>
                </a:gs>
                <a:gs pos="100000">
                  <a:srgbClr val="2e83b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2209680" y="1371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ontents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676520" y="1947960"/>
            <a:ext cx="5410080" cy="664920"/>
            <a:chOff x="1676520" y="1947960"/>
            <a:chExt cx="5410080" cy="664920"/>
          </a:xfrm>
        </p:grpSpPr>
        <p:grpSp>
          <p:nvGrpSpPr>
            <p:cNvPr id="129" name=""/>
            <p:cNvGrpSpPr/>
            <p:nvPr/>
          </p:nvGrpSpPr>
          <p:grpSpPr>
            <a:xfrm>
              <a:off x="1676520" y="1947960"/>
              <a:ext cx="762120" cy="664920"/>
              <a:chOff x="1676520" y="1947960"/>
              <a:chExt cx="762120" cy="664920"/>
            </a:xfrm>
          </p:grpSpPr>
          <p:sp>
            <p:nvSpPr>
              <p:cNvPr id="130" name=""/>
              <p:cNvSpPr/>
              <p:nvPr/>
            </p:nvSpPr>
            <p:spPr>
              <a:xfrm>
                <a:off x="168264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7652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20800" y="1987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7546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286000" y="25570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51360" y="1969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75240" y="204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76520" y="2862360"/>
            <a:ext cx="5410080" cy="664920"/>
            <a:chOff x="1676520" y="2862360"/>
            <a:chExt cx="5410080" cy="664920"/>
          </a:xfrm>
        </p:grpSpPr>
        <p:grpSp>
          <p:nvGrpSpPr>
            <p:cNvPr id="137" name=""/>
            <p:cNvGrpSpPr/>
            <p:nvPr/>
          </p:nvGrpSpPr>
          <p:grpSpPr>
            <a:xfrm>
              <a:off x="1676520" y="2862360"/>
              <a:ext cx="762120" cy="664920"/>
              <a:chOff x="1676520" y="2862360"/>
              <a:chExt cx="762120" cy="664920"/>
            </a:xfrm>
          </p:grpSpPr>
          <p:sp>
            <p:nvSpPr>
              <p:cNvPr id="138" name=""/>
              <p:cNvSpPr/>
              <p:nvPr/>
            </p:nvSpPr>
            <p:spPr>
              <a:xfrm>
                <a:off x="168264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7652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20800" y="29016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286000" y="34714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51360" y="2884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75240" y="29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76520" y="3754440"/>
            <a:ext cx="5410080" cy="665280"/>
            <a:chOff x="1676520" y="3754440"/>
            <a:chExt cx="5410080" cy="665280"/>
          </a:xfrm>
        </p:grpSpPr>
        <p:grpSp>
          <p:nvGrpSpPr>
            <p:cNvPr id="145" name=""/>
            <p:cNvGrpSpPr/>
            <p:nvPr/>
          </p:nvGrpSpPr>
          <p:grpSpPr>
            <a:xfrm>
              <a:off x="1676520" y="3754440"/>
              <a:ext cx="762120" cy="665280"/>
              <a:chOff x="1676520" y="3754440"/>
              <a:chExt cx="762120" cy="665280"/>
            </a:xfrm>
          </p:grpSpPr>
          <p:sp>
            <p:nvSpPr>
              <p:cNvPr id="146" name=""/>
              <p:cNvSpPr/>
              <p:nvPr/>
            </p:nvSpPr>
            <p:spPr>
              <a:xfrm>
                <a:off x="168264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7652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20800" y="3793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7546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286000" y="43639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51360" y="3776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524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76520" y="4668840"/>
            <a:ext cx="5410080" cy="665280"/>
            <a:chOff x="1676520" y="4668840"/>
            <a:chExt cx="5410080" cy="665280"/>
          </a:xfrm>
        </p:grpSpPr>
        <p:grpSp>
          <p:nvGrpSpPr>
            <p:cNvPr id="153" name=""/>
            <p:cNvGrpSpPr/>
            <p:nvPr/>
          </p:nvGrpSpPr>
          <p:grpSpPr>
            <a:xfrm>
              <a:off x="1676520" y="4668840"/>
              <a:ext cx="762120" cy="665280"/>
              <a:chOff x="1676520" y="4668840"/>
              <a:chExt cx="762120" cy="665280"/>
            </a:xfrm>
          </p:grpSpPr>
          <p:sp>
            <p:nvSpPr>
              <p:cNvPr id="154" name=""/>
              <p:cNvSpPr/>
              <p:nvPr/>
            </p:nvSpPr>
            <p:spPr>
              <a:xfrm>
                <a:off x="168264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7652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720800" y="47080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286000" y="52783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51360" y="4691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7524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83b2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80BF-6007-4469-96C7-EBF159293E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209680" y="3657240"/>
            <a:ext cx="50292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209680" y="274320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2e83b2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effectLst>
                <a:outerShdw dist="81185" dir="2321969" blurRad="0" rotWithShape="0">
                  <a:srgbClr val="2e83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Hot Tip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ffffe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e7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7920" y="3095640"/>
            <a:ext cx="2286000" cy="2666880"/>
            <a:chOff x="1447920" y="3095640"/>
            <a:chExt cx="2286000" cy="2666880"/>
          </a:xfrm>
        </p:grpSpPr>
        <p:sp>
          <p:nvSpPr>
            <p:cNvPr id="164" name=""/>
            <p:cNvSpPr/>
            <p:nvPr/>
          </p:nvSpPr>
          <p:spPr>
            <a:xfrm>
              <a:off x="14479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4332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527280" y="2998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dddd"/>
              </a:gs>
              <a:gs pos="100000">
                <a:srgbClr val="ff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352680" y="1371600"/>
            <a:ext cx="2998440" cy="1601280"/>
            <a:chOff x="3352680" y="1371600"/>
            <a:chExt cx="2998440" cy="1601280"/>
          </a:xfrm>
        </p:grpSpPr>
        <p:grpSp>
          <p:nvGrpSpPr>
            <p:cNvPr id="168" name=""/>
            <p:cNvGrpSpPr/>
            <p:nvPr/>
          </p:nvGrpSpPr>
          <p:grpSpPr>
            <a:xfrm>
              <a:off x="3352680" y="1371600"/>
              <a:ext cx="2998440" cy="1601280"/>
              <a:chOff x="3352680" y="1371600"/>
              <a:chExt cx="2998440" cy="1601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3352680" y="1514520"/>
                <a:ext cx="2998440" cy="1458360"/>
                <a:chOff x="3352680" y="1514520"/>
                <a:chExt cx="2998440" cy="1458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8544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4a"/>
                    </a:gs>
                    <a:gs pos="100000">
                      <a:srgbClr val="ff99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35268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99"/>
                    </a:gs>
                    <a:gs pos="100000">
                      <a:srgbClr val="fed0d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349380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2872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8dafe"/>
                  </a:gs>
                  <a:gs pos="100000">
                    <a:srgbClr val="6699f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5572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48235"/>
                    </a:srgbClr>
                  </a:gs>
                  <a:gs pos="100000">
                    <a:srgbClr val="5078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8748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18752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867280" y="3095640"/>
            <a:ext cx="2286000" cy="2666880"/>
            <a:chOff x="5867280" y="3095640"/>
            <a:chExt cx="2286000" cy="2666880"/>
          </a:xfrm>
        </p:grpSpPr>
        <p:sp>
          <p:nvSpPr>
            <p:cNvPr id="178" name=""/>
            <p:cNvSpPr/>
            <p:nvPr/>
          </p:nvSpPr>
          <p:spPr>
            <a:xfrm>
              <a:off x="586728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19560" y="3276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H="1">
            <a:off x="51793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dd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ycle 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15600" y="1251000"/>
            <a:ext cx="7932240" cy="5225040"/>
            <a:chOff x="615600" y="1251000"/>
            <a:chExt cx="7932240" cy="5225040"/>
          </a:xfrm>
        </p:grpSpPr>
        <p:sp>
          <p:nvSpPr>
            <p:cNvPr id="183" name=""/>
            <p:cNvSpPr/>
            <p:nvPr/>
          </p:nvSpPr>
          <p:spPr>
            <a:xfrm rot="20241600">
              <a:off x="1236600" y="24616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eff4fe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056200">
              <a:off x="4572000" y="2437920"/>
              <a:ext cx="106668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056200">
              <a:off x="7467480" y="2666520"/>
              <a:ext cx="106704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056200">
              <a:off x="2971800" y="5638320"/>
              <a:ext cx="106668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056200">
              <a:off x="5714640" y="502848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056200">
              <a:off x="2057040" y="396180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8640" y="15998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57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54040" y="31240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1f2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36760" y="48211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8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11640" y="41907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2e83b2"/>
                </a:gs>
                <a:gs pos="100000">
                  <a:srgbClr val="1337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40440" y="18284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74800" y="358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98400" y="20570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0240" y="2334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40320" y="4647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9360" y="52718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87760" y="35859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31960" y="18871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"/>
            <p:cNvCxnSpPr/>
            <p:nvPr/>
          </p:nvCxnSpPr>
          <p:spPr>
            <a:xfrm flipH="1">
              <a:off x="615600" y="18867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693360" y="14479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 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205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211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217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96840" y="1447920"/>
            <a:ext cx="7383960" cy="4420800"/>
            <a:chOff x="996840" y="1447920"/>
            <a:chExt cx="7383960" cy="4420800"/>
          </a:xfrm>
        </p:grpSpPr>
        <p:grpSp>
          <p:nvGrpSpPr>
            <p:cNvPr id="224" name=""/>
            <p:cNvGrpSpPr/>
            <p:nvPr/>
          </p:nvGrpSpPr>
          <p:grpSpPr>
            <a:xfrm>
              <a:off x="2520720" y="1447920"/>
              <a:ext cx="4419360" cy="4376160"/>
              <a:chOff x="2520720" y="1447920"/>
              <a:chExt cx="4419360" cy="4376160"/>
            </a:xfrm>
          </p:grpSpPr>
          <p:sp>
            <p:nvSpPr>
              <p:cNvPr id="225" name="Puzzle3"/>
              <p:cNvSpPr/>
              <p:nvPr/>
            </p:nvSpPr>
            <p:spPr>
              <a:xfrm>
                <a:off x="4672440" y="14479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4060a1"/>
                  </a:gs>
                  <a:gs pos="100000">
                    <a:srgbClr val="6699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Puzzle2"/>
              <p:cNvSpPr/>
              <p:nvPr/>
            </p:nvSpPr>
            <p:spPr>
              <a:xfrm>
                <a:off x="4167720" y="31420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a1e6e6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Puzzle4"/>
              <p:cNvSpPr/>
              <p:nvPr/>
            </p:nvSpPr>
            <p:spPr>
              <a:xfrm>
                <a:off x="3094560" y="31161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fec9c9"/>
                  </a:gs>
                  <a:gs pos="100000">
                    <a:srgbClr val="ff9999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Puzzle1"/>
              <p:cNvSpPr/>
              <p:nvPr/>
            </p:nvSpPr>
            <p:spPr>
              <a:xfrm>
                <a:off x="2520720" y="21513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172f5e"/>
                  </a:gs>
                  <a:gs pos="100000">
                    <a:srgbClr val="3366cc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6636600" y="38239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96840" y="3214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49320" y="15238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25840" y="55004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1752480"/>
            <a:ext cx="7086600" cy="3833640"/>
            <a:chOff x="1371600" y="1752480"/>
            <a:chExt cx="7086600" cy="3833640"/>
          </a:xfrm>
        </p:grpSpPr>
        <p:sp>
          <p:nvSpPr>
            <p:cNvPr id="235" name=""/>
            <p:cNvSpPr/>
            <p:nvPr/>
          </p:nvSpPr>
          <p:spPr>
            <a:xfrm>
              <a:off x="1371600" y="17524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a1c0fe">
                    <a:alpha val="12156"/>
                  </a:srgbClr>
                </a:gs>
                <a:gs pos="50000">
                  <a:srgbClr val="6699ff"/>
                </a:gs>
                <a:gs pos="100000">
                  <a:srgbClr val="a1c0fe">
                    <a:alpha val="1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65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8be1e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813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118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bfb"/>
                </a:gs>
                <a:gs pos="100000">
                  <a:srgbClr val="33cc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82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9720" y="4038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bfb"/>
                </a:gs>
                <a:gs pos="100000">
                  <a:srgbClr val="33cc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813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53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45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46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50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56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61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48Z</dcterms:modified>
  <cp:revision>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