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691-A334-4653-A641-A444E947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E7D-34D6-4009-AC62-FF11BA5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0D9-CEA5-4B9D-B15D-06F2464C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7F1-2376-489C-8561-4A92970C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67C-CAE2-4210-ABF8-D4FB13F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1BEE-8F10-44B8-AA94-7F319DC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D380-4BA0-4CCC-A513-7AB84AA0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35BB-1384-4320-8C87-DC2526C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BFF-A2EC-43BC-88C7-DB47E03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25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D7FD-6B64-4302-B076-4D9CEE1A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CC3D-993A-4869-848D-4113D521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25F-485C-41DB-AA88-5E807BC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0091-551E-41DB-9B75-5C3B62F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AA0F-63A3-4273-BB6E-36EC376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3B2-0C2D-4936-A5E2-0A5FAEF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9C9A-81B7-46B7-95F2-3BA3406E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F41A-6084-449E-A1EE-F8691C06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493-6BFC-4150-8C98-E49D12F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882-5749-401D-A043-118B30C4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4E4-2734-4A53-8A6A-4158D38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25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105-5A42-48FF-866A-AC0FD6C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731-C7EA-4075-8DD6-A80663A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853-410B-44F8-851B-06864CD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3E7-368F-46FC-86C9-25BE144D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AFFE-72F9-4E8B-8D70-375D2B4C38F0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4486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F748-505C-4F46-833B-5508EBE5E115}" type="slidenum">
              <a:rPr b="0" lang="en-US" sz="1000" spc="-1" strike="noStrike">
                <a:solidFill>
                  <a:srgbClr val="24486c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Berrylishiou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50360" y="10666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海洋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Topic Goes 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403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63B-673F-424A-9910-A2D39E53F170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0336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907320" y="5122800"/>
            <a:ext cx="2084400" cy="1563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22800"/>
            <a:ext cx="2084400" cy="1563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