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2D3B-00F9-4516-8BAF-5B860B0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6C4-5DBE-4D50-A313-5657C1F7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22C-A0EC-4072-958D-ECC90CA3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8C7-05BA-4243-B398-765317CF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2CE-FA76-45CE-A0EA-844C1D95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6400-3D9E-4409-B513-BE31934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58F0-259D-42AA-B137-97E6955E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B064-879F-4CC9-B93F-287EDF7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2C7-4C44-4400-8337-AC0F948F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49DA-EA4C-4F5D-83B8-BDD7A4E0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90C0-A45D-41D0-B8A3-509C19E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F01-F541-4F96-A659-1E14CA64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69B-57D8-410C-AAAF-4602E31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E3EF-621B-41ED-A2C9-743DB48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2347-A431-4745-863B-28069BC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9302-B091-4D18-B578-51257A3C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65E9-FA5C-4C9D-AAB9-042F6BC1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79E-FA39-4E0E-B83E-35219DC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DC6-E260-4C40-A726-02D04F8C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345-3EA6-4C94-9DA7-D847F5B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58D-F8BD-435C-91A3-112E2D7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B77-7D92-4BE4-B14F-D0312D0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8F1-E502-457D-9025-A38CC15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B21-835B-4462-9853-0404036A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5720"/>
              <a:ext cx="600480" cy="50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31EF-6070-45B3-A7F7-F6C8689F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3880"/>
              <a:ext cx="762120" cy="60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240"/>
              <a:ext cx="1079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761D-4732-41A6-AD89-921EA0E5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werPoint </a:t>
            </a:r>
            <a:r>
              <a:rPr b="1" lang="en-US" sz="4800" spc="-1" strike="noStrike">
                <a:solidFill>
                  <a:srgbClr val="dddddd"/>
                </a:solidFill>
                <a:latin typeface="Arial"/>
              </a:rPr>
              <a:t>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5000" y="8380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简洁风格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69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79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4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9400" y="1986120"/>
            <a:ext cx="5503680" cy="39700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7da0d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894040" y="3689280"/>
            <a:ext cx="1873080" cy="2040120"/>
            <a:chOff x="2894040" y="3689280"/>
            <a:chExt cx="1873080" cy="2040120"/>
          </a:xfrm>
        </p:grpSpPr>
        <p:sp>
          <p:nvSpPr>
            <p:cNvPr id="297" name=""/>
            <p:cNvSpPr/>
            <p:nvPr/>
          </p:nvSpPr>
          <p:spPr>
            <a:xfrm>
              <a:off x="2894040" y="4937400"/>
              <a:ext cx="1873080" cy="792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77200" y="3689280"/>
              <a:ext cx="1706040" cy="17060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9520" y="3698280"/>
              <a:ext cx="1664640" cy="1664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6800" y="371484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8600" y="3758760"/>
              <a:ext cx="140868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39920" y="3179880"/>
            <a:ext cx="1498680" cy="1631880"/>
            <a:chOff x="1339920" y="3179880"/>
            <a:chExt cx="1498680" cy="1631880"/>
          </a:xfrm>
        </p:grpSpPr>
        <p:sp>
          <p:nvSpPr>
            <p:cNvPr id="303" name=""/>
            <p:cNvSpPr/>
            <p:nvPr/>
          </p:nvSpPr>
          <p:spPr>
            <a:xfrm>
              <a:off x="1339920" y="4178160"/>
              <a:ext cx="1498680" cy="633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06520" y="3179880"/>
              <a:ext cx="1365120" cy="1364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24160" y="3187080"/>
              <a:ext cx="1332000" cy="1331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38200" y="3200040"/>
              <a:ext cx="1267200" cy="12441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11640" y="3235320"/>
              <a:ext cx="1127160" cy="1009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36680" y="1957320"/>
            <a:ext cx="1125360" cy="1224000"/>
            <a:chOff x="1336680" y="1957320"/>
            <a:chExt cx="1125360" cy="1224000"/>
          </a:xfrm>
        </p:grpSpPr>
        <p:sp>
          <p:nvSpPr>
            <p:cNvPr id="309" name=""/>
            <p:cNvSpPr/>
            <p:nvPr/>
          </p:nvSpPr>
          <p:spPr>
            <a:xfrm>
              <a:off x="1336680" y="2706120"/>
              <a:ext cx="1125360" cy="475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6720" y="1957320"/>
              <a:ext cx="1025280" cy="102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00040" y="1962720"/>
              <a:ext cx="1000080" cy="9986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10480" y="1972440"/>
              <a:ext cx="95184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5560" y="1999080"/>
              <a:ext cx="84636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462040" y="1523880"/>
            <a:ext cx="749520" cy="816120"/>
            <a:chOff x="2462040" y="1523880"/>
            <a:chExt cx="749520" cy="816120"/>
          </a:xfrm>
        </p:grpSpPr>
        <p:sp>
          <p:nvSpPr>
            <p:cNvPr id="315" name=""/>
            <p:cNvSpPr/>
            <p:nvPr/>
          </p:nvSpPr>
          <p:spPr>
            <a:xfrm>
              <a:off x="2462040" y="2023200"/>
              <a:ext cx="749520" cy="316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215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95160" y="1523880"/>
              <a:ext cx="68292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04160" y="1527480"/>
              <a:ext cx="666360" cy="666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1000" y="1533960"/>
              <a:ext cx="63396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47720" y="1551600"/>
              <a:ext cx="563760" cy="504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65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90480" y="2306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0200" y="3659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4440" y="4316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3517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da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23623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0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35440" y="313380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7760" y="315288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75040" y="3162240"/>
            <a:ext cx="1438200" cy="14353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90880" y="317664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71880" y="321300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43000" y="1984320"/>
            <a:ext cx="2169720" cy="4034880"/>
            <a:chOff x="1143000" y="1984320"/>
            <a:chExt cx="2169720" cy="4034880"/>
          </a:xfrm>
        </p:grpSpPr>
        <p:grpSp>
          <p:nvGrpSpPr>
            <p:cNvPr id="370" name=""/>
            <p:cNvGrpSpPr/>
            <p:nvPr/>
          </p:nvGrpSpPr>
          <p:grpSpPr>
            <a:xfrm>
              <a:off x="1143000" y="2291760"/>
              <a:ext cx="2169720" cy="3727440"/>
              <a:chOff x="1143000" y="2291760"/>
              <a:chExt cx="2169720" cy="3727440"/>
            </a:xfrm>
          </p:grpSpPr>
          <p:sp>
            <p:nvSpPr>
              <p:cNvPr id="371" name=""/>
              <p:cNvSpPr/>
              <p:nvPr/>
            </p:nvSpPr>
            <p:spPr>
              <a:xfrm>
                <a:off x="114300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7648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9376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ed8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9376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948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9376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eff9">
                      <a:alpha val="50196"/>
                    </a:srgbClr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886760" y="1984320"/>
              <a:ext cx="642960" cy="642960"/>
              <a:chOff x="1886760" y="1984320"/>
              <a:chExt cx="642960" cy="642960"/>
            </a:xfrm>
          </p:grpSpPr>
          <p:sp>
            <p:nvSpPr>
              <p:cNvPr id="378" name=""/>
              <p:cNvSpPr/>
              <p:nvPr/>
            </p:nvSpPr>
            <p:spPr>
              <a:xfrm>
                <a:off x="1886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93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0116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07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41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202752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05320" y="1984320"/>
            <a:ext cx="2169720" cy="4034880"/>
            <a:chOff x="3505320" y="1984320"/>
            <a:chExt cx="2169720" cy="4034880"/>
          </a:xfrm>
        </p:grpSpPr>
        <p:grpSp>
          <p:nvGrpSpPr>
            <p:cNvPr id="386" name=""/>
            <p:cNvGrpSpPr/>
            <p:nvPr/>
          </p:nvGrpSpPr>
          <p:grpSpPr>
            <a:xfrm>
              <a:off x="3505320" y="2291760"/>
              <a:ext cx="2169720" cy="3727440"/>
              <a:chOff x="3505320" y="2291760"/>
              <a:chExt cx="2169720" cy="3727440"/>
            </a:xfrm>
          </p:grpSpPr>
          <p:sp>
            <p:nvSpPr>
              <p:cNvPr id="387" name=""/>
              <p:cNvSpPr/>
              <p:nvPr/>
            </p:nvSpPr>
            <p:spPr>
              <a:xfrm>
                <a:off x="350532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3880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ea91"/>
                  </a:gs>
                  <a:gs pos="100000">
                    <a:srgbClr val="21d3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55608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8ea91">
                      <a:alpha val="0"/>
                    </a:srgbClr>
                  </a:gs>
                  <a:gs pos="100000">
                    <a:srgbClr val="95eb9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5608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6f7d9"/>
                  </a:gs>
                  <a:gs pos="100000">
                    <a:srgbClr val="88ea9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1180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55608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4efc0">
                      <a:alpha val="50196"/>
                    </a:srgbClr>
                  </a:gs>
                  <a:gs pos="100000">
                    <a:srgbClr val="21d34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249080" y="1984320"/>
              <a:ext cx="642960" cy="642960"/>
              <a:chOff x="4249080" y="1984320"/>
              <a:chExt cx="642960" cy="642960"/>
            </a:xfrm>
          </p:grpSpPr>
          <p:sp>
            <p:nvSpPr>
              <p:cNvPr id="394" name=""/>
              <p:cNvSpPr/>
              <p:nvPr/>
            </p:nvSpPr>
            <p:spPr>
              <a:xfrm>
                <a:off x="42490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555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634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699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038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8984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867280" y="1984320"/>
            <a:ext cx="2169720" cy="4034880"/>
            <a:chOff x="5867280" y="1984320"/>
            <a:chExt cx="2169720" cy="4034880"/>
          </a:xfrm>
        </p:grpSpPr>
        <p:grpSp>
          <p:nvGrpSpPr>
            <p:cNvPr id="402" name=""/>
            <p:cNvGrpSpPr/>
            <p:nvPr/>
          </p:nvGrpSpPr>
          <p:grpSpPr>
            <a:xfrm>
              <a:off x="5867280" y="2291760"/>
              <a:ext cx="2169720" cy="3727440"/>
              <a:chOff x="5867280" y="2291760"/>
              <a:chExt cx="2169720" cy="3727440"/>
            </a:xfrm>
          </p:grpSpPr>
          <p:sp>
            <p:nvSpPr>
              <p:cNvPr id="403" name=""/>
              <p:cNvSpPr/>
              <p:nvPr/>
            </p:nvSpPr>
            <p:spPr>
              <a:xfrm>
                <a:off x="5867280" y="2291760"/>
                <a:ext cx="2163240" cy="285696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6960"/>
                  <a:gd name="textAreaBottom" fmla="*/ 2746080 h 2856960"/>
                </a:gdLst>
                <a:ahLst/>
                <a:rect l="textAreaLeft" t="textAreaTop" r="textAreaRight" b="textAreaBottom"/>
                <a:pathLst>
                  <a:path w="21600" h="28526">
                    <a:moveTo>
                      <a:pt x="3782" y="0"/>
                    </a:moveTo>
                    <a:arcTo wR="3782" hR="3782" stAng="16200000" swAng="-5400000"/>
                    <a:lnTo>
                      <a:pt x="0" y="24744"/>
                    </a:lnTo>
                    <a:arcTo wR="3782" hR="3782" stAng="10800000" swAng="-5400000"/>
                    <a:lnTo>
                      <a:pt x="17818" y="2852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00760" y="229932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eaec86"/>
                  </a:gs>
                  <a:gs pos="100000">
                    <a:srgbClr val="dcc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918040" y="436392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ec86">
                      <a:alpha val="0"/>
                    </a:srgbClr>
                  </a:gs>
                  <a:gs pos="100000">
                    <a:srgbClr val="ebed9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18040" y="2322000"/>
                <a:ext cx="2069280" cy="70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f7d5"/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73760" y="5148720"/>
                <a:ext cx="2163240" cy="8704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3477a4">
                      <a:alpha val="50196"/>
                    </a:srgbClr>
                  </a:gs>
                  <a:gs pos="100000">
                    <a:srgbClr val="17364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18040" y="5172480"/>
                <a:ext cx="2069280" cy="708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7f7d5">
                      <a:alpha val="50196"/>
                    </a:srgbClr>
                  </a:gs>
                  <a:gs pos="100000">
                    <a:srgbClr val="eaec8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11040" y="1984320"/>
              <a:ext cx="642960" cy="642960"/>
              <a:chOff x="6611040" y="1984320"/>
              <a:chExt cx="642960" cy="642960"/>
            </a:xfrm>
          </p:grpSpPr>
          <p:sp>
            <p:nvSpPr>
              <p:cNvPr id="410" name=""/>
              <p:cNvSpPr/>
              <p:nvPr/>
            </p:nvSpPr>
            <p:spPr>
              <a:xfrm>
                <a:off x="661104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1752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2544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3192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6576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6752160" y="207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27464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906080" y="3584160"/>
            <a:ext cx="1703880" cy="2679120"/>
            <a:chOff x="4906080" y="3584160"/>
            <a:chExt cx="1703880" cy="2679120"/>
          </a:xfrm>
        </p:grpSpPr>
        <p:grpSp>
          <p:nvGrpSpPr>
            <p:cNvPr id="421" name=""/>
            <p:cNvGrpSpPr/>
            <p:nvPr/>
          </p:nvGrpSpPr>
          <p:grpSpPr>
            <a:xfrm>
              <a:off x="4906080" y="3762720"/>
              <a:ext cx="1577160" cy="2500560"/>
              <a:chOff x="4906080" y="3762720"/>
              <a:chExt cx="1577160" cy="2500560"/>
            </a:xfrm>
          </p:grpSpPr>
          <p:sp>
            <p:nvSpPr>
              <p:cNvPr id="422" name=""/>
              <p:cNvSpPr/>
              <p:nvPr/>
            </p:nvSpPr>
            <p:spPr>
              <a:xfrm rot="3876600">
                <a:off x="44427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876600">
                <a:off x="59475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5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4427640" y="2662200"/>
            <a:ext cx="1439640" cy="1440000"/>
            <a:chOff x="4427640" y="2662200"/>
            <a:chExt cx="1439640" cy="1440000"/>
          </a:xfrm>
        </p:grpSpPr>
        <p:sp>
          <p:nvSpPr>
            <p:cNvPr id="428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22680" y="27558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90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84600" y="28195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601880" y="2836800"/>
              <a:ext cx="1090440" cy="1092240"/>
              <a:chOff x="4601880" y="2836800"/>
              <a:chExt cx="1090440" cy="1092240"/>
            </a:xfrm>
          </p:grpSpPr>
          <p:sp>
            <p:nvSpPr>
              <p:cNvPr id="434" name=""/>
              <p:cNvSpPr/>
              <p:nvPr/>
            </p:nvSpPr>
            <p:spPr>
              <a:xfrm>
                <a:off x="460188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15560" y="28429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2708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8612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138080" y="3657240"/>
            <a:ext cx="1703880" cy="2679120"/>
            <a:chOff x="7138080" y="3657240"/>
            <a:chExt cx="1703880" cy="2679120"/>
          </a:xfrm>
        </p:grpSpPr>
        <p:grpSp>
          <p:nvGrpSpPr>
            <p:cNvPr id="439" name=""/>
            <p:cNvGrpSpPr/>
            <p:nvPr/>
          </p:nvGrpSpPr>
          <p:grpSpPr>
            <a:xfrm>
              <a:off x="7138080" y="3835800"/>
              <a:ext cx="1577160" cy="2500560"/>
              <a:chOff x="7138080" y="3835800"/>
              <a:chExt cx="1577160" cy="2500560"/>
            </a:xfrm>
          </p:grpSpPr>
          <p:sp>
            <p:nvSpPr>
              <p:cNvPr id="440" name=""/>
              <p:cNvSpPr/>
              <p:nvPr/>
            </p:nvSpPr>
            <p:spPr>
              <a:xfrm rot="3876600">
                <a:off x="667476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3876600">
                <a:off x="8179560" y="57754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3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1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69720" y="27201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858760" y="3583800"/>
            <a:ext cx="1703880" cy="2679480"/>
            <a:chOff x="2858760" y="3583800"/>
            <a:chExt cx="1703880" cy="2679480"/>
          </a:xfrm>
        </p:grpSpPr>
        <p:grpSp>
          <p:nvGrpSpPr>
            <p:cNvPr id="456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390024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352680" y="3583800"/>
              <a:ext cx="1209960" cy="1918800"/>
              <a:chOff x="3352680" y="3583800"/>
              <a:chExt cx="1209960" cy="191880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299700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413424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379600" y="2662200"/>
            <a:ext cx="1440000" cy="1440000"/>
            <a:chOff x="2379600" y="2662200"/>
            <a:chExt cx="1440000" cy="1440000"/>
          </a:xfrm>
        </p:grpSpPr>
        <p:sp>
          <p:nvSpPr>
            <p:cNvPr id="463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7500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500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3692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554200" y="2836800"/>
              <a:ext cx="1090800" cy="1092240"/>
              <a:chOff x="2554200" y="2836800"/>
              <a:chExt cx="1090800" cy="1092240"/>
            </a:xfrm>
          </p:grpSpPr>
          <p:sp>
            <p:nvSpPr>
              <p:cNvPr id="469" name=""/>
              <p:cNvSpPr/>
              <p:nvPr/>
            </p:nvSpPr>
            <p:spPr>
              <a:xfrm>
                <a:off x="255420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940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3844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875880" y="3583800"/>
            <a:ext cx="1703880" cy="2679480"/>
            <a:chOff x="875880" y="3583800"/>
            <a:chExt cx="1703880" cy="2679480"/>
          </a:xfrm>
        </p:grpSpPr>
        <p:grpSp>
          <p:nvGrpSpPr>
            <p:cNvPr id="474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5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876600">
                <a:off x="19173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369800" y="3583800"/>
              <a:ext cx="1209960" cy="1918800"/>
              <a:chOff x="1369800" y="3583800"/>
              <a:chExt cx="1209960" cy="1918800"/>
            </a:xfrm>
          </p:grpSpPr>
          <p:sp>
            <p:nvSpPr>
              <p:cNvPr id="478" name=""/>
              <p:cNvSpPr/>
              <p:nvPr/>
            </p:nvSpPr>
            <p:spPr>
              <a:xfrm flipV="1" rot="3876600">
                <a:off x="101412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3876600">
                <a:off x="215136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396720" y="2662200"/>
            <a:ext cx="1440000" cy="1440000"/>
            <a:chOff x="396720" y="2662200"/>
            <a:chExt cx="1440000" cy="1440000"/>
          </a:xfrm>
        </p:grpSpPr>
        <p:sp>
          <p:nvSpPr>
            <p:cNvPr id="481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212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212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404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71320" y="2836800"/>
              <a:ext cx="1090800" cy="1092240"/>
              <a:chOff x="571320" y="2836800"/>
              <a:chExt cx="1090800" cy="1092240"/>
            </a:xfrm>
          </p:grpSpPr>
          <p:sp>
            <p:nvSpPr>
              <p:cNvPr id="487" name=""/>
              <p:cNvSpPr/>
              <p:nvPr/>
            </p:nvSpPr>
            <p:spPr>
              <a:xfrm>
                <a:off x="57132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652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556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499" idx="3"/>
            <a:endCxn id="500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19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21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7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33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87720" y="438948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601600">
            <a:off x="1461960" y="22762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601600">
            <a:off x="1517400" y="211464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601600">
            <a:off x="1382400" y="213192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20601600">
            <a:off x="1434960" y="209988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rot="20602200">
            <a:off x="1438200" y="21135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20601600">
            <a:off x="1440000" y="211212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rot="20602200">
            <a:off x="1423800" y="21189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20601600">
            <a:off x="4506480" y="343548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20601600">
            <a:off x="4400280" y="318240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29560" y="1433880"/>
            <a:ext cx="6918480" cy="4356720"/>
            <a:chOff x="529560" y="1433880"/>
            <a:chExt cx="6918480" cy="4356720"/>
          </a:xfrm>
        </p:grpSpPr>
        <p:sp>
          <p:nvSpPr>
            <p:cNvPr id="560" name=""/>
            <p:cNvSpPr/>
            <p:nvPr/>
          </p:nvSpPr>
          <p:spPr>
            <a:xfrm rot="20712600">
              <a:off x="782280" y="220536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712600">
              <a:off x="4186080" y="340344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712600">
              <a:off x="5562000" y="357156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03680" y="1136520"/>
            <a:ext cx="6957360" cy="4863240"/>
            <a:chOff x="1003680" y="1136520"/>
            <a:chExt cx="6957360" cy="4863240"/>
          </a:xfrm>
        </p:grpSpPr>
        <p:sp>
          <p:nvSpPr>
            <p:cNvPr id="564" name=""/>
            <p:cNvSpPr/>
            <p:nvPr/>
          </p:nvSpPr>
          <p:spPr>
            <a:xfrm rot="20601600">
              <a:off x="6073560" y="34747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539200">
              <a:off x="1323720" y="202248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4757760" y="330480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 rot="20601600">
            <a:off x="2979720" y="28285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20601600">
            <a:off x="3056040" y="306360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716080" y="2649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15880" y="2192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87080" y="29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58480" y="42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10960" y="4478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92400" y="36399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68600" y="25560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dddddd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691160" y="4280040"/>
            <a:ext cx="1512720" cy="1511280"/>
            <a:chOff x="4691160" y="4280040"/>
            <a:chExt cx="1512720" cy="1511280"/>
          </a:xfrm>
        </p:grpSpPr>
        <p:sp>
          <p:nvSpPr>
            <p:cNvPr id="578" name=""/>
            <p:cNvSpPr/>
            <p:nvPr/>
          </p:nvSpPr>
          <p:spPr>
            <a:xfrm>
              <a:off x="46911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5aae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9116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a6cdf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901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b7d"/>
                </a:gs>
                <a:gs pos="50000">
                  <a:srgbClr val="65aae9"/>
                </a:gs>
                <a:gs pos="100000">
                  <a:srgbClr val="365b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9016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05270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e4e6b"/>
                </a:gs>
                <a:gs pos="100000">
                  <a:srgbClr val="65aa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64240" y="4280040"/>
            <a:ext cx="1513080" cy="1511280"/>
            <a:chOff x="6564240" y="4280040"/>
            <a:chExt cx="1513080" cy="1511280"/>
          </a:xfrm>
        </p:grpSpPr>
        <p:sp>
          <p:nvSpPr>
            <p:cNvPr id="584" name=""/>
            <p:cNvSpPr/>
            <p:nvPr/>
          </p:nvSpPr>
          <p:spPr>
            <a:xfrm>
              <a:off x="656424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2e38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4240" y="42800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cae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6324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f7a47"/>
                </a:gs>
                <a:gs pos="50000">
                  <a:srgbClr val="b2e385"/>
                </a:gs>
                <a:gs pos="100000">
                  <a:srgbClr val="5f7a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63240" y="43786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566d4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29120" y="44445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52683d"/>
                </a:gs>
                <a:gs pos="100000">
                  <a:srgbClr val="b2e3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892600" y="4280040"/>
            <a:ext cx="1512720" cy="1511280"/>
            <a:chOff x="2892600" y="4280040"/>
            <a:chExt cx="1512720" cy="1511280"/>
          </a:xfrm>
        </p:grpSpPr>
        <p:sp>
          <p:nvSpPr>
            <p:cNvPr id="590" name=""/>
            <p:cNvSpPr/>
            <p:nvPr/>
          </p:nvSpPr>
          <p:spPr>
            <a:xfrm>
              <a:off x="289260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9260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a3bb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9160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9160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4d66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5748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94961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109960" y="19177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0d3"/>
              </a:gs>
              <a:gs pos="50000">
                <a:srgbClr val="e6ecf6"/>
              </a:gs>
              <a:gs pos="100000">
                <a:srgbClr val="7da0d3"/>
              </a:gs>
            </a:gsLst>
            <a:lin ang="10800000"/>
          </a:gradFill>
          <a:ln w="1908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8284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25404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987600" y="4889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119240" y="4280040"/>
            <a:ext cx="1512720" cy="1511280"/>
            <a:chOff x="1119240" y="4280040"/>
            <a:chExt cx="1512720" cy="1511280"/>
          </a:xfrm>
        </p:grpSpPr>
        <p:sp>
          <p:nvSpPr>
            <p:cNvPr id="600" name=""/>
            <p:cNvSpPr/>
            <p:nvPr/>
          </p:nvSpPr>
          <p:spPr>
            <a:xfrm>
              <a:off x="111924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33d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119240" y="42800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233da9"/>
                </a:gs>
                <a:gs pos="100000">
                  <a:srgbClr val="6577c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1824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2205b"/>
                </a:gs>
                <a:gs pos="50000">
                  <a:srgbClr val="233da9"/>
                </a:gs>
                <a:gs pos="100000">
                  <a:srgbClr val="1220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18240" y="43786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101d51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84120" y="44445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101c4d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480680" y="490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5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119" name="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7012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012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9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133" name="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7012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7012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673-5AA8-4AC4-81D7-753D584BB1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65aae9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233da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Image –www.multibits.co.kr - CD: E.communication (image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customers: This image has been licensed to be used within this PowerPoint template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not   extract the image for any other 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347184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52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3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241600">
            <a:off x="107784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9f9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5aae9"/>
              </a:gs>
              <a:gs pos="100000">
                <a:srgbClr val="1f354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7800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92aa2"/>
              </a:gs>
              <a:gs pos="100000">
                <a:srgbClr val="3c185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b2e385"/>
              </a:gs>
              <a:gs pos="100000">
                <a:srgbClr val="3d4e2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8000" y="373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3964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7148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156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6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3738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73200" y="2039760"/>
            <a:ext cx="1793880" cy="16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 flipH="1">
            <a:off x="456840" y="203940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3460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94760" y="2057400"/>
            <a:ext cx="3197520" cy="2890800"/>
            <a:chOff x="2894760" y="2057400"/>
            <a:chExt cx="3197520" cy="2890800"/>
          </a:xfrm>
        </p:grpSpPr>
        <p:sp>
          <p:nvSpPr>
            <p:cNvPr id="197" name=""/>
            <p:cNvSpPr/>
            <p:nvPr/>
          </p:nvSpPr>
          <p:spPr>
            <a:xfrm flipH="1" rot="16200000">
              <a:off x="2812680" y="317088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5400000">
              <a:off x="5682960" y="31165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10800000">
              <a:off x="4250880" y="462132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2720" y="2057400"/>
              <a:ext cx="256680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68880" y="2201760"/>
              <a:ext cx="22726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440" y="233676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2440" y="2336760"/>
              <a:ext cx="200556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34560" y="246852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560" y="2468520"/>
              <a:ext cx="17416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676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3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eaeaea"/>
              </a:gs>
              <a:gs pos="100000">
                <a:srgbClr val="dddddd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0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