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901C-DBD5-46F2-BACE-42883B47FD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43BF-5AD2-4E49-A1D5-F730DD8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0B8B-4530-4F68-8ABA-EA074EC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A9F2-2203-4783-A7F6-680AE888B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37100-D551-4A4C-864C-E9D2A6C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18420-47A7-4506-9F1F-5AF494A2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37BED-EF5D-4DB5-B771-497EA80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2EA4A-8C85-4262-96C8-DBFF284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6DAAA-E292-4D36-A0FD-DBF8A290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9EF4D-30E7-4AF2-857B-01825E55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EE75-5E94-4C44-B251-965E52F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E73A-DDA8-4205-9F53-3A4DC9E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08E6D-91A9-490B-B5C4-3A436B9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FF8B5-BA64-41B5-AFC6-50DF6BF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1831-ACCB-4279-8E19-B4C1CC6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8FD6-5F5C-4C71-8EBF-27D0D52A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36C8-3432-4D19-9BCC-0410F50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614F-B71B-4A10-9793-0BCB366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9BB5-34B8-4DAA-B8BB-AF848F92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4601-0DF0-4CC5-9E10-36EDCAEE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B26B-FB57-4BF7-BD95-B5A2B6CE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6843-CD7B-4538-B68D-44FB42F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D7ED-74D8-4A48-83F9-C8ABB7D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32A8-0DC9-49F7-97A4-68A00EA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65680" y="657828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aeaea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446-3B05-4F27-B0D2-C1C323BA8D45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570520" cy="1031760"/>
            <a:chOff x="0" y="0"/>
            <a:chExt cx="8570520" cy="103176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8560080" cy="1031760"/>
            </a:xfrm>
            <a:prstGeom prst="roundRect">
              <a:avLst>
                <a:gd name="adj" fmla="val 26273"/>
              </a:avLst>
            </a:prstGeom>
            <a:solidFill>
              <a:srgbClr val="36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440" y="793800"/>
              <a:ext cx="8560080" cy="11412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05040"/>
            <a:ext cx="9144000" cy="55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772400" y="0"/>
            <a:ext cx="1244520" cy="1181160"/>
            <a:chOff x="7772400" y="0"/>
            <a:chExt cx="1244520" cy="1181160"/>
          </a:xfrm>
        </p:grpSpPr>
        <p:sp>
          <p:nvSpPr>
            <p:cNvPr id="9" name=""/>
            <p:cNvSpPr/>
            <p:nvPr/>
          </p:nvSpPr>
          <p:spPr>
            <a:xfrm>
              <a:off x="7772400" y="0"/>
              <a:ext cx="1181160" cy="1181160"/>
            </a:xfrm>
            <a:prstGeom prst="ellipse">
              <a:avLst/>
            </a:prstGeom>
            <a:solidFill>
              <a:srgbClr val="34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35760" y="0"/>
              <a:ext cx="1181160" cy="11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26560" y="115920"/>
            <a:ext cx="976680" cy="872280"/>
            <a:chOff x="8026560" y="115920"/>
            <a:chExt cx="976680" cy="872280"/>
          </a:xfrm>
        </p:grpSpPr>
        <p:grpSp>
          <p:nvGrpSpPr>
            <p:cNvPr id="12" name=""/>
            <p:cNvGrpSpPr/>
            <p:nvPr/>
          </p:nvGrpSpPr>
          <p:grpSpPr>
            <a:xfrm>
              <a:off x="8026560" y="491040"/>
              <a:ext cx="494640" cy="497160"/>
              <a:chOff x="8026560" y="491040"/>
              <a:chExt cx="494640" cy="497160"/>
            </a:xfrm>
          </p:grpSpPr>
          <p:sp>
            <p:nvSpPr>
              <p:cNvPr id="13" name=""/>
              <p:cNvSpPr/>
              <p:nvPr/>
            </p:nvSpPr>
            <p:spPr>
              <a:xfrm flipH="1">
                <a:off x="8026560" y="491040"/>
                <a:ext cx="494640" cy="247320"/>
              </a:xfrm>
              <a:prstGeom prst="diamond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8273160" y="611640"/>
                <a:ext cx="247320" cy="375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027640" y="61272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10400" y="494280"/>
              <a:ext cx="492840" cy="493920"/>
              <a:chOff x="8510400" y="494280"/>
              <a:chExt cx="492840" cy="493920"/>
            </a:xfrm>
          </p:grpSpPr>
          <p:sp>
            <p:nvSpPr>
              <p:cNvPr id="17" name=""/>
              <p:cNvSpPr/>
              <p:nvPr/>
            </p:nvSpPr>
            <p:spPr>
              <a:xfrm flipH="1">
                <a:off x="8510040" y="494280"/>
                <a:ext cx="492840" cy="24624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8757000" y="614880"/>
                <a:ext cx="246240" cy="371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12200" y="614880"/>
                <a:ext cx="246240" cy="373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8260200" y="115920"/>
              <a:ext cx="494640" cy="493560"/>
              <a:chOff x="8260200" y="115920"/>
              <a:chExt cx="494640" cy="493560"/>
            </a:xfrm>
          </p:grpSpPr>
          <p:sp>
            <p:nvSpPr>
              <p:cNvPr id="21" name=""/>
              <p:cNvSpPr/>
              <p:nvPr/>
            </p:nvSpPr>
            <p:spPr>
              <a:xfrm flipH="1">
                <a:off x="8259840" y="115920"/>
                <a:ext cx="494280" cy="24624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8508600" y="236880"/>
                <a:ext cx="246240" cy="37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262000" y="236880"/>
                <a:ext cx="246240" cy="372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9144000" cy="6057720"/>
          </a:xfrm>
          <a:prstGeom prst="rect">
            <a:avLst/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9BB-2C08-4AEE-A46D-EB92ADF4A24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463800" y="4392720"/>
            <a:ext cx="2371320" cy="2375280"/>
            <a:chOff x="6463800" y="4392720"/>
            <a:chExt cx="2371320" cy="2375280"/>
          </a:xfrm>
        </p:grpSpPr>
        <p:grpSp>
          <p:nvGrpSpPr>
            <p:cNvPr id="69" name=""/>
            <p:cNvGrpSpPr/>
            <p:nvPr/>
          </p:nvGrpSpPr>
          <p:grpSpPr>
            <a:xfrm>
              <a:off x="7334640" y="4392720"/>
              <a:ext cx="1492560" cy="1927800"/>
              <a:chOff x="7334640" y="4392720"/>
              <a:chExt cx="1492560" cy="192780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7335000" y="52808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7627680" y="54252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35000" y="54252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335000" y="49816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7627680" y="51253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36440" y="5127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7335000" y="4683960"/>
                <a:ext cx="586800" cy="590760"/>
                <a:chOff x="7335000" y="4683960"/>
                <a:chExt cx="586800" cy="590760"/>
              </a:xfrm>
            </p:grpSpPr>
            <p:sp>
              <p:nvSpPr>
                <p:cNvPr id="77" name=""/>
                <p:cNvSpPr/>
                <p:nvPr/>
              </p:nvSpPr>
              <p:spPr>
                <a:xfrm flipH="1">
                  <a:off x="7335000" y="468396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7627680" y="48272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336080" y="4828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7631640" y="5428800"/>
                <a:ext cx="58644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8920" y="55728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360" y="55728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632000" y="5131440"/>
                <a:ext cx="586440" cy="590400"/>
                <a:chOff x="7632000" y="5131440"/>
                <a:chExt cx="586440" cy="590400"/>
              </a:xfrm>
            </p:grpSpPr>
            <p:sp>
              <p:nvSpPr>
                <p:cNvPr id="84" name=""/>
                <p:cNvSpPr/>
                <p:nvPr/>
              </p:nvSpPr>
              <p:spPr>
                <a:xfrm flipH="1">
                  <a:off x="7631640" y="51314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7925400" y="527472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33440" y="52758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39560" y="4841640"/>
                <a:ext cx="586440" cy="588600"/>
                <a:chOff x="7639560" y="4841640"/>
                <a:chExt cx="586440" cy="58860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7639200" y="48416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7927200" y="49834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641360" y="49852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937280" y="5584320"/>
                <a:ext cx="586800" cy="588600"/>
                <a:chOff x="7937280" y="5584320"/>
                <a:chExt cx="586800" cy="58860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7937280" y="5584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229960" y="5727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8360" y="5728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932960" y="5288760"/>
                <a:ext cx="586440" cy="588600"/>
                <a:chOff x="7932960" y="5288760"/>
                <a:chExt cx="586440" cy="588600"/>
              </a:xfrm>
            </p:grpSpPr>
            <p:sp>
              <p:nvSpPr>
                <p:cNvPr id="96" name=""/>
                <p:cNvSpPr/>
                <p:nvPr/>
              </p:nvSpPr>
              <p:spPr>
                <a:xfrm flipH="1">
                  <a:off x="7932600" y="52887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222400" y="54324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38720" y="54324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932960" y="4993560"/>
                <a:ext cx="586440" cy="582840"/>
                <a:chOff x="7932960" y="4993560"/>
                <a:chExt cx="586440" cy="58284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7932600" y="49935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8222400" y="5129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937280" y="51314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8240040" y="5731920"/>
                <a:ext cx="586440" cy="588600"/>
                <a:chOff x="8240040" y="5731920"/>
                <a:chExt cx="586440" cy="588600"/>
              </a:xfrm>
            </p:grpSpPr>
            <p:sp>
              <p:nvSpPr>
                <p:cNvPr id="104" name=""/>
                <p:cNvSpPr/>
                <p:nvPr/>
              </p:nvSpPr>
              <p:spPr>
                <a:xfrm flipH="1">
                  <a:off x="8239680" y="57319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8533440" y="587556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1840" y="58755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8240400" y="5436720"/>
                <a:ext cx="586800" cy="588600"/>
                <a:chOff x="8240400" y="5436720"/>
                <a:chExt cx="586800" cy="588600"/>
              </a:xfrm>
            </p:grpSpPr>
            <p:sp>
              <p:nvSpPr>
                <p:cNvPr id="108" name=""/>
                <p:cNvSpPr/>
                <p:nvPr/>
              </p:nvSpPr>
              <p:spPr>
                <a:xfrm flipH="1">
                  <a:off x="8240400" y="54367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8533080" y="55796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41480" y="5580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8240400" y="5141160"/>
                <a:ext cx="586800" cy="588600"/>
                <a:chOff x="8240400" y="5141160"/>
                <a:chExt cx="586800" cy="588600"/>
              </a:xfrm>
            </p:grpSpPr>
            <p:sp>
              <p:nvSpPr>
                <p:cNvPr id="112" name=""/>
                <p:cNvSpPr/>
                <p:nvPr/>
              </p:nvSpPr>
              <p:spPr>
                <a:xfrm flipH="1">
                  <a:off x="8240400" y="51411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8533080" y="52840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41480" y="5285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334640" y="4392720"/>
                <a:ext cx="586440" cy="588600"/>
                <a:chOff x="7334640" y="4392720"/>
                <a:chExt cx="586440" cy="58860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7334280" y="43927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7620120" y="45363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5000" y="45363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638120" y="4540320"/>
                <a:ext cx="586800" cy="590760"/>
                <a:chOff x="7638120" y="4540320"/>
                <a:chExt cx="586800" cy="5907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7638120" y="4540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7930800" y="46836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39200" y="46850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936920" y="4690080"/>
                <a:ext cx="586440" cy="590040"/>
                <a:chOff x="7936920" y="4690080"/>
                <a:chExt cx="586440" cy="59004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7936560" y="46900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8220600" y="4833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38720" y="48355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240040" y="4845240"/>
                <a:ext cx="586440" cy="588960"/>
                <a:chOff x="8240040" y="4845240"/>
                <a:chExt cx="586440" cy="588960"/>
              </a:xfrm>
            </p:grpSpPr>
            <p:sp>
              <p:nvSpPr>
                <p:cNvPr id="128" name=""/>
                <p:cNvSpPr/>
                <p:nvPr/>
              </p:nvSpPr>
              <p:spPr>
                <a:xfrm flipH="1">
                  <a:off x="8239680" y="48452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533440" y="4988880"/>
                  <a:ext cx="293040" cy="443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241840" y="4988880"/>
                  <a:ext cx="293040" cy="445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463800" y="4828320"/>
              <a:ext cx="1492560" cy="1927800"/>
              <a:chOff x="6463800" y="4828320"/>
              <a:chExt cx="1492560" cy="192780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6464160" y="57164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756840" y="58608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64160" y="58608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464160" y="54172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756840" y="55609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65600" y="5563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6464160" y="5119560"/>
                <a:ext cx="586800" cy="590760"/>
                <a:chOff x="6464160" y="5119560"/>
                <a:chExt cx="586800" cy="59076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6464160" y="511956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6756840" y="52628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465240" y="526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6760800" y="5864400"/>
                <a:ext cx="58644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048080" y="60084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61520" y="60084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761160" y="5567040"/>
                <a:ext cx="586440" cy="590400"/>
                <a:chOff x="6761160" y="5567040"/>
                <a:chExt cx="586440" cy="59040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6760800" y="55670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054560" y="571032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62600" y="57114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68720" y="5277240"/>
                <a:ext cx="586440" cy="588600"/>
                <a:chOff x="6768720" y="5277240"/>
                <a:chExt cx="586440" cy="5886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6768360" y="52772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7056360" y="54190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70520" y="54208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066440" y="6019920"/>
                <a:ext cx="586800" cy="588600"/>
                <a:chOff x="7066440" y="6019920"/>
                <a:chExt cx="586800" cy="5886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7066440" y="60199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7359120" y="61628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67520" y="6163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062120" y="5724360"/>
                <a:ext cx="586440" cy="588600"/>
                <a:chOff x="7062120" y="5724360"/>
                <a:chExt cx="586440" cy="588600"/>
              </a:xfrm>
            </p:grpSpPr>
            <p:sp>
              <p:nvSpPr>
                <p:cNvPr id="158" name=""/>
                <p:cNvSpPr/>
                <p:nvPr/>
              </p:nvSpPr>
              <p:spPr>
                <a:xfrm flipH="1">
                  <a:off x="7061760" y="57243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351560" y="58680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067880" y="58680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062120" y="5429160"/>
                <a:ext cx="586440" cy="582840"/>
                <a:chOff x="7062120" y="5429160"/>
                <a:chExt cx="586440" cy="58284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7061760" y="54291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51560" y="5565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66440" y="5567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369200" y="6167520"/>
                <a:ext cx="586440" cy="588600"/>
                <a:chOff x="7369200" y="6167520"/>
                <a:chExt cx="586440" cy="58860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7368840" y="61675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7662600" y="631116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71000" y="63111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369560" y="5872320"/>
                <a:ext cx="586800" cy="588600"/>
                <a:chOff x="7369560" y="5872320"/>
                <a:chExt cx="586800" cy="58860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7369560" y="5872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662240" y="6015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70640" y="6016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369560" y="5576760"/>
                <a:ext cx="586800" cy="588600"/>
                <a:chOff x="7369560" y="5576760"/>
                <a:chExt cx="586800" cy="5886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7369560" y="55767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662240" y="57196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70640" y="5720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463800" y="4828320"/>
                <a:ext cx="586440" cy="588600"/>
                <a:chOff x="6463800" y="4828320"/>
                <a:chExt cx="586440" cy="5886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6463440" y="4828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6749280" y="49719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464160" y="49719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767280" y="4975920"/>
                <a:ext cx="586800" cy="590760"/>
                <a:chOff x="6767280" y="4975920"/>
                <a:chExt cx="586800" cy="59076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6767280" y="49759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7059960" y="51192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8360" y="51206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066080" y="5125680"/>
                <a:ext cx="586440" cy="590040"/>
                <a:chOff x="7066080" y="5125680"/>
                <a:chExt cx="586440" cy="59004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7065720" y="51256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7349760" y="52689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67880" y="52711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369560" y="5280840"/>
                <a:ext cx="586800" cy="588960"/>
                <a:chOff x="7369560" y="5280840"/>
                <a:chExt cx="586800" cy="58896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7369560" y="52808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7662240" y="5423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70640" y="54248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7956720" y="5139000"/>
              <a:ext cx="878400" cy="1629000"/>
              <a:chOff x="7956720" y="5139000"/>
              <a:chExt cx="878400" cy="162900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8248320" y="6033240"/>
                <a:ext cx="586800" cy="588960"/>
                <a:chOff x="8248320" y="6033240"/>
                <a:chExt cx="586800" cy="58896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8248320" y="60332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8541000" y="6176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249400" y="6177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956720" y="6179400"/>
                <a:ext cx="586440" cy="588600"/>
                <a:chOff x="7956720" y="6179400"/>
                <a:chExt cx="586440" cy="58860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7956360" y="617940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250120" y="63230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958520" y="6323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8248320" y="5731920"/>
                <a:ext cx="586800" cy="588600"/>
                <a:chOff x="8248320" y="5731920"/>
                <a:chExt cx="586800" cy="588600"/>
              </a:xfrm>
            </p:grpSpPr>
            <p:sp>
              <p:nvSpPr>
                <p:cNvPr id="203" name=""/>
                <p:cNvSpPr/>
                <p:nvPr/>
              </p:nvSpPr>
              <p:spPr>
                <a:xfrm flipH="1">
                  <a:off x="8248320" y="5731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5410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49760" y="5875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957080" y="5878080"/>
                <a:ext cx="586800" cy="588600"/>
                <a:chOff x="7957080" y="5878080"/>
                <a:chExt cx="586800" cy="58860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7957080" y="587808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8249760" y="602100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58160" y="6022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248320" y="5430240"/>
                <a:ext cx="586800" cy="590760"/>
                <a:chOff x="8248320" y="5430240"/>
                <a:chExt cx="586800" cy="590760"/>
              </a:xfrm>
            </p:grpSpPr>
            <p:sp>
              <p:nvSpPr>
                <p:cNvPr id="211" name=""/>
                <p:cNvSpPr/>
                <p:nvPr/>
              </p:nvSpPr>
              <p:spPr>
                <a:xfrm flipH="1">
                  <a:off x="8248320" y="543024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541000" y="557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49400" y="557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957080" y="5576400"/>
                <a:ext cx="586800" cy="590760"/>
                <a:chOff x="7957080" y="5576400"/>
                <a:chExt cx="586800" cy="59076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7957080" y="557640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8249760" y="5719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958160" y="5721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8248320" y="5139000"/>
                <a:ext cx="586800" cy="588600"/>
                <a:chOff x="8248320" y="5139000"/>
                <a:chExt cx="586800" cy="588600"/>
              </a:xfrm>
            </p:grpSpPr>
            <p:sp>
              <p:nvSpPr>
                <p:cNvPr id="219" name=""/>
                <p:cNvSpPr/>
                <p:nvPr/>
              </p:nvSpPr>
              <p:spPr>
                <a:xfrm flipH="1">
                  <a:off x="8248320" y="51390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8541000" y="5282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249760" y="5283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957080" y="5284800"/>
                <a:ext cx="586800" cy="588600"/>
                <a:chOff x="7957080" y="5284800"/>
                <a:chExt cx="586800" cy="588600"/>
              </a:xfrm>
            </p:grpSpPr>
            <p:sp>
              <p:nvSpPr>
                <p:cNvPr id="223" name=""/>
                <p:cNvSpPr/>
                <p:nvPr/>
              </p:nvSpPr>
              <p:spPr>
                <a:xfrm flipH="1">
                  <a:off x="7957080" y="528480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8249760" y="54277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58160" y="54288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"/>
          <p:cNvGrpSpPr/>
          <p:nvPr/>
        </p:nvGrpSpPr>
        <p:grpSpPr>
          <a:xfrm>
            <a:off x="6426000" y="4329000"/>
            <a:ext cx="2371320" cy="2375640"/>
            <a:chOff x="6426000" y="4329000"/>
            <a:chExt cx="2371320" cy="2375640"/>
          </a:xfrm>
        </p:grpSpPr>
        <p:grpSp>
          <p:nvGrpSpPr>
            <p:cNvPr id="227" name=""/>
            <p:cNvGrpSpPr/>
            <p:nvPr/>
          </p:nvGrpSpPr>
          <p:grpSpPr>
            <a:xfrm>
              <a:off x="7296840" y="4329000"/>
              <a:ext cx="1492560" cy="1928160"/>
              <a:chOff x="7296840" y="4329000"/>
              <a:chExt cx="1492560" cy="192816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7297200" y="52174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89880" y="53614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97200" y="53614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7297200" y="49179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589880" y="50616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98640" y="506376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7297200" y="4620240"/>
                <a:ext cx="586800" cy="590760"/>
                <a:chOff x="7297200" y="4620240"/>
                <a:chExt cx="586800" cy="59076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7297200" y="46202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7589880" y="476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98280" y="476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593840" y="5365080"/>
                <a:ext cx="58644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881120" y="55094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94560" y="55094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7594200" y="5067720"/>
                <a:ext cx="586440" cy="590400"/>
                <a:chOff x="7594200" y="5067720"/>
                <a:chExt cx="586440" cy="59040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7593840" y="5067720"/>
                  <a:ext cx="58644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7887600" y="521100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95640" y="521208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601760" y="4778280"/>
                <a:ext cx="586440" cy="588600"/>
                <a:chOff x="7601760" y="4778280"/>
                <a:chExt cx="586440" cy="588600"/>
              </a:xfrm>
            </p:grpSpPr>
            <p:sp>
              <p:nvSpPr>
                <p:cNvPr id="246" name=""/>
                <p:cNvSpPr/>
                <p:nvPr/>
              </p:nvSpPr>
              <p:spPr>
                <a:xfrm flipH="1">
                  <a:off x="7601400" y="47782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7889400" y="49201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603560" y="49219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899480" y="5520600"/>
                <a:ext cx="586800" cy="588600"/>
                <a:chOff x="7899480" y="5520600"/>
                <a:chExt cx="586800" cy="588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7899480" y="552060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8192160" y="5663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00560" y="5664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895160" y="5225400"/>
                <a:ext cx="586440" cy="588600"/>
                <a:chOff x="7895160" y="5225400"/>
                <a:chExt cx="586440" cy="58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894800" y="522540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8184600" y="53690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00920" y="5369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895160" y="4929840"/>
                <a:ext cx="586440" cy="582840"/>
                <a:chOff x="7895160" y="4929840"/>
                <a:chExt cx="586440" cy="58284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7894800" y="492984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8184600" y="50659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99480" y="5067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202240" y="5668560"/>
                <a:ext cx="586440" cy="588600"/>
                <a:chOff x="8202240" y="5668560"/>
                <a:chExt cx="586440" cy="58860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8201880" y="566856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8495640" y="58122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04040" y="58122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202600" y="5373000"/>
                <a:ext cx="586800" cy="588600"/>
                <a:chOff x="8202600" y="5373000"/>
                <a:chExt cx="586800" cy="588600"/>
              </a:xfrm>
            </p:grpSpPr>
            <p:sp>
              <p:nvSpPr>
                <p:cNvPr id="266" name=""/>
                <p:cNvSpPr/>
                <p:nvPr/>
              </p:nvSpPr>
              <p:spPr>
                <a:xfrm flipH="1">
                  <a:off x="8202600" y="53730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495280" y="55159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03680" y="5517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202600" y="5077440"/>
                <a:ext cx="586800" cy="588600"/>
                <a:chOff x="8202600" y="5077440"/>
                <a:chExt cx="586800" cy="588600"/>
              </a:xfrm>
            </p:grpSpPr>
            <p:sp>
              <p:nvSpPr>
                <p:cNvPr id="270" name=""/>
                <p:cNvSpPr/>
                <p:nvPr/>
              </p:nvSpPr>
              <p:spPr>
                <a:xfrm flipH="1">
                  <a:off x="8202600" y="5077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8495280" y="52203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203680" y="52214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296840" y="4329000"/>
                <a:ext cx="586440" cy="588600"/>
                <a:chOff x="7296840" y="4329000"/>
                <a:chExt cx="586440" cy="58860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7296480" y="43290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7582320" y="4472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97200" y="4472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600320" y="4476600"/>
                <a:ext cx="586800" cy="590760"/>
                <a:chOff x="7600320" y="4476600"/>
                <a:chExt cx="586800" cy="59076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7600320" y="44766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7893000" y="4619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01400" y="4621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899120" y="4626360"/>
                <a:ext cx="586440" cy="590040"/>
                <a:chOff x="7899120" y="4626360"/>
                <a:chExt cx="586440" cy="590040"/>
              </a:xfrm>
            </p:grpSpPr>
            <p:sp>
              <p:nvSpPr>
                <p:cNvPr id="282" name=""/>
                <p:cNvSpPr/>
                <p:nvPr/>
              </p:nvSpPr>
              <p:spPr>
                <a:xfrm flipH="1">
                  <a:off x="7898760" y="4626360"/>
                  <a:ext cx="58644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8182800" y="476964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00920" y="477180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202240" y="4781520"/>
                <a:ext cx="586440" cy="588960"/>
                <a:chOff x="8202240" y="4781520"/>
                <a:chExt cx="586440" cy="588960"/>
              </a:xfrm>
            </p:grpSpPr>
            <p:sp>
              <p:nvSpPr>
                <p:cNvPr id="286" name=""/>
                <p:cNvSpPr/>
                <p:nvPr/>
              </p:nvSpPr>
              <p:spPr>
                <a:xfrm flipH="1">
                  <a:off x="8201880" y="478152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8495640" y="4925160"/>
                  <a:ext cx="293040" cy="443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204040" y="4925160"/>
                  <a:ext cx="293040" cy="445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6426000" y="4764600"/>
              <a:ext cx="1492560" cy="1928160"/>
              <a:chOff x="6426000" y="4764600"/>
              <a:chExt cx="1492560" cy="192816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6426360" y="56530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719040" y="5797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26360" y="5797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426360" y="53535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719040" y="54972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27800" y="549936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426360" y="5055840"/>
                <a:ext cx="586800" cy="590760"/>
                <a:chOff x="6426360" y="5055840"/>
                <a:chExt cx="586800" cy="590760"/>
              </a:xfrm>
            </p:grpSpPr>
            <p:sp>
              <p:nvSpPr>
                <p:cNvPr id="297" name=""/>
                <p:cNvSpPr/>
                <p:nvPr/>
              </p:nvSpPr>
              <p:spPr>
                <a:xfrm flipH="1">
                  <a:off x="6426360" y="50558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6719040" y="5199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27440" y="5200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6723000" y="5800680"/>
                <a:ext cx="58644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010280" y="59450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23720" y="59450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723360" y="5503320"/>
                <a:ext cx="586440" cy="590400"/>
                <a:chOff x="6723360" y="5503320"/>
                <a:chExt cx="586440" cy="590400"/>
              </a:xfrm>
            </p:grpSpPr>
            <p:sp>
              <p:nvSpPr>
                <p:cNvPr id="304" name=""/>
                <p:cNvSpPr/>
                <p:nvPr/>
              </p:nvSpPr>
              <p:spPr>
                <a:xfrm flipH="1">
                  <a:off x="6723000" y="5503320"/>
                  <a:ext cx="58644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7016760" y="564660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24800" y="564768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730920" y="5213880"/>
                <a:ext cx="586440" cy="588600"/>
                <a:chOff x="6730920" y="5213880"/>
                <a:chExt cx="586440" cy="58860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6730560" y="52138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018560" y="5355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732720" y="5357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028640" y="5956200"/>
                <a:ext cx="586800" cy="588600"/>
                <a:chOff x="7028640" y="5956200"/>
                <a:chExt cx="586800" cy="5886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7028640" y="595620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7321320" y="60991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29720" y="6100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024320" y="5661000"/>
                <a:ext cx="586440" cy="588600"/>
                <a:chOff x="7024320" y="5661000"/>
                <a:chExt cx="586440" cy="58860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7023960" y="566100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7313760" y="58046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30080" y="5804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024320" y="5365440"/>
                <a:ext cx="586440" cy="582840"/>
                <a:chOff x="7024320" y="5365440"/>
                <a:chExt cx="586440" cy="58284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7023960" y="536544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7313760" y="5501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028640" y="55033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331400" y="6104160"/>
                <a:ext cx="586440" cy="588600"/>
                <a:chOff x="7331400" y="6104160"/>
                <a:chExt cx="586440" cy="588600"/>
              </a:xfrm>
            </p:grpSpPr>
            <p:sp>
              <p:nvSpPr>
                <p:cNvPr id="324" name=""/>
                <p:cNvSpPr/>
                <p:nvPr/>
              </p:nvSpPr>
              <p:spPr>
                <a:xfrm flipH="1">
                  <a:off x="7331040" y="610416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7624800" y="62478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33200" y="62478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331760" y="5808600"/>
                <a:ext cx="586800" cy="588600"/>
                <a:chOff x="7331760" y="5808600"/>
                <a:chExt cx="586800" cy="58860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331760" y="58086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7624440" y="5951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332840" y="5952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331760" y="5513040"/>
                <a:ext cx="586800" cy="588600"/>
                <a:chOff x="7331760" y="5513040"/>
                <a:chExt cx="586800" cy="588600"/>
              </a:xfrm>
            </p:grpSpPr>
            <p:sp>
              <p:nvSpPr>
                <p:cNvPr id="332" name=""/>
                <p:cNvSpPr/>
                <p:nvPr/>
              </p:nvSpPr>
              <p:spPr>
                <a:xfrm flipH="1">
                  <a:off x="7331760" y="55130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7624440" y="56559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2840" y="5657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426000" y="4764600"/>
                <a:ext cx="586440" cy="588600"/>
                <a:chOff x="6426000" y="4764600"/>
                <a:chExt cx="586440" cy="58860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425640" y="47646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711480" y="4908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26360" y="4908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729480" y="4912200"/>
                <a:ext cx="586800" cy="590760"/>
                <a:chOff x="6729480" y="4912200"/>
                <a:chExt cx="586800" cy="59076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6729480" y="49122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7022160" y="50554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730560" y="50569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028280" y="5061960"/>
                <a:ext cx="586440" cy="590040"/>
                <a:chOff x="7028280" y="5061960"/>
                <a:chExt cx="586440" cy="59004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7027920" y="5061960"/>
                  <a:ext cx="58644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7311960" y="520524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0080" y="520740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331760" y="5217120"/>
                <a:ext cx="586800" cy="588960"/>
                <a:chOff x="7331760" y="5217120"/>
                <a:chExt cx="586800" cy="58896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7331760" y="521712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7624440" y="5360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332840" y="53611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918920" y="5075640"/>
              <a:ext cx="878400" cy="1629000"/>
              <a:chOff x="7918920" y="5075640"/>
              <a:chExt cx="878400" cy="1629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8210520" y="5969880"/>
                <a:ext cx="586800" cy="588960"/>
                <a:chOff x="8210520" y="5969880"/>
                <a:chExt cx="586800" cy="588960"/>
              </a:xfrm>
            </p:grpSpPr>
            <p:sp>
              <p:nvSpPr>
                <p:cNvPr id="353" name=""/>
                <p:cNvSpPr/>
                <p:nvPr/>
              </p:nvSpPr>
              <p:spPr>
                <a:xfrm flipH="1">
                  <a:off x="8210520" y="5969880"/>
                  <a:ext cx="58680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8503200" y="61128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211600" y="61138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918920" y="6116040"/>
                <a:ext cx="586440" cy="588600"/>
                <a:chOff x="7918920" y="6116040"/>
                <a:chExt cx="586440" cy="5886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918560" y="611604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8212320" y="625968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920720" y="62596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8210520" y="5668560"/>
                <a:ext cx="586800" cy="588600"/>
                <a:chOff x="8210520" y="5668560"/>
                <a:chExt cx="586800" cy="58860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8210520" y="566856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8503200" y="5811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1960" y="58125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919280" y="5814720"/>
                <a:ext cx="586800" cy="588600"/>
                <a:chOff x="7919280" y="5814720"/>
                <a:chExt cx="586800" cy="588600"/>
              </a:xfrm>
            </p:grpSpPr>
            <p:sp>
              <p:nvSpPr>
                <p:cNvPr id="365" name=""/>
                <p:cNvSpPr/>
                <p:nvPr/>
              </p:nvSpPr>
              <p:spPr>
                <a:xfrm flipH="1">
                  <a:off x="7919280" y="581472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8211960" y="59576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920360" y="5958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8210520" y="5366880"/>
                <a:ext cx="586800" cy="590760"/>
                <a:chOff x="8210520" y="5366880"/>
                <a:chExt cx="586800" cy="59076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8210520" y="536688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8503200" y="55101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11600" y="55116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919280" y="5513040"/>
                <a:ext cx="586800" cy="590760"/>
                <a:chOff x="7919280" y="5513040"/>
                <a:chExt cx="586800" cy="59076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7919280" y="5513040"/>
                  <a:ext cx="586800" cy="29376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8211960" y="5656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20360" y="56577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8210520" y="5075640"/>
                <a:ext cx="586800" cy="588600"/>
                <a:chOff x="8210520" y="5075640"/>
                <a:chExt cx="586800" cy="58860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8210520" y="5075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8503200" y="5218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211960" y="52196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919280" y="5221440"/>
                <a:ext cx="586800" cy="588600"/>
                <a:chOff x="7919280" y="5221440"/>
                <a:chExt cx="586800" cy="5886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919280" y="5221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8211960" y="53643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20360" y="53654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4" name=""/>
          <p:cNvSpPr/>
          <p:nvPr/>
        </p:nvSpPr>
        <p:spPr>
          <a:xfrm>
            <a:off x="706320" y="646200"/>
            <a:ext cx="8437680" cy="22068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12760" y="133200"/>
            <a:ext cx="5816520" cy="5423040"/>
            <a:chOff x="212760" y="133200"/>
            <a:chExt cx="5816520" cy="5423040"/>
          </a:xfrm>
        </p:grpSpPr>
        <p:sp>
          <p:nvSpPr>
            <p:cNvPr id="386" name=""/>
            <p:cNvSpPr/>
            <p:nvPr/>
          </p:nvSpPr>
          <p:spPr>
            <a:xfrm>
              <a:off x="212760" y="133200"/>
              <a:ext cx="5816520" cy="5423040"/>
            </a:xfrm>
            <a:prstGeom prst="ellips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2760" y="132840"/>
              <a:ext cx="3063240" cy="2638800"/>
            </a:xfrm>
            <a:prstGeom prst="rtTriangl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856640" y="3031920"/>
            <a:ext cx="0" cy="2119320"/>
          </a:xfrm>
          <a:prstGeom prst="line">
            <a:avLst/>
          </a:prstGeom>
          <a:ln w="1908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392960" y="2455920"/>
            <a:ext cx="0" cy="2836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113600" y="3184200"/>
            <a:ext cx="0" cy="17492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45240" y="2847960"/>
            <a:ext cx="0" cy="1974960"/>
          </a:xfrm>
          <a:prstGeom prst="line">
            <a:avLst/>
          </a:prstGeom>
          <a:ln w="3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6480"/>
            <a:ext cx="5816520" cy="5422680"/>
            <a:chOff x="0" y="6480"/>
            <a:chExt cx="5816520" cy="5422680"/>
          </a:xfrm>
        </p:grpSpPr>
        <p:sp>
          <p:nvSpPr>
            <p:cNvPr id="394" name=""/>
            <p:cNvSpPr/>
            <p:nvPr/>
          </p:nvSpPr>
          <p:spPr>
            <a:xfrm>
              <a:off x="0" y="6480"/>
              <a:ext cx="5816520" cy="542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0" y="6120"/>
              <a:ext cx="3063240" cy="2638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95160" y="0"/>
            <a:ext cx="8448840" cy="75708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6320" y="558720"/>
            <a:ext cx="843768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600" y="0"/>
            <a:ext cx="1575000" cy="1574640"/>
          </a:xfrm>
          <a:prstGeom prst="ellipse">
            <a:avLst/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00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39680" y="158760"/>
            <a:ext cx="1581120" cy="1287000"/>
            <a:chOff x="139680" y="158760"/>
            <a:chExt cx="1581120" cy="1287000"/>
          </a:xfrm>
        </p:grpSpPr>
        <p:grpSp>
          <p:nvGrpSpPr>
            <p:cNvPr id="400" name=""/>
            <p:cNvGrpSpPr/>
            <p:nvPr/>
          </p:nvGrpSpPr>
          <p:grpSpPr>
            <a:xfrm>
              <a:off x="1293840" y="509760"/>
              <a:ext cx="426960" cy="426600"/>
              <a:chOff x="1293840" y="509760"/>
              <a:chExt cx="426960" cy="42660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1293840" y="509760"/>
                <a:ext cx="426960" cy="21276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506600" y="613800"/>
                <a:ext cx="213480" cy="321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94920" y="613800"/>
                <a:ext cx="213480" cy="3225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39680" y="158760"/>
              <a:ext cx="1285200" cy="1287000"/>
              <a:chOff x="139680" y="158760"/>
              <a:chExt cx="1285200" cy="12870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139680" y="555480"/>
                <a:ext cx="565920" cy="569160"/>
                <a:chOff x="139680" y="555480"/>
                <a:chExt cx="565920" cy="569160"/>
              </a:xfrm>
            </p:grpSpPr>
            <p:sp>
              <p:nvSpPr>
                <p:cNvPr id="406" name=""/>
                <p:cNvSpPr/>
                <p:nvPr/>
              </p:nvSpPr>
              <p:spPr>
                <a:xfrm flipH="1">
                  <a:off x="139680" y="555480"/>
                  <a:ext cx="565920" cy="2833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422640" y="693360"/>
                  <a:ext cx="282960" cy="429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40760" y="69480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01480" y="728280"/>
                <a:ext cx="564120" cy="565560"/>
                <a:chOff x="501480" y="728280"/>
                <a:chExt cx="564120" cy="565560"/>
              </a:xfrm>
            </p:grpSpPr>
            <p:sp>
              <p:nvSpPr>
                <p:cNvPr id="410" name=""/>
                <p:cNvSpPr/>
                <p:nvPr/>
              </p:nvSpPr>
              <p:spPr>
                <a:xfrm flipH="1">
                  <a:off x="501120" y="728280"/>
                  <a:ext cx="56412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783000" y="866160"/>
                  <a:ext cx="281880" cy="425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03280" y="866160"/>
                  <a:ext cx="28188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01840" y="442440"/>
                <a:ext cx="564480" cy="567360"/>
                <a:chOff x="501840" y="442440"/>
                <a:chExt cx="564480" cy="56736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501840" y="442440"/>
                  <a:ext cx="56448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784080" y="579960"/>
                  <a:ext cx="28224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02920" y="581400"/>
                  <a:ext cx="28224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01840" y="158760"/>
                <a:ext cx="564480" cy="565920"/>
                <a:chOff x="501840" y="158760"/>
                <a:chExt cx="564480" cy="56592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501840" y="158760"/>
                  <a:ext cx="56448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84080" y="295920"/>
                  <a:ext cx="28224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02920" y="297360"/>
                  <a:ext cx="28224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860760" y="879840"/>
                <a:ext cx="564120" cy="565920"/>
                <a:chOff x="860760" y="879840"/>
                <a:chExt cx="564120" cy="5659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>
                  <a:off x="860400" y="879840"/>
                  <a:ext cx="56412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1142280" y="101736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62200" y="101844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139680" y="158760"/>
            <a:ext cx="1581120" cy="1287360"/>
            <a:chOff x="139680" y="158760"/>
            <a:chExt cx="1581120" cy="1287360"/>
          </a:xfrm>
        </p:grpSpPr>
        <p:grpSp>
          <p:nvGrpSpPr>
            <p:cNvPr id="426" name="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1293840" y="509760"/>
                <a:ext cx="426960" cy="21276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507320" y="6145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95280" y="614520"/>
                <a:ext cx="212760" cy="3222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39680" y="158760"/>
              <a:ext cx="1285920" cy="1287360"/>
              <a:chOff x="139680" y="158760"/>
              <a:chExt cx="1285920" cy="12873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39680" y="555480"/>
                <a:ext cx="566640" cy="569880"/>
                <a:chOff x="139680" y="555480"/>
                <a:chExt cx="566640" cy="56988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139680" y="555480"/>
                  <a:ext cx="566640" cy="283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22280" y="69372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0760" y="694800"/>
                  <a:ext cx="283320" cy="4305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01120" y="728640"/>
                <a:ext cx="564840" cy="566280"/>
                <a:chOff x="501120" y="728640"/>
                <a:chExt cx="564840" cy="566280"/>
              </a:xfrm>
            </p:grpSpPr>
            <p:sp>
              <p:nvSpPr>
                <p:cNvPr id="436" name=""/>
                <p:cNvSpPr/>
                <p:nvPr/>
              </p:nvSpPr>
              <p:spPr>
                <a:xfrm flipH="1">
                  <a:off x="500760" y="728640"/>
                  <a:ext cx="56484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783720" y="866880"/>
                  <a:ext cx="282240" cy="426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02920" y="866880"/>
                  <a:ext cx="28224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01480" y="442800"/>
                <a:ext cx="565200" cy="568080"/>
                <a:chOff x="501480" y="442800"/>
                <a:chExt cx="565200" cy="568080"/>
              </a:xfrm>
            </p:grpSpPr>
            <p:sp>
              <p:nvSpPr>
                <p:cNvPr id="440" name=""/>
                <p:cNvSpPr/>
                <p:nvPr/>
              </p:nvSpPr>
              <p:spPr>
                <a:xfrm flipH="1">
                  <a:off x="501480" y="442800"/>
                  <a:ext cx="565200" cy="2826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783360" y="580680"/>
                  <a:ext cx="282600" cy="4287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560" y="581760"/>
                  <a:ext cx="282600" cy="429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01480" y="158760"/>
                <a:ext cx="565200" cy="566640"/>
                <a:chOff x="501480" y="158760"/>
                <a:chExt cx="565200" cy="566640"/>
              </a:xfrm>
            </p:grpSpPr>
            <p:sp>
              <p:nvSpPr>
                <p:cNvPr id="444" name=""/>
                <p:cNvSpPr/>
                <p:nvPr/>
              </p:nvSpPr>
              <p:spPr>
                <a:xfrm flipH="1">
                  <a:off x="501480" y="15876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783360" y="29700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02920" y="29844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860400" y="879480"/>
                <a:ext cx="565200" cy="566640"/>
                <a:chOff x="860400" y="879480"/>
                <a:chExt cx="565200" cy="56664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860400" y="87948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142280" y="101772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61840" y="1017720"/>
                  <a:ext cx="28260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3080" y="1904760"/>
            <a:ext cx="7935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00"/>
                </a:solidFill>
                <a:latin typeface="Verdana"/>
                <a:ea typeface="Gulim"/>
              </a:rPr>
              <a:t>绿色魔方企业</a:t>
            </a:r>
            <a:r>
              <a:rPr b="1" lang="zh-CN" sz="4000" spc="-1" strike="noStrike">
                <a:solidFill>
                  <a:srgbClr val="0046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4600"/>
                </a:solidFill>
                <a:latin typeface="Verdana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FF47-8556-4B40-8681-9E0E74977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2720" y="2533680"/>
            <a:ext cx="57020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600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97160" y="2030400"/>
            <a:ext cx="4651200" cy="623880"/>
            <a:chOff x="1397160" y="2030400"/>
            <a:chExt cx="4651200" cy="623880"/>
          </a:xfrm>
        </p:grpSpPr>
        <p:sp>
          <p:nvSpPr>
            <p:cNvPr id="497" name=""/>
            <p:cNvSpPr/>
            <p:nvPr/>
          </p:nvSpPr>
          <p:spPr>
            <a:xfrm>
              <a:off x="1397160" y="205596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97160" y="20304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9033200">
              <a:off x="1422720" y="212544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409760" y="2868480"/>
            <a:ext cx="4651200" cy="623880"/>
            <a:chOff x="1409760" y="2868480"/>
            <a:chExt cx="4651200" cy="623880"/>
          </a:xfrm>
        </p:grpSpPr>
        <p:sp>
          <p:nvSpPr>
            <p:cNvPr id="501" name=""/>
            <p:cNvSpPr/>
            <p:nvPr/>
          </p:nvSpPr>
          <p:spPr>
            <a:xfrm>
              <a:off x="1409760" y="28940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9760" y="28684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033200">
              <a:off x="1435320" y="29635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397160" y="3732120"/>
            <a:ext cx="4651200" cy="623880"/>
            <a:chOff x="1397160" y="3732120"/>
            <a:chExt cx="4651200" cy="623880"/>
          </a:xfrm>
        </p:grpSpPr>
        <p:sp>
          <p:nvSpPr>
            <p:cNvPr id="505" name=""/>
            <p:cNvSpPr/>
            <p:nvPr/>
          </p:nvSpPr>
          <p:spPr>
            <a:xfrm>
              <a:off x="1397160" y="375768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97160" y="3732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9033200">
              <a:off x="1422720" y="382716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09760" y="4570560"/>
            <a:ext cx="4651200" cy="623880"/>
            <a:chOff x="1409760" y="4570560"/>
            <a:chExt cx="4651200" cy="623880"/>
          </a:xfrm>
        </p:grpSpPr>
        <p:sp>
          <p:nvSpPr>
            <p:cNvPr id="509" name=""/>
            <p:cNvSpPr/>
            <p:nvPr/>
          </p:nvSpPr>
          <p:spPr>
            <a:xfrm>
              <a:off x="1409760" y="45961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09760" y="45705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033200">
              <a:off x="1435320" y="46656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841400" y="2136600"/>
            <a:ext cx="3633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54360" y="29624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66960" y="3825720"/>
            <a:ext cx="3887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9560" y="46641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520" name=""/>
            <p:cNvSpPr/>
            <p:nvPr/>
          </p:nvSpPr>
          <p:spPr>
            <a:xfrm>
              <a:off x="952560" y="148752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033200">
              <a:off x="977400" y="155700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526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86240" y="3745080"/>
            <a:ext cx="2135160" cy="2135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853240" y="3743280"/>
            <a:ext cx="2135160" cy="214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00160" y="3743280"/>
            <a:ext cx="214308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74880" y="2411280"/>
            <a:ext cx="5251320" cy="1306800"/>
          </a:xfrm>
          <a:prstGeom prst="upArrow">
            <a:avLst>
              <a:gd name="adj1" fmla="val 78056"/>
              <a:gd name="adj2" fmla="val 75333"/>
            </a:avLst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9920" y="1406520"/>
            <a:ext cx="6869160" cy="95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7759800" y="2658960"/>
            <a:ext cx="60156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746840" y="3776760"/>
            <a:ext cx="64008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85000" y="4894200"/>
            <a:ext cx="60192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721640" y="1541520"/>
            <a:ext cx="63972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66960" y="2658960"/>
            <a:ext cx="410076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79920" y="377676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92520" y="489420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54360" y="154152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849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849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184921"/>
              </a:gs>
              <a:gs pos="100000">
                <a:srgbClr val="36a0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7634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1230480" y="1276200"/>
          <a:ext cx="664812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276200"/>
                    <a:ext cx="664812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08000" y="1146240"/>
            <a:ext cx="7153200" cy="5229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1Z</dcterms:modified>
  <cp:revision>2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