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46C6-E7F8-414E-B901-D28701944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9640" y="390852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CEDE8-4B6D-44FB-A60F-EE2251946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2032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64267-4DD9-48EE-AC84-6560625DF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796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5628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964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9796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5628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1202-26F0-4ABF-8119-895C2FC88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135000"/>
            <a:ext cx="842472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CC4DF-372F-4E09-84D5-4D10A484D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2032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9640" y="390852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2032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9796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5628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964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9796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5628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442A8-5327-4C2D-AB8C-5C8B78D6A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5D0D-65F2-4033-9163-C712CB327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AFBEF-BBDA-4220-857D-A56CAF05A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24000" y="135000"/>
            <a:ext cx="842472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10C6D-D274-4A2F-9914-B23E4931A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CE67C-C75F-4F10-ADE5-60E366487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2032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904F-53B4-4A50-ADDA-410371283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226B-9950-41DF-B787-22150E4DA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26719" b="-795"/>
          <a:stretch/>
        </p:blipFill>
        <p:spPr>
          <a:xfrm>
            <a:off x="36360" y="4248000"/>
            <a:ext cx="9093240" cy="2637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4920" y="1440"/>
            <a:ext cx="9121680" cy="1587600"/>
          </a:xfrm>
          <a:custGeom>
            <a:avLst/>
            <a:gdLst/>
            <a:ahLst/>
            <a:rect l="l" t="t" r="r" b="b"/>
            <a:pathLst>
              <a:path w="5746" h="1000">
                <a:moveTo>
                  <a:pt x="0" y="597"/>
                </a:moveTo>
                <a:cubicBezTo>
                  <a:pt x="314" y="564"/>
                  <a:pt x="1218" y="424"/>
                  <a:pt x="1887" y="400"/>
                </a:cubicBezTo>
                <a:cubicBezTo>
                  <a:pt x="2556" y="376"/>
                  <a:pt x="3514" y="406"/>
                  <a:pt x="4233" y="518"/>
                </a:cubicBezTo>
                <a:cubicBezTo>
                  <a:pt x="4919" y="635"/>
                  <a:pt x="5665" y="919"/>
                  <a:pt x="5738" y="1000"/>
                </a:cubicBezTo>
                <a:lnTo>
                  <a:pt x="5746" y="0"/>
                </a:lnTo>
                <a:lnTo>
                  <a:pt x="1" y="7"/>
                </a:lnTo>
              </a:path>
            </a:pathLst>
          </a:custGeom>
          <a:gradFill rotWithShape="0">
            <a:gsLst>
              <a:gs pos="0">
                <a:srgbClr val="02432a"/>
              </a:gs>
              <a:gs pos="100000">
                <a:srgbClr val="0593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23640" y="6477120"/>
            <a:ext cx="718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f5d67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17F1-0167-478E-AE55-426A8096852B}" type="slidenum">
              <a:rPr b="1" lang="ko-KR" sz="1200" spc="-1" strike="noStrike">
                <a:solidFill>
                  <a:srgbClr val="0f5d67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5d6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26e5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26e5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8459640" y="1197000"/>
            <a:ext cx="358920" cy="358920"/>
          </a:xfrm>
          <a:prstGeom prst="ellipse">
            <a:avLst/>
          </a:prstGeom>
          <a:gradFill rotWithShape="0">
            <a:gsLst>
              <a:gs pos="0">
                <a:srgbClr val="05935d"/>
              </a:gs>
              <a:gs pos="100000">
                <a:srgbClr val="02432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956720" y="981000"/>
            <a:ext cx="358560" cy="358920"/>
          </a:xfrm>
          <a:prstGeom prst="ellipse">
            <a:avLst/>
          </a:prstGeom>
          <a:gradFill rotWithShape="0">
            <a:gsLst>
              <a:gs pos="0">
                <a:srgbClr val="05935d"/>
              </a:gs>
              <a:gs pos="100000">
                <a:srgbClr val="02432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426440" y="811080"/>
            <a:ext cx="358560" cy="358920"/>
          </a:xfrm>
          <a:prstGeom prst="ellipse">
            <a:avLst/>
          </a:prstGeom>
          <a:gradFill rotWithShape="0">
            <a:gsLst>
              <a:gs pos="0">
                <a:srgbClr val="05935d"/>
              </a:gs>
              <a:gs pos="100000">
                <a:srgbClr val="02432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0" y="-27000"/>
            <a:ext cx="9140760" cy="6886440"/>
            <a:chOff x="0" y="-27000"/>
            <a:chExt cx="9140760" cy="6886440"/>
          </a:xfrm>
        </p:grpSpPr>
        <p:sp>
          <p:nvSpPr>
            <p:cNvPr id="9" name=""/>
            <p:cNvSpPr/>
            <p:nvPr/>
          </p:nvSpPr>
          <p:spPr>
            <a:xfrm>
              <a:off x="0" y="6386400"/>
              <a:ext cx="412920" cy="471600"/>
            </a:xfrm>
            <a:custGeom>
              <a:avLst/>
              <a:gdLst/>
              <a:ahLst/>
              <a:rect l="l" t="t" r="r" b="b"/>
              <a:pathLst>
                <a:path w="260" h="297">
                  <a:moveTo>
                    <a:pt x="260" y="297"/>
                  </a:moveTo>
                  <a:lnTo>
                    <a:pt x="144" y="225"/>
                  </a:lnTo>
                  <a:lnTo>
                    <a:pt x="52" y="137"/>
                  </a:lnTo>
                  <a:lnTo>
                    <a:pt x="0" y="0"/>
                  </a:lnTo>
                  <a:lnTo>
                    <a:pt x="1" y="29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1400" y="42840"/>
              <a:ext cx="9063000" cy="67690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-27000"/>
              <a:ext cx="539640" cy="530280"/>
            </a:xfrm>
            <a:custGeom>
              <a:avLst/>
              <a:gdLst/>
              <a:ahLst/>
              <a:rect l="l" t="t" r="r" b="b"/>
              <a:pathLst>
                <a:path w="288" h="338">
                  <a:moveTo>
                    <a:pt x="1" y="338"/>
                  </a:moveTo>
                  <a:cubicBezTo>
                    <a:pt x="14" y="302"/>
                    <a:pt x="1" y="244"/>
                    <a:pt x="77" y="122"/>
                  </a:cubicBezTo>
                  <a:cubicBezTo>
                    <a:pt x="153" y="0"/>
                    <a:pt x="288" y="32"/>
                    <a:pt x="275" y="20"/>
                  </a:cubicBez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/>
              <a:ahLst/>
              <a:rect l="l" t="t" r="r" b="b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780400" y="6400800"/>
              <a:ext cx="360360" cy="458640"/>
            </a:xfrm>
            <a:custGeom>
              <a:avLst/>
              <a:gdLst/>
              <a:ahLst/>
              <a:rect l="l" t="t" r="r" b="b"/>
              <a:pathLst>
                <a:path w="227" h="289">
                  <a:moveTo>
                    <a:pt x="0" y="289"/>
                  </a:moveTo>
                  <a:lnTo>
                    <a:pt x="227" y="289"/>
                  </a:lnTo>
                  <a:lnTo>
                    <a:pt x="227" y="17"/>
                  </a:lnTo>
                  <a:cubicBezTo>
                    <a:pt x="211" y="0"/>
                    <a:pt x="210" y="117"/>
                    <a:pt x="129" y="188"/>
                  </a:cubicBezTo>
                  <a:cubicBezTo>
                    <a:pt x="48" y="259"/>
                    <a:pt x="28" y="270"/>
                    <a:pt x="0" y="2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1400" y="260280"/>
            <a:ext cx="9083520" cy="6264360"/>
          </a:xfrm>
          <a:prstGeom prst="rect">
            <a:avLst/>
          </a:prstGeom>
          <a:gradFill rotWithShape="0">
            <a:gsLst>
              <a:gs pos="0">
                <a:srgbClr val="062a2f"/>
              </a:gs>
              <a:gs pos="100000">
                <a:srgbClr val="0f5d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67280" y="2133720"/>
            <a:ext cx="4610160" cy="4724280"/>
          </a:xfrm>
          <a:prstGeom prst="ellipse">
            <a:avLst/>
          </a:prstGeom>
          <a:gradFill rotWithShape="0">
            <a:gsLst>
              <a:gs pos="0">
                <a:srgbClr val="0f5d67"/>
              </a:gs>
              <a:gs pos="100000">
                <a:srgbClr val="062a2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080" y="-934920"/>
            <a:ext cx="9059760" cy="5284800"/>
          </a:xfrm>
          <a:custGeom>
            <a:avLst/>
            <a:gdLst/>
            <a:ahLst/>
            <a:rect l="l" t="t" r="r" b="b"/>
            <a:pathLst>
              <a:path w="5707" h="3329">
                <a:moveTo>
                  <a:pt x="0" y="1248"/>
                </a:moveTo>
                <a:cubicBezTo>
                  <a:pt x="4541" y="0"/>
                  <a:pt x="5513" y="2381"/>
                  <a:pt x="5536" y="3329"/>
                </a:cubicBezTo>
                <a:lnTo>
                  <a:pt x="5699" y="3263"/>
                </a:lnTo>
                <a:lnTo>
                  <a:pt x="5707" y="600"/>
                </a:lnTo>
                <a:lnTo>
                  <a:pt x="0" y="600"/>
                </a:lnTo>
              </a:path>
            </a:pathLst>
          </a:custGeom>
          <a:gradFill rotWithShape="0">
            <a:gsLst>
              <a:gs pos="0">
                <a:srgbClr val="05935d"/>
              </a:gs>
              <a:gs pos="100000">
                <a:srgbClr val="03664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240" y="4221000"/>
            <a:ext cx="9075600" cy="2606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923920"/>
            <a:ext cx="7705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51640" y="476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LOGO</a:t>
            </a:r>
            <a:endParaRPr b="0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1152360"/>
            <a:ext cx="380880" cy="403560"/>
          </a:xfrm>
          <a:prstGeom prst="ellipse">
            <a:avLst/>
          </a:prstGeom>
          <a:gradFill rotWithShape="0">
            <a:gsLst>
              <a:gs pos="0">
                <a:srgbClr val="05935d"/>
              </a:gs>
              <a:gs pos="100000">
                <a:srgbClr val="02432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59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451640" y="1557360"/>
            <a:ext cx="381240" cy="403200"/>
          </a:xfrm>
          <a:prstGeom prst="ellipse">
            <a:avLst/>
          </a:prstGeom>
          <a:gradFill rotWithShape="0">
            <a:gsLst>
              <a:gs pos="0">
                <a:srgbClr val="05935d"/>
              </a:gs>
              <a:gs pos="100000">
                <a:srgbClr val="02432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59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85080" y="2060640"/>
            <a:ext cx="380880" cy="403200"/>
          </a:xfrm>
          <a:prstGeom prst="ellipse">
            <a:avLst/>
          </a:prstGeom>
          <a:gradFill rotWithShape="0">
            <a:gsLst>
              <a:gs pos="0">
                <a:srgbClr val="05935d"/>
              </a:gs>
              <a:gs pos="100000">
                <a:srgbClr val="02432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59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0" y="-27000"/>
            <a:ext cx="9140760" cy="6886440"/>
            <a:chOff x="0" y="-27000"/>
            <a:chExt cx="9140760" cy="6886440"/>
          </a:xfrm>
        </p:grpSpPr>
        <p:sp>
          <p:nvSpPr>
            <p:cNvPr id="60" name=""/>
            <p:cNvSpPr/>
            <p:nvPr/>
          </p:nvSpPr>
          <p:spPr>
            <a:xfrm>
              <a:off x="0" y="6386400"/>
              <a:ext cx="412920" cy="471600"/>
            </a:xfrm>
            <a:custGeom>
              <a:avLst/>
              <a:gdLst/>
              <a:ahLst/>
              <a:rect l="l" t="t" r="r" b="b"/>
              <a:pathLst>
                <a:path w="260" h="297">
                  <a:moveTo>
                    <a:pt x="260" y="297"/>
                  </a:moveTo>
                  <a:lnTo>
                    <a:pt x="144" y="225"/>
                  </a:lnTo>
                  <a:lnTo>
                    <a:pt x="52" y="137"/>
                  </a:lnTo>
                  <a:lnTo>
                    <a:pt x="0" y="0"/>
                  </a:lnTo>
                  <a:lnTo>
                    <a:pt x="1" y="29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400" y="42840"/>
              <a:ext cx="9063000" cy="67690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-27000"/>
              <a:ext cx="539640" cy="530280"/>
            </a:xfrm>
            <a:custGeom>
              <a:avLst/>
              <a:gdLst/>
              <a:ahLst/>
              <a:rect l="l" t="t" r="r" b="b"/>
              <a:pathLst>
                <a:path w="288" h="338">
                  <a:moveTo>
                    <a:pt x="1" y="338"/>
                  </a:moveTo>
                  <a:cubicBezTo>
                    <a:pt x="14" y="302"/>
                    <a:pt x="1" y="244"/>
                    <a:pt x="77" y="122"/>
                  </a:cubicBezTo>
                  <a:cubicBezTo>
                    <a:pt x="153" y="0"/>
                    <a:pt x="288" y="32"/>
                    <a:pt x="275" y="20"/>
                  </a:cubicBez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/>
              <a:ahLst/>
              <a:rect l="l" t="t" r="r" b="b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80400" y="6400800"/>
              <a:ext cx="360360" cy="458640"/>
            </a:xfrm>
            <a:custGeom>
              <a:avLst/>
              <a:gdLst/>
              <a:ahLst/>
              <a:rect l="l" t="t" r="r" b="b"/>
              <a:pathLst>
                <a:path w="227" h="289">
                  <a:moveTo>
                    <a:pt x="0" y="289"/>
                  </a:moveTo>
                  <a:lnTo>
                    <a:pt x="227" y="289"/>
                  </a:lnTo>
                  <a:lnTo>
                    <a:pt x="227" y="17"/>
                  </a:lnTo>
                  <a:cubicBezTo>
                    <a:pt x="211" y="0"/>
                    <a:pt x="210" y="117"/>
                    <a:pt x="129" y="188"/>
                  </a:cubicBezTo>
                  <a:cubicBezTo>
                    <a:pt x="48" y="259"/>
                    <a:pt x="28" y="270"/>
                    <a:pt x="0" y="2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835280" y="5661000"/>
            <a:ext cx="934920" cy="936720"/>
          </a:xfrm>
          <a:prstGeom prst="ellipse">
            <a:avLst/>
          </a:prstGeom>
          <a:gradFill rotWithShape="0">
            <a:gsLst>
              <a:gs pos="0">
                <a:srgbClr val="013924"/>
              </a:gs>
              <a:gs pos="100000">
                <a:srgbClr val="05935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5830920"/>
            <a:ext cx="505080" cy="503280"/>
          </a:xfrm>
          <a:prstGeom prst="ellipse">
            <a:avLst/>
          </a:prstGeom>
          <a:gradFill rotWithShape="0">
            <a:gsLst>
              <a:gs pos="0">
                <a:srgbClr val="2e3d00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d67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f5d67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26e5d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d67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f5d67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d67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f5d67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26e5d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d67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f5d67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d67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f5d67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d67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93360" y="3111120"/>
            <a:ext cx="7705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Gulim"/>
              </a:rPr>
              <a:t>PowerPoint Templat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6453360"/>
            <a:ext cx="5078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f5d67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f5d67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4000" y="3975120"/>
            <a:ext cx="7345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26520" y="1486080"/>
            <a:ext cx="35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5d67"/>
                </a:solidFill>
                <a:latin typeface="Times New Roman"/>
              </a:rPr>
              <a:t>绿色企业</a:t>
            </a:r>
            <a:r>
              <a:rPr b="0" lang="zh-CN" sz="4000" spc="-1" strike="noStrike">
                <a:solidFill>
                  <a:srgbClr val="0f5d67"/>
                </a:solidFill>
                <a:latin typeface="Times New Roman"/>
                <a:ea typeface="宋体"/>
              </a:rPr>
              <a:t>幻灯片免费下载</a:t>
            </a:r>
            <a:endParaRPr b="0" lang="en-US" sz="40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f5d6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DFC39-B091-4E79-A905-9D5841A7E7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676520" y="2666880"/>
            <a:ext cx="5715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9aab1"/>
                    </a:gs>
                    <a:gs pos="100000">
                      <a:srgbClr val="05935d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9aab1"/>
                  </a:gs>
                  <a:gs pos="100000">
                    <a:srgbClr val="05935d"/>
                  </a:gs>
                </a:gsLst>
                <a:lin ang="108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3733920"/>
            <a:ext cx="5410080" cy="304560"/>
          </a:xfrm>
          <a:prstGeom prst="rect">
            <a:avLst/>
          </a:prstGeom>
          <a:solidFill>
            <a:srgbClr val="0f5d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Your Company Slogan</a:t>
            </a:r>
            <a:endParaRPr b="0" lang="en-US" sz="14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47800" y="21765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432a"/>
              </a:gs>
              <a:gs pos="50000">
                <a:srgbClr val="05935d"/>
              </a:gs>
              <a:gs pos="100000">
                <a:srgbClr val="02432a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f5d67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. Introduction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62200" y="28893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04e51"/>
              </a:gs>
              <a:gs pos="50000">
                <a:srgbClr val="69aab1"/>
              </a:gs>
              <a:gs pos="100000">
                <a:srgbClr val="304e51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f5d67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. Strategy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7800" y="36687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f5d67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. Challenges Forward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47800" y="440208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322a"/>
              </a:gs>
              <a:gs pos="50000">
                <a:srgbClr val="326e5d"/>
              </a:gs>
              <a:gs pos="100000">
                <a:srgbClr val="17322a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f5d67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. Conclusion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5d6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d67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f5d67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f5d67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9aa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aab1"/>
                </a:solidFill>
                <a:latin typeface="Verdana"/>
                <a:ea typeface="Gulim"/>
              </a:rPr>
              <a:t>Strengths</a:t>
            </a:r>
            <a:r>
              <a:rPr b="1" lang="en-US" sz="2800" spc="-1" strike="noStrike">
                <a:solidFill>
                  <a:srgbClr val="0f5d67"/>
                </a:solidFill>
                <a:latin typeface="Verdana"/>
                <a:ea typeface="Gulim"/>
              </a:rPr>
              <a:t> 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d67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f5d67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f5d67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d6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f5d6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d67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f5d67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f5d67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77960" y="1900080"/>
          <a:ext cx="7524720" cy="355608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  <a:gridCol w="1505160"/>
                <a:gridCol w="150480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9aab1"/>
                        </a:gs>
                        <a:gs pos="100000">
                          <a:srgbClr val="304e51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1</a:t>
                      </a:r>
                      <a:endParaRPr b="0" lang="en-US" sz="20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9aab1"/>
                        </a:gs>
                        <a:gs pos="100000">
                          <a:srgbClr val="304e51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2</a:t>
                      </a:r>
                      <a:endParaRPr b="0" lang="en-US" sz="20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9aab1"/>
                        </a:gs>
                        <a:gs pos="100000">
                          <a:srgbClr val="304e51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3</a:t>
                      </a:r>
                      <a:endParaRPr b="0" lang="en-US" sz="20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9aab1"/>
                        </a:gs>
                        <a:gs pos="100000">
                          <a:srgbClr val="304e51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4</a:t>
                      </a:r>
                      <a:endParaRPr b="0" lang="en-US" sz="20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9aab1"/>
                        </a:gs>
                        <a:gs pos="100000">
                          <a:srgbClr val="304e51"/>
                        </a:gs>
                      </a:gsLst>
                      <a:lin ang="13500000"/>
                    </a:gradFill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5935d"/>
                        </a:gs>
                        <a:gs pos="100000">
                          <a:srgbClr val="76c3a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8e0b0"/>
                        </a:gs>
                        <a:gs pos="100000">
                          <a:srgbClr val="e0edd3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c6e273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26e5d"/>
                        </a:gs>
                        <a:gs pos="100000">
                          <a:srgbClr val="8eafa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rot="20239200">
            <a:off x="1218960" y="2209320"/>
            <a:ext cx="6519600" cy="3062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20240400">
            <a:off x="1358640" y="2418840"/>
            <a:ext cx="5925960" cy="268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97160" y="27432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8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13716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326e5d"/>
              </a:gs>
              <a:gs pos="100000">
                <a:srgbClr val="11251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02320" y="182880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69aab1"/>
              </a:gs>
              <a:gs pos="100000">
                <a:srgbClr val="243a3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46483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3f46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26160" y="41911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3648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06840" y="3276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5d67"/>
                </a:solidFill>
                <a:latin typeface="Arial"/>
                <a:ea typeface="Gulim"/>
              </a:rPr>
              <a:t>Add Title</a:t>
            </a:r>
            <a:endParaRPr b="0" lang="en-US" sz="32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2147400"/>
            <a:ext cx="198144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7322a"/>
              </a:gs>
              <a:gs pos="100000">
                <a:srgbClr val="326e5d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214740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5e4a"/>
              </a:gs>
              <a:gs pos="100000">
                <a:srgbClr val="c8e0b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214740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2895480"/>
            <a:ext cx="2819520" cy="26672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99cc00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69aab1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26e5d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3276720"/>
            <a:ext cx="1665000" cy="259056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605">
                <a:moveTo>
                  <a:pt x="2969" y="0"/>
                </a:moveTo>
                <a:arcTo wR="2969" hR="2969" stAng="16200000" swAng="-5400000"/>
                <a:lnTo>
                  <a:pt x="0" y="30636"/>
                </a:lnTo>
                <a:arcTo wR="2969" hR="2969" stAng="10800000" swAng="-5400000"/>
                <a:lnTo>
                  <a:pt x="18631" y="3360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0844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00600" y="1782360"/>
            <a:ext cx="6436800" cy="1387800"/>
            <a:chOff x="1200600" y="1782360"/>
            <a:chExt cx="6436800" cy="1387800"/>
          </a:xfrm>
        </p:grpSpPr>
        <p:sp>
          <p:nvSpPr>
            <p:cNvPr id="139" name=""/>
            <p:cNvSpPr/>
            <p:nvPr/>
          </p:nvSpPr>
          <p:spPr>
            <a:xfrm rot="3418800">
              <a:off x="1410840" y="2007360"/>
              <a:ext cx="924480" cy="1003680"/>
            </a:xfrm>
            <a:prstGeom prst="rect">
              <a:avLst/>
            </a:prstGeom>
            <a:solidFill>
              <a:srgbClr val="326e5d"/>
            </a:solidFill>
            <a:ln w="9360">
              <a:solidFill>
                <a:srgbClr val="0f5d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375280" y="2179080"/>
              <a:ext cx="932040" cy="131760"/>
              <a:chOff x="2375280" y="2179080"/>
              <a:chExt cx="932040" cy="131760"/>
            </a:xfrm>
          </p:grpSpPr>
          <p:sp>
            <p:nvSpPr>
              <p:cNvPr id="141" name=""/>
              <p:cNvSpPr/>
              <p:nvPr/>
            </p:nvSpPr>
            <p:spPr>
              <a:xfrm>
                <a:off x="237528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464560" y="21801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6620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24144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rot="3418800">
              <a:off x="3132000" y="1941480"/>
              <a:ext cx="924480" cy="1003680"/>
            </a:xfrm>
            <a:prstGeom prst="rect">
              <a:avLst/>
            </a:prstGeom>
            <a:solidFill>
              <a:srgbClr val="c8e0b0"/>
            </a:solidFill>
            <a:ln w="9360">
              <a:solidFill>
                <a:srgbClr val="0f5d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4096440" y="2179080"/>
              <a:ext cx="932040" cy="131760"/>
              <a:chOff x="4096440" y="2179080"/>
              <a:chExt cx="932040" cy="131760"/>
            </a:xfrm>
          </p:grpSpPr>
          <p:sp>
            <p:nvSpPr>
              <p:cNvPr id="147" name=""/>
              <p:cNvSpPr/>
              <p:nvPr/>
            </p:nvSpPr>
            <p:spPr>
              <a:xfrm>
                <a:off x="409644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185720" y="21801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88736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96260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 rot="3418800">
              <a:off x="4781160" y="1941480"/>
              <a:ext cx="924480" cy="1004040"/>
            </a:xfrm>
            <a:prstGeom prst="rect">
              <a:avLst/>
            </a:prstGeom>
            <a:solidFill>
              <a:srgbClr val="326e5d"/>
            </a:solidFill>
            <a:ln w="9360">
              <a:solidFill>
                <a:srgbClr val="0f5d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5817600" y="2179080"/>
              <a:ext cx="1218600" cy="131760"/>
              <a:chOff x="5817600" y="2179080"/>
              <a:chExt cx="1218600" cy="131760"/>
            </a:xfrm>
          </p:grpSpPr>
          <p:sp>
            <p:nvSpPr>
              <p:cNvPr id="153" name=""/>
              <p:cNvSpPr/>
              <p:nvPr/>
            </p:nvSpPr>
            <p:spPr>
              <a:xfrm>
                <a:off x="5817600" y="21790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934240" y="21801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851520" y="21812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950160" y="22222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 rot="3418800">
              <a:off x="6502320" y="1941480"/>
              <a:ext cx="924480" cy="1004040"/>
            </a:xfrm>
            <a:prstGeom prst="rect">
              <a:avLst/>
            </a:prstGeom>
            <a:solidFill>
              <a:srgbClr val="c8e0b0"/>
            </a:solidFill>
            <a:ln w="9360">
              <a:solidFill>
                <a:srgbClr val="0f5d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297080" y="22654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21906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f5d67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9aab1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f5d67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f5d67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hart Docu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65440" y="1247760"/>
            <a:ext cx="563868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419112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0601600">
            <a:off x="1636560" y="20775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0f5d67"/>
              </a:gs>
              <a:gs pos="50000">
                <a:srgbClr val="c3d6d9"/>
              </a:gs>
              <a:gs pos="100000">
                <a:srgbClr val="0f5d6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601600">
            <a:off x="1699920" y="192420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69aab1"/>
              </a:gs>
              <a:gs pos="100000">
                <a:srgbClr val="426b70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0601600">
            <a:off x="1557000" y="193356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0601600">
            <a:off x="1609560" y="1901520"/>
            <a:ext cx="569844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c8e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0602200">
            <a:off x="1586520" y="1932480"/>
            <a:ext cx="575352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601600">
            <a:off x="1630080" y="1921680"/>
            <a:ext cx="5682600" cy="283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rot="20602200">
            <a:off x="1613880" y="192060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601600">
            <a:off x="4681440" y="323676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20601600">
            <a:off x="4574880" y="298404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f5d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04160" y="1235160"/>
            <a:ext cx="6918480" cy="4356720"/>
            <a:chOff x="704160" y="1235160"/>
            <a:chExt cx="6918480" cy="4356720"/>
          </a:xfrm>
        </p:grpSpPr>
        <p:sp>
          <p:nvSpPr>
            <p:cNvPr id="177" name=""/>
            <p:cNvSpPr/>
            <p:nvPr/>
          </p:nvSpPr>
          <p:spPr>
            <a:xfrm rot="20712600">
              <a:off x="956880" y="2006640"/>
              <a:ext cx="6412680" cy="281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0712600">
              <a:off x="4360680" y="3204720"/>
              <a:ext cx="137736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96097"/>
                </a:gs>
              </a:gsLst>
              <a:lin ang="143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20712600">
              <a:off x="5736600" y="337284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 rot="20601600">
            <a:off x="6248160" y="3276360"/>
            <a:ext cx="1555560" cy="1092240"/>
          </a:xfrm>
          <a:custGeom>
            <a:avLst/>
            <a:gdLst/>
            <a:ahLst/>
            <a:rect l="l" t="t" r="r" b="b"/>
            <a:pathLst>
              <a:path w="556" h="486">
                <a:moveTo>
                  <a:pt x="0" y="342"/>
                </a:moveTo>
                <a:lnTo>
                  <a:pt x="552" y="0"/>
                </a:lnTo>
                <a:lnTo>
                  <a:pt x="556" y="138"/>
                </a:lnTo>
                <a:cubicBezTo>
                  <a:pt x="522" y="194"/>
                  <a:pt x="438" y="280"/>
                  <a:pt x="346" y="338"/>
                </a:cubicBezTo>
                <a:cubicBezTo>
                  <a:pt x="254" y="396"/>
                  <a:pt x="64" y="485"/>
                  <a:pt x="6" y="486"/>
                </a:cubicBezTo>
                <a:cubicBezTo>
                  <a:pt x="8" y="434"/>
                  <a:pt x="1" y="372"/>
                  <a:pt x="0" y="342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20539200">
            <a:off x="1498320" y="1823760"/>
            <a:ext cx="6316920" cy="3090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33" y="15040"/>
                </a:moveTo>
                <a:arcTo wR="10800" hR="10800" stAng="1386854" swAng="2493154"/>
                <a:lnTo>
                  <a:pt x="10800" y="10800"/>
                </a:lnTo>
                <a:close/>
              </a:path>
              <a:path fill="none" w="21600" h="21600">
                <a:moveTo>
                  <a:pt x="20733" y="15040"/>
                </a:moveTo>
                <a:arcTo wR="10800" hR="10800" stAng="1386854" swAng="2493154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0601600">
            <a:off x="4933440" y="3187440"/>
            <a:ext cx="1359000" cy="1593720"/>
          </a:xfrm>
          <a:custGeom>
            <a:avLst/>
            <a:gdLst/>
            <a:ahLst/>
            <a:rect l="l" t="t" r="r" b="b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ae8dd3"/>
              </a:gs>
              <a:gs pos="100000">
                <a:srgbClr val="5007a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0601600">
            <a:off x="3154320" y="263016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69aab1"/>
              </a:gs>
              <a:gs pos="50000">
                <a:srgbClr val="d9e9eb"/>
              </a:gs>
              <a:gs pos="100000">
                <a:srgbClr val="69aab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20601600">
            <a:off x="3254400" y="2882880"/>
            <a:ext cx="25876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272412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14800" y="188604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23432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15000" y="3333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394344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6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41720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5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08:29:34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05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