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5397-2E17-43EF-A5B7-CF8B29AA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F9F0-47D4-4E87-9FA1-5F491436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5317-D3A0-4D55-A04C-E5969013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73E0-2B91-47BD-8B26-A5B11443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E8D-95B2-4B3D-B5BC-5F682BB8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0A37-5CE3-4FA0-86F4-300C97B1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07D3-0712-441D-B80B-782FB180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2888-A0FF-4371-97ED-483674E0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52ED-4A2C-449A-BD9B-4DF5B97B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EFAD-2E3B-413F-B504-F250C98E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0A82-35EC-41D6-AF84-54627673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F01C-FA21-46D4-8854-68E1F4C2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1B2B-B860-46E1-BC7B-FF06ABEAF9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5"/>
          <p:cNvSpPr/>
          <p:nvPr/>
        </p:nvSpPr>
        <p:spPr>
          <a:xfrm>
            <a:off x="571680" y="4786200"/>
            <a:ext cx="8001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82560" y="393372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蓝色圣诞节节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4296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4980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4978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23547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711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2836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6408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42120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99796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24260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/>
          <p:cNvSpPr/>
          <p:nvPr/>
        </p:nvSpPr>
        <p:spPr>
          <a:xfrm>
            <a:off x="421200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4265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1711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0690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6640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2837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32119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31406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2120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26EC-6FF4-4D3A-9E88-C9BCB94D14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2783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44265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33548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54266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5783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pc</dc:creator>
  <dc:description>www.eeppt.com;</dc:description>
  <cp:keywords>www.eeppt.com</cp:keywords>
  <dc:language>en-US</dc:language>
  <cp:lastModifiedBy>Windows 用户</cp:lastModifiedBy>
  <dcterms:modified xsi:type="dcterms:W3CDTF">2015-09-18T13:24:47Z</dcterms:modified>
  <cp:revision>187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