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960-EED3-453D-A55B-41B5282E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476-EC2A-4714-BBF4-533C0340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CC7-E7FF-4192-A4C6-FE075708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F44-A813-4EFE-8DDE-E1880AF2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7BD-37E9-4D48-B8F7-C3833E9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9D5-1A17-45CD-AF9A-1FAD52C2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3BF-CB15-4463-8F4F-39D7D0F1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E18-F4CD-4444-8E03-D4FBBA68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9E6-A555-46D3-A3C6-C1D2790D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A1F-2AA9-4EC4-BDE8-577427B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FC7-789E-436F-B1C7-5816AA9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05E-EC64-4204-8B48-C49814F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5C1A-87F9-440D-ACD9-0E080B0BB9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5D9-205F-4DEB-BC03-149EA31C3A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2892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Calibri"/>
              </a:rPr>
              <a:t>蓝色圣诞节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d4b4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bd4b4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27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18A-4D46-4487-884A-38F7812733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11:14:00Z</dcterms:created>
  <dc:creator>pc</dc:creator>
  <dc:description>www.eeppt.com;</dc:description>
  <cp:keywords>www.eeppt.com</cp:keywords>
  <dc:language>en-US</dc:language>
  <cp:lastModifiedBy>for_yang@qq.com</cp:lastModifiedBy>
  <dcterms:modified xsi:type="dcterms:W3CDTF">2015-09-18T13:24:46Z</dcterms:modified>
  <cp:revision>1</cp:revision>
  <dc:subject>Christmas PowerPoint Template</dc:subject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