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4743-CA7D-47D1-A71B-922D9FB18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331A-C8F3-4B53-9211-E92745AA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90FF-5272-4DBD-87AC-E5F8811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3256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5544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0932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3256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5544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3F34-150E-46CA-B29C-A2937BEDC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7C305-7062-4C2C-A4D7-2642831C97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7A103-F19F-4ED1-BC7D-23D61AB5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5E169-B935-47A1-B146-523F227E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C4785-C1AA-4A24-8338-F2A1BD4A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1C756-F64E-472A-888F-134C92DC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925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224C8-6962-4D4C-93E5-9C5E9BBD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C4E15-3403-474D-939F-E35D2B4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A499-33E5-417F-81F9-03DB753C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4A090-1A07-4985-8419-735F003B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1B0FB-ECF2-4EA3-854D-80AAE70C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BC251-9FED-421B-82FB-FA3804AA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059B0-7FC4-4430-AB34-625D2A6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3256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5544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0932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3256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5544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D455-43D7-47D1-A52C-5BC9757C7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FB91-8768-4EE8-BA87-C676D044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2406-C605-463D-BB6D-F09BBA55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E462-0CC1-441D-B781-E27DEBBC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925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A034-1175-4BCB-A6A9-66B5408B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FFE2-FFAB-4F89-99B8-C8DFF279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3CCE-5605-4358-BD70-FCCBDC15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52A9-FD16-42CC-80A0-C5C209EE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solidFill>
            <a:srgbClr val="dddddd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89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b4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89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89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B1E6-D767-463B-AE48-5001A201CC3A}" type="slidenum">
              <a:rPr b="0" lang="en-US" sz="1000" spc="-1" strike="noStrike">
                <a:solidFill>
                  <a:srgbClr val="0f38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432080" cy="6862680"/>
            <a:chOff x="0" y="0"/>
            <a:chExt cx="1432080" cy="6862680"/>
          </a:xfrm>
        </p:grpSpPr>
        <p:sp>
          <p:nvSpPr>
            <p:cNvPr id="6" name=""/>
            <p:cNvSpPr/>
            <p:nvPr/>
          </p:nvSpPr>
          <p:spPr>
            <a:xfrm>
              <a:off x="0" y="1440000"/>
              <a:ext cx="1411200" cy="5422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11160"/>
              <a:ext cx="1415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1432080" cy="228600"/>
            </a:xfrm>
            <a:prstGeom prst="rect">
              <a:avLst/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057400" y="5364000"/>
            <a:ext cx="5054760" cy="698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89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38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89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A397-A559-48D7-A169-0C24E5543499}" type="slidenum">
              <a:rPr b="0" lang="en-US" sz="1200" spc="-1" strike="noStrike">
                <a:solidFill>
                  <a:srgbClr val="0f38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28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89d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89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f389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389d"/>
                </a:solidFill>
                <a:latin typeface="Arial"/>
              </a:rPr>
              <a:t>蓝色医疗</a:t>
            </a:r>
            <a:r>
              <a:rPr b="0" lang="zh-CN" sz="4000" spc="-1" strike="noStrike">
                <a:solidFill>
                  <a:srgbClr val="0f389d"/>
                </a:solidFill>
                <a:latin typeface="Arial"/>
                <a:ea typeface="宋体"/>
              </a:rPr>
              <a:t>听诊器</a:t>
            </a:r>
            <a:r>
              <a:rPr b="0" lang="zh-CN" sz="4000" spc="-1" strike="noStrike">
                <a:solidFill>
                  <a:srgbClr val="0f389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f389d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f389d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f389d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254" name=""/>
            <p:cNvSpPr/>
            <p:nvPr/>
          </p:nvSpPr>
          <p:spPr>
            <a:xfrm>
              <a:off x="358632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4b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0092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22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08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22c8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308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22c8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6116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4174a"/>
                </a:gs>
                <a:gs pos="50000">
                  <a:srgbClr val="622c8a"/>
                </a:gs>
                <a:gs pos="100000">
                  <a:srgbClr val="3417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622c8a">
                    <a:alpha val="0"/>
                  </a:srgbClr>
                </a:gs>
                <a:gs pos="100000">
                  <a:srgbClr val="3e1b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332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ac85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ac85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b6b2e"/>
                </a:gs>
                <a:gs pos="50000">
                  <a:srgbClr val="aac856"/>
                </a:gs>
                <a:gs pos="100000">
                  <a:srgbClr val="5b6b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3196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aac856">
                    <a:alpha val="0"/>
                  </a:srgbClr>
                </a:gs>
                <a:gs pos="100000">
                  <a:srgbClr val="6b7e3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267" name="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6048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41162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4b4d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162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2e5265"/>
                </a:gs>
                <a:gs pos="100000">
                  <a:srgbClr val="64b4d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4656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56176"/>
                </a:gs>
                <a:gs pos="50000">
                  <a:srgbClr val="64b4dc"/>
                </a:gs>
                <a:gs pos="100000">
                  <a:srgbClr val="3561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4800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64b4dc">
                    <a:alpha val="0"/>
                  </a:srgbClr>
                </a:gs>
                <a:gs pos="100000">
                  <a:srgbClr val="3f71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3224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7688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282" name="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0084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13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52480" y="1695600"/>
            <a:ext cx="6934320" cy="4399920"/>
            <a:chOff x="1752480" y="1695600"/>
            <a:chExt cx="6934320" cy="4399920"/>
          </a:xfrm>
        </p:grpSpPr>
        <p:sp>
          <p:nvSpPr>
            <p:cNvPr id="297" name=""/>
            <p:cNvSpPr/>
            <p:nvPr/>
          </p:nvSpPr>
          <p:spPr>
            <a:xfrm>
              <a:off x="1752480" y="2057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622c8a"/>
                </a:gs>
                <a:gs pos="100000">
                  <a:srgbClr val="64b4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560" y="35812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76400">
              <a:off x="38494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1440" y="39049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1960" y="3914640"/>
              <a:ext cx="166536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9240" y="3930480"/>
              <a:ext cx="1584360" cy="15552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11400" y="39747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9904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6600">
              <a:off x="2006640" y="4514400"/>
              <a:ext cx="113328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930320" y="3524040"/>
              <a:ext cx="1371240" cy="1440720"/>
              <a:chOff x="1930320" y="3524040"/>
              <a:chExt cx="1371240" cy="1440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9303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48320" y="3532320"/>
                <a:ext cx="133704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61280" y="3545640"/>
                <a:ext cx="1271880" cy="1314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32920" y="358236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1076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82880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4760" y="2152440"/>
              <a:ext cx="1024200" cy="10234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17720" y="2157120"/>
              <a:ext cx="1000080" cy="999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28520" y="2168280"/>
              <a:ext cx="951120" cy="933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2520" y="2193840"/>
              <a:ext cx="847800" cy="756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0204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9564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17680" y="1695600"/>
              <a:ext cx="682560" cy="682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27400" y="1698480"/>
              <a:ext cx="66492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33520" y="1704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0240" y="172368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88240" y="19191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13372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53040" y="1981080"/>
            <a:ext cx="7282440" cy="3770280"/>
            <a:chOff x="1553040" y="1981080"/>
            <a:chExt cx="7282440" cy="3770280"/>
          </a:xfrm>
        </p:grpSpPr>
        <p:sp>
          <p:nvSpPr>
            <p:cNvPr id="327" name=""/>
            <p:cNvSpPr/>
            <p:nvPr/>
          </p:nvSpPr>
          <p:spPr>
            <a:xfrm rot="17973000">
              <a:off x="5361840" y="2686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3465600">
              <a:off x="5412240" y="4796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4368800">
              <a:off x="4193280" y="2708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7534800">
              <a:off x="4155120" y="47631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94360" y="3763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3584160" y="37569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05160" y="20066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5652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6744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092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56520" y="53337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5304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91120" y="5271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62240" y="378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664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8176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00680" y="53337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81760" y="5333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96160" y="3771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5200" y="3036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22c8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0160" y="304164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22c8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56080" y="31464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4174a"/>
                </a:gs>
                <a:gs pos="50000">
                  <a:srgbClr val="622c8a"/>
                </a:gs>
                <a:gs pos="100000">
                  <a:srgbClr val="3417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68680" y="31240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22c8a">
                    <a:alpha val="0"/>
                  </a:srgbClr>
                </a:gs>
                <a:gs pos="100000">
                  <a:srgbClr val="3e1b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0600" y="32209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551480" y="3240000"/>
              <a:ext cx="1290600" cy="1278000"/>
              <a:chOff x="4551480" y="3240000"/>
              <a:chExt cx="1290600" cy="127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551480" y="32400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68040" y="32468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81360" y="32594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51200" y="32918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81464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828800" y="2320920"/>
            <a:ext cx="2163600" cy="3165480"/>
            <a:chOff x="1828800" y="2320920"/>
            <a:chExt cx="2163600" cy="3165480"/>
          </a:xfrm>
        </p:grpSpPr>
        <p:sp>
          <p:nvSpPr>
            <p:cNvPr id="360" name=""/>
            <p:cNvSpPr/>
            <p:nvPr/>
          </p:nvSpPr>
          <p:spPr>
            <a:xfrm>
              <a:off x="1828800" y="26287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62280" y="26370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9560" y="47005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79560" y="26589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573280" y="2320920"/>
              <a:ext cx="642960" cy="642960"/>
              <a:chOff x="2573280" y="2320920"/>
              <a:chExt cx="642960" cy="642960"/>
            </a:xfrm>
          </p:grpSpPr>
          <p:sp>
            <p:nvSpPr>
              <p:cNvPr id="365" name=""/>
              <p:cNvSpPr/>
              <p:nvPr/>
            </p:nvSpPr>
            <p:spPr>
              <a:xfrm>
                <a:off x="2573280" y="23209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79760" y="23256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87680" y="23295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94160" y="23353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28000" y="23508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713320" y="24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05120" y="30830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59560" y="2317680"/>
            <a:ext cx="2163600" cy="3165480"/>
            <a:chOff x="6559560" y="2317680"/>
            <a:chExt cx="2163600" cy="3165480"/>
          </a:xfrm>
        </p:grpSpPr>
        <p:sp>
          <p:nvSpPr>
            <p:cNvPr id="373" name=""/>
            <p:cNvSpPr/>
            <p:nvPr/>
          </p:nvSpPr>
          <p:spPr>
            <a:xfrm>
              <a:off x="6559560" y="26254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93040" y="263376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10320" y="46972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10320" y="26557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304040" y="2317680"/>
              <a:ext cx="642960" cy="642960"/>
              <a:chOff x="7304040" y="2317680"/>
              <a:chExt cx="642960" cy="642960"/>
            </a:xfrm>
          </p:grpSpPr>
          <p:sp>
            <p:nvSpPr>
              <p:cNvPr id="378" name=""/>
              <p:cNvSpPr/>
              <p:nvPr/>
            </p:nvSpPr>
            <p:spPr>
              <a:xfrm>
                <a:off x="7304040" y="231768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10520" y="232236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18440" y="23263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24920" y="233208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58760" y="234756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444080" y="2409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35880" y="3079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191120" y="2320920"/>
            <a:ext cx="2163600" cy="3165480"/>
            <a:chOff x="4191120" y="2320920"/>
            <a:chExt cx="2163600" cy="3165480"/>
          </a:xfrm>
        </p:grpSpPr>
        <p:sp>
          <p:nvSpPr>
            <p:cNvPr id="386" name=""/>
            <p:cNvSpPr/>
            <p:nvPr/>
          </p:nvSpPr>
          <p:spPr>
            <a:xfrm>
              <a:off x="4191120" y="26287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24600" y="26370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41880" y="47005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41880" y="26589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35600" y="23209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42080" y="23256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50000" y="23288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56120" y="23353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91400" y="23511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5640" y="24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67440" y="30830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74320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1828800"/>
            <a:ext cx="9144000" cy="3960360"/>
            <a:chOff x="0" y="1828800"/>
            <a:chExt cx="9144000" cy="3960360"/>
          </a:xfrm>
        </p:grpSpPr>
        <p:grpSp>
          <p:nvGrpSpPr>
            <p:cNvPr id="400" name=""/>
            <p:cNvGrpSpPr/>
            <p:nvPr/>
          </p:nvGrpSpPr>
          <p:grpSpPr>
            <a:xfrm>
              <a:off x="0" y="3009960"/>
              <a:ext cx="9144000" cy="122040"/>
              <a:chOff x="0" y="3009960"/>
              <a:chExt cx="9144000" cy="1220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30099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30567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1227240" y="2457360"/>
              <a:ext cx="1931760" cy="3265200"/>
              <a:chOff x="1227240" y="2457360"/>
              <a:chExt cx="1931760" cy="326520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632960" y="3297960"/>
                <a:ext cx="1526040" cy="2424600"/>
                <a:chOff x="1632960" y="3297960"/>
                <a:chExt cx="1526040" cy="24246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632960" y="3455640"/>
                  <a:ext cx="1420200" cy="2266920"/>
                  <a:chOff x="1632960" y="3455640"/>
                  <a:chExt cx="1420200" cy="22669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3876600">
                    <a:off x="1205280" y="43426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3876600">
                    <a:off x="2572560" y="52218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2069280" y="3297960"/>
                  <a:ext cx="1089720" cy="1739520"/>
                  <a:chOff x="2069280" y="3297960"/>
                  <a:chExt cx="1089720" cy="17395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1740600" y="39787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 rot="3876600">
                    <a:off x="2774520" y="46609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227240" y="2457360"/>
                <a:ext cx="1270440" cy="1309320"/>
                <a:chOff x="1227240" y="2457360"/>
                <a:chExt cx="1270440" cy="13093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2272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2272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311120" y="25423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311120" y="25452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365840" y="26002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1380960" y="2615760"/>
                  <a:ext cx="962280" cy="992880"/>
                  <a:chOff x="1380960" y="2615760"/>
                  <a:chExt cx="962280" cy="9928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380960" y="26157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393200" y="26211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402920" y="26305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455480" y="26560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rot="3925800">
                <a:off x="1594080" y="4274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925800">
                <a:off x="2055600" y="3995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975040" y="2457360"/>
              <a:ext cx="1931040" cy="3265200"/>
              <a:chOff x="2975040" y="2457360"/>
              <a:chExt cx="1931040" cy="3265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3379680" y="3297960"/>
                <a:ext cx="1526400" cy="2424600"/>
                <a:chOff x="3379680" y="3297960"/>
                <a:chExt cx="1526400" cy="24246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3379680" y="3455640"/>
                  <a:ext cx="1420200" cy="2266920"/>
                  <a:chOff x="3379680" y="3455640"/>
                  <a:chExt cx="1420200" cy="226692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876600">
                    <a:off x="2952000" y="43426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876600">
                    <a:off x="4319280" y="52214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3816000" y="3297960"/>
                  <a:ext cx="1090080" cy="1739520"/>
                  <a:chOff x="3816000" y="3297960"/>
                  <a:chExt cx="1090080" cy="17395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3487680" y="39787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 rot="3876600">
                    <a:off x="4521600" y="46598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2975040" y="2457360"/>
                <a:ext cx="1270440" cy="1309320"/>
                <a:chOff x="2975040" y="2457360"/>
                <a:chExt cx="1270440" cy="13093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9750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9750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058920" y="25423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058920" y="25452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13640" y="26002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3128760" y="2615760"/>
                  <a:ext cx="962280" cy="992880"/>
                  <a:chOff x="3128760" y="2615760"/>
                  <a:chExt cx="962280" cy="9928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128760" y="26157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141000" y="26211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150720" y="26305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203280" y="26560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 rot="3925800">
                <a:off x="3335400" y="4274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3925800">
                <a:off x="3797640" y="3995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778280" y="2457360"/>
              <a:ext cx="1931760" cy="3265200"/>
              <a:chOff x="4778280" y="2457360"/>
              <a:chExt cx="1931760" cy="32652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184000" y="3297960"/>
                <a:ext cx="1526040" cy="2424600"/>
                <a:chOff x="5184000" y="3297960"/>
                <a:chExt cx="1526040" cy="242460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5184000" y="3455640"/>
                  <a:ext cx="1420200" cy="2266920"/>
                  <a:chOff x="5184000" y="3455640"/>
                  <a:chExt cx="1420200" cy="226692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3876600">
                    <a:off x="4756320" y="43426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3876600">
                    <a:off x="6123600" y="52218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5620320" y="3297960"/>
                  <a:ext cx="1089720" cy="1739520"/>
                  <a:chOff x="5620320" y="3297960"/>
                  <a:chExt cx="1089720" cy="173952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5291640" y="39787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 rot="3876600">
                    <a:off x="6325560" y="46609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4778280" y="2457360"/>
                <a:ext cx="1272240" cy="1309320"/>
                <a:chOff x="4778280" y="2457360"/>
                <a:chExt cx="1272240" cy="13093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778280" y="24573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778280" y="24573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862520" y="25423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862520" y="25452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917240" y="26002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932360" y="2615760"/>
                  <a:ext cx="963720" cy="992880"/>
                  <a:chOff x="4932360" y="2615760"/>
                  <a:chExt cx="963720" cy="9928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932360" y="26157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944600" y="26211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954680" y="26305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006880" y="26560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 rot="3925800">
                <a:off x="5148360" y="4274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3925800">
                <a:off x="5610240" y="3995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54880" y="2313000"/>
              <a:ext cx="2122200" cy="3476160"/>
              <a:chOff x="6554880" y="2313000"/>
              <a:chExt cx="2122200" cy="347616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151040" y="3364560"/>
                <a:ext cx="1526040" cy="2424600"/>
                <a:chOff x="7151040" y="3364560"/>
                <a:chExt cx="1526040" cy="242460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7151040" y="3522240"/>
                  <a:ext cx="1420200" cy="2266920"/>
                  <a:chOff x="7151040" y="3522240"/>
                  <a:chExt cx="1420200" cy="22669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rot="3876600">
                    <a:off x="6723360" y="4409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3876600">
                    <a:off x="8090640" y="5288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7587360" y="3364560"/>
                  <a:ext cx="1089720" cy="1739520"/>
                  <a:chOff x="7587360" y="3364560"/>
                  <a:chExt cx="1089720" cy="17395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flipV="1" rot="3876600">
                    <a:off x="7258680" y="4045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 rot="3876600">
                    <a:off x="8292600" y="4727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"/>
              <p:cNvSpPr/>
              <p:nvPr/>
            </p:nvSpPr>
            <p:spPr>
              <a:xfrm>
                <a:off x="6554880" y="23130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4880" y="23130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656400" y="24163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658200" y="24192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21560" y="24843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740640" y="2503440"/>
                <a:ext cx="1157400" cy="1190160"/>
                <a:chOff x="6740640" y="2503440"/>
                <a:chExt cx="1157400" cy="1190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740640" y="25034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755400" y="25099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767280" y="25214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830280" y="25516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 rot="3925800">
                <a:off x="7101000" y="441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3925800">
                <a:off x="7561440" y="4138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1566720" y="1828800"/>
              <a:ext cx="6056640" cy="407880"/>
              <a:chOff x="1566720" y="1828800"/>
              <a:chExt cx="6056640" cy="407880"/>
            </a:xfrm>
          </p:grpSpPr>
          <p:sp>
            <p:nvSpPr>
              <p:cNvPr id="487" name=""/>
              <p:cNvSpPr/>
              <p:nvPr/>
            </p:nvSpPr>
            <p:spPr>
              <a:xfrm>
                <a:off x="156672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210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670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85728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cxnSp>
            <p:nvCxnSpPr>
              <p:cNvPr id="491" name=""/>
              <p:cNvCxnSpPr>
                <a:stCxn id="487" idx="3"/>
                <a:endCxn id="488" idx="1"/>
              </p:cNvCxnSpPr>
              <p:nvPr/>
            </p:nvCxnSpPr>
            <p:spPr>
              <a:xfrm>
                <a:off x="230292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"/>
              <p:cNvCxnSpPr>
                <a:stCxn id="488" idx="3"/>
                <a:endCxn id="489" idx="1"/>
              </p:cNvCxnSpPr>
              <p:nvPr/>
            </p:nvCxnSpPr>
            <p:spPr>
              <a:xfrm>
                <a:off x="405756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"/>
              <p:cNvCxnSpPr/>
              <p:nvPr/>
            </p:nvCxnSpPr>
            <p:spPr>
              <a:xfrm>
                <a:off x="580392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4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523880" y="2133720"/>
            <a:ext cx="6858000" cy="3428640"/>
            <a:chOff x="1523880" y="2133720"/>
            <a:chExt cx="6858000" cy="3428640"/>
          </a:xfrm>
        </p:grpSpPr>
        <p:sp>
          <p:nvSpPr>
            <p:cNvPr id="497" name=""/>
            <p:cNvSpPr/>
            <p:nvPr/>
          </p:nvSpPr>
          <p:spPr>
            <a:xfrm>
              <a:off x="581868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f807d"/>
                </a:gs>
                <a:gs pos="100000">
                  <a:srgbClr val="ea4a4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7128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06bac"/>
                </a:gs>
                <a:gs pos="100000">
                  <a:srgbClr val="622c8a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2388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2c9e5"/>
                </a:gs>
                <a:gs pos="100000">
                  <a:srgbClr val="64b4d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c9e5"/>
                </a:gs>
                <a:gs pos="100000">
                  <a:srgbClr val="64b4d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6bac"/>
                </a:gs>
                <a:gs pos="100000">
                  <a:srgbClr val="622c8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07d"/>
                </a:gs>
                <a:gs pos="100000">
                  <a:srgbClr val="ea4a4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510" name="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22c8a"/>
                </a:gs>
                <a:gs pos="100000">
                  <a:srgbClr val="2d143f"/>
                </a:gs>
              </a:gsLst>
              <a:lin ang="1980000"/>
            </a:gra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868120" y="2244600"/>
              <a:ext cx="901080" cy="124200"/>
              <a:chOff x="2868120" y="2244600"/>
              <a:chExt cx="901080" cy="124200"/>
            </a:xfrm>
          </p:grpSpPr>
          <p:sp>
            <p:nvSpPr>
              <p:cNvPr id="512" name="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54520" y="224532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327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0548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64b4dc"/>
            </a:soli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4532760" y="2244600"/>
              <a:ext cx="901080" cy="124200"/>
              <a:chOff x="4532760" y="2244600"/>
              <a:chExt cx="901080" cy="12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19160" y="224532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9740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7012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520488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22c8a"/>
                </a:gs>
                <a:gs pos="100000">
                  <a:srgbClr val="2d143f"/>
                </a:gs>
              </a:gsLst>
              <a:lin ang="1980000"/>
            </a:gra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440" y="224532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9712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9252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64b4dc"/>
            </a:soli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523880" y="2057400"/>
          <a:ext cx="7238880" cy="3581280"/>
        </p:xfrm>
        <a:graphic>
          <a:graphicData uri="http://schemas.openxmlformats.org/drawingml/2006/table">
            <a:tbl>
              <a:tblPr/>
              <a:tblGrid>
                <a:gridCol w="1446120"/>
                <a:gridCol w="1158840"/>
                <a:gridCol w="1157400"/>
                <a:gridCol w="1157400"/>
                <a:gridCol w="1160280"/>
                <a:gridCol w="115884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f389d"/>
                      </a:solidFill>
                    </a:lnR>
                    <a:lnT>
                      <a:noFill/>
                    </a:lnT>
                    <a:lnB w="5760">
                      <a:solidFill>
                        <a:srgbClr val="0f38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56440" y="1212480"/>
            <a:ext cx="7431480" cy="4917960"/>
            <a:chOff x="856440" y="1212480"/>
            <a:chExt cx="7431480" cy="4917960"/>
          </a:xfrm>
        </p:grpSpPr>
        <p:sp>
          <p:nvSpPr>
            <p:cNvPr id="543" name=""/>
            <p:cNvSpPr/>
            <p:nvPr/>
          </p:nvSpPr>
          <p:spPr>
            <a:xfrm>
              <a:off x="2514600" y="4465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0d0d0">
                    <a:alpha val="38039"/>
                  </a:srgbClr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788840" y="23522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844280" y="21906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709640" y="220860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761840" y="217584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0602200">
              <a:off x="1765080" y="21895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766880" y="218808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75068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4833720" y="35114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4727160" y="32587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f38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856440" y="1509840"/>
              <a:ext cx="6918480" cy="4356720"/>
              <a:chOff x="856440" y="1509840"/>
              <a:chExt cx="6918480" cy="4356720"/>
            </a:xfrm>
          </p:grpSpPr>
          <p:sp>
            <p:nvSpPr>
              <p:cNvPr id="554" name=""/>
              <p:cNvSpPr/>
              <p:nvPr/>
            </p:nvSpPr>
            <p:spPr>
              <a:xfrm rot="20712600">
                <a:off x="1109160" y="228132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712600">
                <a:off x="4512960" y="34794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712600">
                <a:off x="5888880" y="36475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330560" y="1212480"/>
              <a:ext cx="6957360" cy="4863240"/>
              <a:chOff x="1330560" y="1212480"/>
              <a:chExt cx="6957360" cy="4863240"/>
            </a:xfrm>
          </p:grpSpPr>
          <p:sp>
            <p:nvSpPr>
              <p:cNvPr id="558" name=""/>
              <p:cNvSpPr/>
              <p:nvPr/>
            </p:nvSpPr>
            <p:spPr>
              <a:xfrm rot="20601600">
                <a:off x="6400440" y="35506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539200">
                <a:off x="1650600" y="209844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601600">
                <a:off x="5084640" y="33807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 rot="20601600">
              <a:off x="3306600" y="29044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3382920" y="313956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42960" y="2725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42760" y="2268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13960" y="3030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85360" y="43257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37840" y="4554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19280" y="371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523880" y="1863720"/>
            <a:ext cx="7391520" cy="4156200"/>
            <a:chOff x="1523880" y="1863720"/>
            <a:chExt cx="7391520" cy="4156200"/>
          </a:xfrm>
        </p:grpSpPr>
        <p:sp>
          <p:nvSpPr>
            <p:cNvPr id="572" name=""/>
            <p:cNvSpPr/>
            <p:nvPr/>
          </p:nvSpPr>
          <p:spPr>
            <a:xfrm>
              <a:off x="2514600" y="26258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86000" y="186372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f389d"/>
                </a:gs>
                <a:gs pos="50000">
                  <a:srgbClr val="a0b0d7"/>
                </a:gs>
                <a:gs pos="100000">
                  <a:srgbClr val="0f389d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65640" y="32353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523880" y="4498920"/>
              <a:ext cx="1486080" cy="1514520"/>
              <a:chOff x="1523880" y="4498920"/>
              <a:chExt cx="1486080" cy="151452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1523880" y="4498920"/>
                <a:ext cx="1486080" cy="1514520"/>
                <a:chOff x="1523880" y="4498920"/>
                <a:chExt cx="1486080" cy="15145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523880" y="44989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4a46"/>
                    </a:gs>
                    <a:gs pos="100000">
                      <a:srgbClr val="942e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693800" y="45237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4a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81920" y="5270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429000" y="4498920"/>
              <a:ext cx="1523880" cy="1521000"/>
              <a:chOff x="3429000" y="4498920"/>
              <a:chExt cx="1523880" cy="152100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3429000" y="4498920"/>
                <a:ext cx="1523880" cy="1521000"/>
                <a:chOff x="3429000" y="4498920"/>
                <a:chExt cx="1523880" cy="15210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429000" y="44989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2c8a"/>
                    </a:gs>
                    <a:gs pos="100000">
                      <a:srgbClr val="321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603240" y="45241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22c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3505320" y="5229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486400" y="4454640"/>
              <a:ext cx="1523880" cy="1520640"/>
              <a:chOff x="5486400" y="4454640"/>
              <a:chExt cx="1523880" cy="152064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5486400" y="4454640"/>
                <a:ext cx="1523880" cy="1520640"/>
                <a:chOff x="5486400" y="4454640"/>
                <a:chExt cx="1523880" cy="1520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5486400" y="44546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b4dc"/>
                    </a:gs>
                    <a:gs pos="100000">
                      <a:srgbClr val="335c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660640" y="44798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4b4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5562720" y="5184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391160" y="4454640"/>
              <a:ext cx="1524240" cy="1531800"/>
              <a:chOff x="7391160" y="4454640"/>
              <a:chExt cx="1524240" cy="15318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391160" y="4454640"/>
                <a:ext cx="1524240" cy="1531800"/>
                <a:chOff x="7391160" y="4454640"/>
                <a:chExt cx="1524240" cy="15318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391160" y="4454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c856"/>
                    </a:gs>
                    <a:gs pos="100000">
                      <a:srgbClr val="2930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565400" y="4479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ac85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7534080" y="51685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/>
          <p:nvPr/>
        </p:nvSpPr>
        <p:spPr>
          <a:xfrm>
            <a:off x="213372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93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94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22c8a"/>
                  </a:gs>
                  <a:gs pos="100000">
                    <a:srgbClr val="2d143f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01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02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4b4dc"/>
                  </a:gs>
                  <a:gs pos="100000">
                    <a:srgbClr val="2e5265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09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22c8a"/>
                  </a:gs>
                  <a:gs pos="100000">
                    <a:srgbClr val="2d143f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17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18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4b4dc"/>
                  </a:gs>
                  <a:gs pos="100000">
                    <a:srgbClr val="2e5265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389d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f389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5FC2-4532-4C81-8A83-16263295C3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286000" y="45720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89d"/>
                    </a:gs>
                    <a:gs pos="100000">
                      <a:srgbClr val="622c8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89d"/>
                  </a:gs>
                  <a:gs pos="100000">
                    <a:srgbClr val="622c8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f389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4b4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56386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389d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f389d"/>
              </a:solidFill>
              <a:latin typeface="Arial"/>
            </a:endParaRPr>
          </a:p>
          <a:p>
            <a:pPr>
              <a:buClr>
                <a:srgbClr val="0f389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f389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172200" y="3352680"/>
            <a:ext cx="2286000" cy="2666880"/>
            <a:chOff x="6172200" y="3352680"/>
            <a:chExt cx="2286000" cy="2666880"/>
          </a:xfrm>
        </p:grpSpPr>
        <p:sp>
          <p:nvSpPr>
            <p:cNvPr id="132" name=""/>
            <p:cNvSpPr/>
            <p:nvPr/>
          </p:nvSpPr>
          <p:spPr>
            <a:xfrm>
              <a:off x="61722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54780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752480" y="3352680"/>
            <a:ext cx="2286000" cy="2666880"/>
            <a:chOff x="1752480" y="3352680"/>
            <a:chExt cx="2286000" cy="2666880"/>
          </a:xfrm>
        </p:grpSpPr>
        <p:sp>
          <p:nvSpPr>
            <p:cNvPr id="135" name=""/>
            <p:cNvSpPr/>
            <p:nvPr/>
          </p:nvSpPr>
          <p:spPr>
            <a:xfrm>
              <a:off x="175248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4788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08b88"/>
              </a:gs>
              <a:gs pos="100000">
                <a:srgbClr val="ea4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bbd8"/>
              </a:gs>
              <a:gs pos="100000">
                <a:srgbClr val="622c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1628640"/>
            <a:ext cx="2998440" cy="1601280"/>
            <a:chOff x="3657600" y="1628640"/>
            <a:chExt cx="2998440" cy="1601280"/>
          </a:xfrm>
        </p:grpSpPr>
        <p:grpSp>
          <p:nvGrpSpPr>
            <p:cNvPr id="140" name=""/>
            <p:cNvGrpSpPr/>
            <p:nvPr/>
          </p:nvGrpSpPr>
          <p:grpSpPr>
            <a:xfrm>
              <a:off x="3657600" y="1628640"/>
              <a:ext cx="2998440" cy="1601280"/>
              <a:chOff x="3657600" y="1628640"/>
              <a:chExt cx="2998440" cy="16012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657600" y="1771560"/>
                <a:ext cx="2998440" cy="1458360"/>
                <a:chOff x="3657600" y="1771560"/>
                <a:chExt cx="2998440" cy="1458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69036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1542"/>
                    </a:gs>
                    <a:gs pos="100000">
                      <a:srgbClr val="622c8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65760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2c8a"/>
                    </a:gs>
                    <a:gs pos="100000">
                      <a:srgbClr val="b8a0c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79872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4b4dc"/>
                  </a:gs>
                  <a:gs pos="100000">
                    <a:srgbClr val="2e526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3364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8e3f1"/>
                  </a:gs>
                  <a:gs pos="100000">
                    <a:srgbClr val="64b4d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6064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4b4dc">
                      <a:alpha val="48235"/>
                    </a:srgbClr>
                  </a:gs>
                  <a:gs pos="100000">
                    <a:srgbClr val="4e8ea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9240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4b4d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9244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23880" y="1874520"/>
            <a:ext cx="6956640" cy="4583520"/>
            <a:chOff x="1523880" y="1874520"/>
            <a:chExt cx="6956640" cy="4583520"/>
          </a:xfrm>
        </p:grpSpPr>
        <p:sp>
          <p:nvSpPr>
            <p:cNvPr id="152" name=""/>
            <p:cNvSpPr/>
            <p:nvPr/>
          </p:nvSpPr>
          <p:spPr>
            <a:xfrm rot="20241600">
              <a:off x="2153880" y="29541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6f6f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83160" y="22096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22c8a"/>
                </a:gs>
                <a:gs pos="100000">
                  <a:srgbClr val="210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47920" y="35272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4b4dc"/>
                </a:gs>
                <a:gs pos="100000">
                  <a:srgbClr val="1f38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2000" y="49942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531a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00520" y="44496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6280" y="24066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aac856"/>
                </a:gs>
                <a:gs pos="100000">
                  <a:srgbClr val="3a44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5080" y="3922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8360" y="2604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8360" y="28447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96080" y="4844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6160" y="5383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0760" y="38098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89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63840" y="2604960"/>
              <a:ext cx="1627200" cy="125100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cxnSp>
          <p:nvCxnSpPr>
            <p:cNvPr id="165" name=""/>
            <p:cNvCxnSpPr/>
            <p:nvPr/>
          </p:nvCxnSpPr>
          <p:spPr>
            <a:xfrm flipH="1">
              <a:off x="1648800" y="2604600"/>
              <a:ext cx="1726560" cy="1080"/>
            </a:xfrm>
            <a:prstGeom prst="straightConnector1">
              <a:avLst/>
            </a:prstGeom>
            <a:ln w="9360">
              <a:solidFill>
                <a:srgbClr val="0f389d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1523880" y="22096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4a4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4216320" y="4286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6320" y="32731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2e5265">
                    <a:alpha val="12156"/>
                  </a:srgbClr>
                </a:gs>
                <a:gs pos="100000">
                  <a:srgbClr val="64b4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52480" y="25491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2680" y="27662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39760" y="25491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10320" y="27662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4b4dc"/>
                </a:gs>
                <a:gs pos="100000">
                  <a:srgbClr val="2e52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12520" y="19810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b2220"/>
                </a:gs>
                <a:gs pos="50000">
                  <a:srgbClr val="ea4a46"/>
                </a:gs>
                <a:gs pos="100000">
                  <a:srgbClr val="6b22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85720" y="26942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64b4dc"/>
                </a:gs>
                <a:gs pos="100000">
                  <a:srgbClr val="9bcee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69920" y="2192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2720" y="55173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5200" y="49381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9bcee7">
                    <a:alpha val="12156"/>
                  </a:srgbClr>
                </a:gs>
                <a:gs pos="100000">
                  <a:srgbClr val="64b4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191" name=""/>
            <p:cNvGrpSpPr/>
            <p:nvPr/>
          </p:nvGrpSpPr>
          <p:grpSpPr>
            <a:xfrm>
              <a:off x="3618720" y="2286000"/>
              <a:ext cx="2900160" cy="2705400"/>
              <a:chOff x="3618720" y="2286000"/>
              <a:chExt cx="2900160" cy="2705400"/>
            </a:xfrm>
          </p:grpSpPr>
          <p:sp>
            <p:nvSpPr>
              <p:cNvPr id="192" name=""/>
              <p:cNvSpPr/>
              <p:nvPr/>
            </p:nvSpPr>
            <p:spPr>
              <a:xfrm flipH="1" rot="16200000">
                <a:off x="3537360" y="333252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6140880" y="328176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0800000">
                <a:off x="4848120" y="468576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15360" y="228600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48200" y="242100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69520" y="254736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22c8a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69520" y="254736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89040" y="267084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4174a"/>
                  </a:gs>
                  <a:gs pos="50000">
                    <a:srgbClr val="622c8a"/>
                  </a:gs>
                  <a:gs pos="100000">
                    <a:srgbClr val="34174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89040" y="267084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752480" y="378396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2480" y="328428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2785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9840" y="378396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5265"/>
                </a:gs>
                <a:gs pos="50000">
                  <a:srgbClr val="64b4dc"/>
                </a:gs>
                <a:gs pos="100000">
                  <a:srgbClr val="2e5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9840" y="328428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5265"/>
                </a:gs>
                <a:gs pos="50000">
                  <a:srgbClr val="64b4dc"/>
                </a:gs>
                <a:gs pos="100000">
                  <a:srgbClr val="2e5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29840" y="2785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5265"/>
                </a:gs>
                <a:gs pos="50000">
                  <a:srgbClr val="64b4dc"/>
                </a:gs>
                <a:gs pos="100000">
                  <a:srgbClr val="2e5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84800" y="3284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2000" y="513936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8960" y="293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896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8960" y="3931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06920" y="293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06920" y="3931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80720" y="2362320"/>
            <a:ext cx="6324840" cy="3352320"/>
            <a:chOff x="1980720" y="2362320"/>
            <a:chExt cx="6324840" cy="3352320"/>
          </a:xfrm>
        </p:grpSpPr>
        <p:sp>
          <p:nvSpPr>
            <p:cNvPr id="218" name=""/>
            <p:cNvSpPr/>
            <p:nvPr/>
          </p:nvSpPr>
          <p:spPr>
            <a:xfrm>
              <a:off x="7780320" y="236232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90200" y="2362320"/>
              <a:ext cx="30153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56880" y="320292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40680" y="3202920"/>
              <a:ext cx="3241800" cy="540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2720" y="4034880"/>
              <a:ext cx="517320" cy="844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11800" y="486828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51000" y="487332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981080" y="5708880"/>
              <a:ext cx="106992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81080" y="4868280"/>
              <a:ext cx="181800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80720" y="4038480"/>
              <a:ext cx="256644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981080" y="3209760"/>
              <a:ext cx="331488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980720" y="2368080"/>
              <a:ext cx="406332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42360" y="2362320"/>
              <a:ext cx="0" cy="87156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42360" y="3233880"/>
              <a:ext cx="0" cy="81648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42360" y="4050360"/>
              <a:ext cx="0" cy="81648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42360" y="4868280"/>
              <a:ext cx="0" cy="81648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4880" y="2525400"/>
              <a:ext cx="165780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4880" y="2903760"/>
              <a:ext cx="2496960" cy="3034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41760" y="3742920"/>
              <a:ext cx="2720880" cy="29772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96920" y="403488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99080" y="4578840"/>
              <a:ext cx="2944800" cy="2977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920" y="541476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8232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82320" y="3512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82320" y="4377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2320" y="518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34960" y="1600200"/>
            <a:ext cx="5270760" cy="4495680"/>
          </a:xfrm>
          <a:prstGeom prst="rightArrow">
            <a:avLst>
              <a:gd name="adj1" fmla="val 79306"/>
              <a:gd name="adj2" fmla="val 29039"/>
            </a:avLst>
          </a:prstGeom>
          <a:gradFill rotWithShape="0">
            <a:gsLst>
              <a:gs pos="0">
                <a:srgbClr val="64b4dc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a4a46"/>
              </a:gs>
              <a:gs pos="100000">
                <a:srgbClr val="ef807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22c8a"/>
              </a:gs>
              <a:gs pos="100000">
                <a:srgbClr val="906ba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89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89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89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4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