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89C1A-7C84-4C25-A31A-2C01A4173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F6E7-AFA0-40D6-8D57-081C9D14E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3186D-76B3-417D-ABE5-394CF2D03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09168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8336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09168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8336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6B11-1BBF-45A3-B40D-3B6CB82C8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AB192-70F6-4FFF-9246-F39E1F6D8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2596-DEE1-48A2-9F57-78B903AB9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7D34A-B55A-4548-ACDB-8EC28197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C8CF8-7FE4-483E-8E90-9AAC5637B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DA2D-B6E9-41E6-AA35-D975B256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41C08-4E2D-4A5F-B077-002E985B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1B08-5E2F-4B45-BE8C-39F862CC5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57D-41BD-48F4-81D5-3485EB17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28BE-A96F-415A-9C4E-04AC64C5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72AD-43AC-4F46-B1E6-4746A2BE4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A246-46AE-4082-93F5-7DC9D32A9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FE9B6-D071-455B-B0F7-190BA1CA6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09168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83360" y="297180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09168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83360" y="3170880"/>
            <a:ext cx="2944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9D7D6-2718-46DF-A97F-8EB6E3D5C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52E8-9D1D-486A-A658-A5C57D9D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B3E0-D434-460B-9704-18EA0786C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F174-6A54-412C-A09D-23FBCF2F9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2361960"/>
            <a:ext cx="9144000" cy="247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767F-92EA-4FCB-A05C-0BD8DD2F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98BDF-2EE9-4E2D-ABFB-FCFEC900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5760" y="317088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D603-C4B7-4FD7-A673-358B3AFDB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2971800"/>
            <a:ext cx="4462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0" y="3170880"/>
            <a:ext cx="91440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4CAB-72E4-43BC-81D7-AD2478D30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844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DEFA-B93B-4256-A2F5-FF8F3137F834}" type="slidenum">
              <a:rPr b="1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75a2"/>
                </a:solidFill>
                <a:latin typeface="Impact"/>
              </a:rPr>
              <a:t>Click to edit the title text format</a:t>
            </a: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2971-728B-4445-9EB8-06BE6B311069}" type="slidenum">
              <a:rPr b="0" lang="en-US" sz="10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Click to edit the outline text format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30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SzPct val="30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</a:rPr>
              <a:t>Your Subtitle Goes Here</a:t>
            </a: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a75a2"/>
                </a:solidFill>
                <a:latin typeface="Impact"/>
              </a:rPr>
              <a:t>Essence of Time</a:t>
            </a:r>
            <a:endParaRPr b="0" lang="en-US" sz="40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36360" y="6454800"/>
            <a:ext cx="5078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7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5720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蓝色钟表背景企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a75a2"/>
                </a:solidFill>
                <a:latin typeface="Impact"/>
              </a:rPr>
              <a:t>Transitional Page</a:t>
            </a:r>
            <a:endParaRPr b="0" lang="en-US" sz="3600" spc="-1" strike="noStrike">
              <a:solidFill>
                <a:srgbClr val="3a75a2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75960"/>
            <a:ext cx="91440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Your Topic Goes Her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Your subtopic goes her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ahoma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仅供学习与参考，请勿用于商业用途。否则产生的一切后果将由您自己承担！如有侵犯您的版权，请及时与我们联系。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ahoma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Tahoma"/>
              </a:rPr>
              <a:t>：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1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1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7182-95FC-4B51-8A9D-F1ECCFBC33ED}" type="slidenum">
              <a:t>5</a:t>
            </a:fld>
          </a:p>
        </p:txBody>
      </p:sp>
    </p:spTree>
  </p:cSld>
  <p:transition spd="med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3619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lements</a:t>
            </a:r>
            <a:endParaRPr b="0" lang="en-US" sz="3600" spc="-1" strike="noStrike">
              <a:solidFill>
                <a:srgbClr val="3a75a2"/>
              </a:solidFill>
              <a:latin typeface="Impact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416320" y="5187960"/>
            <a:ext cx="2047680" cy="15368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680000" y="5187960"/>
            <a:ext cx="2047680" cy="15368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6943680" y="5187960"/>
            <a:ext cx="2048040" cy="15368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152280" y="5187960"/>
            <a:ext cx="2048040" cy="15368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0" y="29718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808080"/>
              </a:solidFill>
              <a:latin typeface="Tahoma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3T20:21:32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5:03Z</dcterms:modified>
  <cp:revision>4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