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10799763" cy="6065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9280" y="35074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2096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2644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11360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928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2644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11360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9280" y="242640"/>
            <a:ext cx="9721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2096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9280" y="35074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2096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2644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11360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928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2644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11360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9643C-02BA-4EBC-93F4-4962340064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BEC0D-6026-45B9-A629-D9B580A410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28C1-7CB9-46A6-AFE3-41B8C101A8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98EE-E7DB-436B-B80C-58E440494D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CD1A-6791-4A5B-9109-6B05C68A32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39280" y="242640"/>
            <a:ext cx="9721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3C346-E612-434C-97E7-79FB3703A6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3D3E-37E6-4480-8DAB-EC6B765EB6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2096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30F4-DCA4-465D-B419-C0A54142AD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3EE32-6026-4532-B5C7-576D349CD7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9280" y="35074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BF81E-3F99-47C5-9218-0BAF4DF097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52096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3755-BC8C-434E-B37B-DD02DDCDC3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2644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11360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928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2644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11360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DA313-5E5D-4DB9-A16F-E88ECAA5165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7D1E1-37F8-47E5-8817-67378644A3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39AEC-BB84-4360-85EB-B620D2EDFA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25C42-4C5E-406D-801E-0C50A8F66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EB809-B7DC-4314-81FC-B6B275CB918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8B9EE-6BEB-41BD-8EDE-73101BC0A17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39280" y="242640"/>
            <a:ext cx="9721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D425B-4ED7-4707-A0BA-BC7EA4E82C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B9FCD-C92A-470F-935A-4F80512C2B7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2096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4E59B-6FE7-4F97-9DD9-8099841F79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4176D-5AD4-497C-BC70-8CFA9BD2D8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9280" y="35074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D3D50-0A69-46A1-A657-78C62382AC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52096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234FF-4AC0-450A-AA6E-0FCF516DBC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2644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11360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3928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82644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11360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1DA56-3939-4ABC-A0ED-452347ED3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280" y="242640"/>
            <a:ext cx="9721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2096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nordridesign.cn/index.php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4503600" y="224460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4759200" y="2244600"/>
            <a:ext cx="4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5027760" y="2244600"/>
            <a:ext cx="42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5367240" y="2244600"/>
            <a:ext cx="42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5619600" y="224460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2"/>
          <p:cNvSpPr/>
          <p:nvPr/>
        </p:nvSpPr>
        <p:spPr>
          <a:xfrm>
            <a:off x="5950080" y="2244600"/>
            <a:ext cx="42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3"/>
          <p:cNvSpPr/>
          <p:nvPr/>
        </p:nvSpPr>
        <p:spPr>
          <a:xfrm>
            <a:off x="6218280" y="2244600"/>
            <a:ext cx="42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4"/>
          <p:cNvSpPr/>
          <p:nvPr/>
        </p:nvSpPr>
        <p:spPr>
          <a:xfrm>
            <a:off x="6470640" y="224460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5"/>
          <p:cNvSpPr/>
          <p:nvPr/>
        </p:nvSpPr>
        <p:spPr>
          <a:xfrm>
            <a:off x="4777560" y="267192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6" descr="logo"/>
          <p:cNvPicPr/>
          <p:nvPr/>
        </p:nvPicPr>
        <p:blipFill>
          <a:blip r:embed="rId2"/>
          <a:stretch/>
        </p:blipFill>
        <p:spPr>
          <a:xfrm>
            <a:off x="3681360" y="2235240"/>
            <a:ext cx="924120" cy="65232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7" descr="logo2"/>
          <p:cNvPicPr/>
          <p:nvPr/>
        </p:nvPicPr>
        <p:blipFill>
          <a:blip r:embed="rId3"/>
          <a:stretch/>
        </p:blipFill>
        <p:spPr>
          <a:xfrm>
            <a:off x="3029040" y="2077920"/>
            <a:ext cx="4522680" cy="1171800"/>
          </a:xfrm>
          <a:prstGeom prst="rect">
            <a:avLst/>
          </a:prstGeom>
          <a:ln w="0">
            <a:noFill/>
          </a:ln>
        </p:spPr>
      </p:pic>
      <p:sp>
        <p:nvSpPr>
          <p:cNvPr id="11" name="Rectangle 18">
            <a:hlinkClick r:id="rId4"/>
          </p:cNvPr>
          <p:cNvSpPr/>
          <p:nvPr/>
        </p:nvSpPr>
        <p:spPr>
          <a:xfrm>
            <a:off x="2975040" y="1469880"/>
            <a:ext cx="491976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6" descr="祥云3.png"/>
          <p:cNvPicPr/>
          <p:nvPr/>
        </p:nvPicPr>
        <p:blipFill>
          <a:blip r:embed="rId3"/>
          <a:stretch/>
        </p:blipFill>
        <p:spPr>
          <a:xfrm>
            <a:off x="0" y="162000"/>
            <a:ext cx="1352520" cy="949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1"/>
          </p:nvPr>
        </p:nvSpPr>
        <p:spPr>
          <a:xfrm>
            <a:off x="9123120" y="5578200"/>
            <a:ext cx="15159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84E0-0490-44E8-A43D-56C871B99A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矩形 6" descr=""/>
          <p:cNvPicPr/>
          <p:nvPr/>
        </p:nvPicPr>
        <p:blipFill>
          <a:blip r:embed="rId2"/>
          <a:stretch/>
        </p:blipFill>
        <p:spPr>
          <a:xfrm>
            <a:off x="4834080" y="2792520"/>
            <a:ext cx="5449680" cy="9936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7" descr="神兽2.png"/>
          <p:cNvPicPr/>
          <p:nvPr/>
        </p:nvPicPr>
        <p:blipFill>
          <a:blip r:embed="rId3"/>
          <a:stretch/>
        </p:blipFill>
        <p:spPr>
          <a:xfrm>
            <a:off x="-19080" y="-6480"/>
            <a:ext cx="5273640" cy="7839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2"/>
          </p:nvPr>
        </p:nvSpPr>
        <p:spPr>
          <a:xfrm>
            <a:off x="7740720" y="5524200"/>
            <a:ext cx="252072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CDA9-F091-4E01-AFAB-C4A7C6B95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75120" y="2428560"/>
            <a:ext cx="637704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龙与祥云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229280" y="3900240"/>
            <a:ext cx="596736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方正姚体"/>
              <a:ea typeface="方正姚体"/>
            </a:endParaRPr>
          </a:p>
        </p:txBody>
      </p:sp>
      <p:sp>
        <p:nvSpPr>
          <p:cNvPr id="169" name=""/>
          <p:cNvSpPr/>
          <p:nvPr/>
        </p:nvSpPr>
        <p:spPr>
          <a:xfrm>
            <a:off x="111240" y="56293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52240" y="431280"/>
            <a:ext cx="9721800" cy="8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方正姚体"/>
              <a:ea typeface="方正姚体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546120" y="1498680"/>
            <a:ext cx="9715320" cy="42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54040" y="168120"/>
            <a:ext cx="9694800" cy="5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80" y="1123920"/>
            <a:ext cx="1054728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8607600" y="295200"/>
            <a:ext cx="1641240" cy="308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21EE-E4DB-4C7C-83B4-C69B258C623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4:49:32Z</dcterms:created>
  <dc:creator>pc</dc:creator>
  <dc:description>www.eeppt.com;</dc:description>
  <cp:keywords>www.eeppt.com</cp:keywords>
  <dc:language>en-US</dc:language>
  <cp:lastModifiedBy>pc</cp:lastModifiedBy>
  <dcterms:modified xsi:type="dcterms:W3CDTF">2015-09-18T13:26:31Z</dcterms:modified>
  <cp:revision>22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