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F2B59-FF91-4AF6-9B8B-6D78ED66B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D57CC-F5AB-4FEE-9D0B-7EFE96839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582C1-5222-4E53-ADCF-560D30D77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7E3A8-7309-4BEA-8EFF-B033203CF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73880-E13F-4CE7-89F6-A49091A09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867C6-37AB-4140-ADFF-07FB53ECB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6AA23-58B2-4529-8D73-1BFCCFA85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C666A-A1F4-4621-9643-84F9C50A0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11696-E3CD-4943-9E5B-6E81EE07E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3187C-B0A2-40D0-8BE7-2F8B59FD1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8E62C-400A-4672-92A7-2F45FDE03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A161F-F33C-4254-8422-999B3894E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633E-737A-455F-9C69-1B4A6F1C86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玫瑰花瓣</a:t>
            </a:r>
            <a:r>
              <a:rPr b="0" lang="en-US" sz="4000" spc="-1" strike="noStrike">
                <a:solidFill>
                  <a:srgbClr val="ffffff"/>
                </a:solidFill>
                <a:latin typeface="Arial"/>
              </a:rPr>
              <a:t>PPT</a:t>
            </a:r>
            <a:r>
              <a:rPr b="0" lang="zh-CN" sz="4000" spc="-1" strike="noStrike">
                <a:solidFill>
                  <a:srgbClr val="ffffff"/>
                </a:solidFill>
                <a:latin typeface="Arial"/>
              </a:rPr>
              <a:t>模板打包下载</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826920" y="2060640"/>
            <a:ext cx="742824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331640" y="1916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3EC2BB2-1D01-4A2A-BF89-C5E2236BA8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000" y="83664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26:21Z</dcterms:created>
  <dc:creator>pc</dc:creator>
  <dc:description>www.eeppt.com;</dc:description>
  <cp:keywords>www.eeppt.com</cp:keywords>
  <dc:language>en-US</dc:language>
  <cp:lastModifiedBy>admin</cp:lastModifiedBy>
  <dcterms:modified xsi:type="dcterms:W3CDTF">2015-09-18T13:22:22Z</dcterms:modified>
  <cp:revision>5</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