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094-F8D9-41E8-809D-73C868F5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8C9-412A-440A-B611-476CDD14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E8C-80C8-40FF-98C6-D6D28E6F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ADF-ACCB-4E36-8BF8-ADEDD155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C39-2C0E-4BFA-A6BE-69C0D3A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510-3672-457E-B66A-749921F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7D2-A5DF-4C63-824B-235F3B69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493-76FE-47AE-A8C3-284F49B8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295-2670-428E-97F3-208802E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FD6-6DE7-45EB-8FC4-574BABD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60F-58F1-4187-B910-ED10DB8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C00-23D6-48B8-A68A-AFC3C52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F3A2-59AF-4783-9B09-18948D3B1DA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CCA-FFE3-45D2-B010-F2470EE28BA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66840" y="5086080"/>
            <a:ext cx="4857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POWERPOINT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8200" y="3333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玫瑰情人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94212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301392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529992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4"/>
          <p:cNvSpPr/>
          <p:nvPr/>
        </p:nvSpPr>
        <p:spPr>
          <a:xfrm>
            <a:off x="30153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-263880" y="4287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655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69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0126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17262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4798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12978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372672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012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13690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C23-640D-4B63-8AB5-C85714F26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322920" y="2142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294084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16549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941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294084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YANGS2015</cp:lastModifiedBy>
  <dcterms:modified xsi:type="dcterms:W3CDTF">2015-09-18T13:22:21Z</dcterms:modified>
  <cp:revision>28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