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EEF-5005-46CF-9BB0-F9767C9F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812-3AD0-4FA5-9234-C64C55AC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66F-8CBD-4A0E-BDDB-65D28A97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BA9-BEAA-46C7-B32E-98D197BD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7C3-4DAA-4576-BA5D-2B520CA6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0AA-BF53-41BA-B538-4751233C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9A3-C138-4EFE-B980-BA4EBFD2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970-A1B1-41EB-AD6E-829B9657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E3C-CAD1-4AB1-896D-AA9D099E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313-DEAB-4799-BFAC-CE0BE50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9B1-B9BB-48A3-9E4E-19723DA4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4ED-5F07-432E-90FE-3D3C3203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6710-B6C7-4FDC-B1FD-FAD220C507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18240" y="2755800"/>
            <a:ext cx="44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23003"/>
                </a:solidFill>
                <a:latin typeface="Arial"/>
                <a:ea typeface="微软雅黑"/>
              </a:rPr>
              <a:t>如何快乐工作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82280" y="1757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3003"/>
                </a:solidFill>
                <a:latin typeface="Arial"/>
                <a:ea typeface="微软雅黑"/>
              </a:rPr>
              <a:t>同事之间和睦相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830760" y="26938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3003"/>
                </a:solidFill>
                <a:latin typeface="Arial"/>
                <a:ea typeface="微软雅黑"/>
              </a:rPr>
              <a:t>正确处理与上司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187880" y="3557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3003"/>
                </a:solidFill>
                <a:latin typeface="Arial"/>
                <a:ea typeface="微软雅黑"/>
              </a:rPr>
              <a:t>保持平常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484160" y="443700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3003"/>
                </a:solidFill>
                <a:latin typeface="微软雅黑"/>
                <a:ea typeface="微软雅黑"/>
              </a:rPr>
              <a:t>调节心情  甩掉坏脾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06560" y="825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46400" y="3097080"/>
            <a:ext cx="50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003"/>
                </a:solidFill>
                <a:latin typeface="Arial"/>
                <a:ea typeface="微软雅黑"/>
              </a:rPr>
              <a:t>同事之间和睦相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542960"/>
            <a:ext cx="11485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假如以每个人每天工作</a:t>
            </a:r>
            <a:r>
              <a:rPr b="0" lang="en-US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小时来计算的话，人们从参加工作到正式退休，差不多有</a:t>
            </a:r>
            <a:r>
              <a:rPr b="0" lang="en-US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1/3</a:t>
            </a: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的时间都在跟同事相处。所以，同事关系对于一个人来讲是最重要的人际关系。同事之间最容易形成利益关系，如果对一些小事不能正确对待就容易形成沟壑。在职场中一定要记住，与我们面对面的是同事而不是冤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同事之间经常会出现一些磕磕碰碰，如果不及时妥善处理，就会形成大矛盾。俗话讲，冤家宜解不宜结。在与同事发生矛盾时，要主动忍让，从自身找原因，换位为他人多想想，避免矛盾激化。如果已经形成矛盾，自己又的确不对，要放下面子，学会道歉，以诚心感人。退一步海阔天空，如有一方主动打破僵局，就会发现彼此之间并没有什么大不了的隔阂。面对自己的不利情形，我们为什么不微笑地面对生活，友善地对待周围同事呢！在现实生活中，有的人并没有把重要的精力都用在工作上，而是用在了计算同事上。任何事都是一把双刃剑，你这样做的次数越多，所受到的伤害就越大。结果使得你与同事的关系越来越复杂，那时你的工作效率怎么能不降低呢</a:t>
            </a:r>
            <a:r>
              <a:rPr b="0" lang="zh-CN" sz="1800" spc="-1" strike="noStrike">
                <a:solidFill>
                  <a:srgbClr val="523003"/>
                </a:solidFill>
                <a:latin typeface="Arial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81D-1BA0-49F3-80B2-7BB2AAE945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; zuazua W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9-18T13:22:02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