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3032-885F-4F49-9B5E-C2782F6B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58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8229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94200"/>
            <a:ext cx="8229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6E6F-6918-45BB-AD1B-B0214468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58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40158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3040"/>
            <a:ext cx="40158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94200"/>
            <a:ext cx="40158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94200"/>
            <a:ext cx="40158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9CAD-68C1-48F8-8B90-F807B8981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58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2649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43040"/>
            <a:ext cx="2649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43040"/>
            <a:ext cx="2649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94200"/>
            <a:ext cx="2649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94200"/>
            <a:ext cx="2649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94200"/>
            <a:ext cx="2649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DF21-FF27-4B5D-9817-8E9680936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BF27-600C-4EEB-BDC0-793ADD93A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58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430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28E4-FB7A-48A4-B377-8B0EF788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8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FE26-861E-4F1F-BAAD-86A45616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8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40158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43040"/>
            <a:ext cx="40158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5502-183B-42D4-8EFB-40B2B6CD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58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89977-F8AA-4605-8B73-C1230BCC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758880"/>
            <a:ext cx="822960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155F-10B9-4A69-9C47-6A060449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58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40158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43040"/>
            <a:ext cx="40158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94200"/>
            <a:ext cx="40158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4A70-E69B-4905-B667-01C59215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58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430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B433-7693-4555-AC10-D887C847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58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40158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43040"/>
            <a:ext cx="40158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94200"/>
            <a:ext cx="40158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59A13-4EE6-4909-9D11-05C95389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58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40158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43040"/>
            <a:ext cx="40158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94200"/>
            <a:ext cx="8229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169B-8AAB-454C-B2D6-7DAC2B2E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58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8229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94200"/>
            <a:ext cx="8229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E644-59B1-4B08-8F2F-D9359FFE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8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40158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43040"/>
            <a:ext cx="40158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94200"/>
            <a:ext cx="40158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94200"/>
            <a:ext cx="40158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C917-A8C0-438F-803E-CAE84584F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58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2649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43040"/>
            <a:ext cx="2649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43040"/>
            <a:ext cx="2649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94200"/>
            <a:ext cx="2649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94200"/>
            <a:ext cx="2649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94200"/>
            <a:ext cx="2649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55A8-F960-462A-8829-CF92DA166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58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A7E3-A35A-41EE-A0F3-D332191F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58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40158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43040"/>
            <a:ext cx="40158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61A0-7DD2-4EF4-90F1-35621731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58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7F71-8199-493C-A94F-29B426A3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758880"/>
            <a:ext cx="822960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36B3-44ED-46B5-A6D1-AF228C28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58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40158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43040"/>
            <a:ext cx="40158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94200"/>
            <a:ext cx="40158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F15A-2713-428D-92B5-61B62173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58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40158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43040"/>
            <a:ext cx="40158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94200"/>
            <a:ext cx="40158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8894-2412-4ACD-86AB-0DF3C71D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58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40158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43040"/>
            <a:ext cx="40158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94200"/>
            <a:ext cx="8229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B945-715B-4B0D-A845-FF6F822F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:\Documents and Settings\鱼不愚\桌面\虎啊副本2.jpg"/>
          <p:cNvPicPr/>
          <p:nvPr/>
        </p:nvPicPr>
        <p:blipFill>
          <a:blip r:embed="rId2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58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粗倩简体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430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4733-FD6F-4A4A-839A-2CC83E3339D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C:\Documents and Settings\鱼不愚\桌面\虎啊副本2.jpg"/>
          <p:cNvPicPr/>
          <p:nvPr/>
        </p:nvPicPr>
        <p:blipFill>
          <a:blip r:embed="rId2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鱼不愚\桌面\虎啊副本.jpg"/>
          <p:cNvPicPr/>
          <p:nvPr/>
        </p:nvPicPr>
        <p:blipFill>
          <a:blip r:embed="rId3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8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粗倩简体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430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9AFE-7BC0-4358-8F01-7CBB26F155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71640" y="2777760"/>
            <a:ext cx="619128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粗倩简体"/>
              </a:rPr>
              <a:t>猛虎贺岁幻灯片在线下载</a:t>
            </a:r>
            <a:endParaRPr b="0" lang="en-US" sz="4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91000" y="3873240"/>
            <a:ext cx="357192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7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75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粗倩简体"/>
              </a:rPr>
              <a:t>模板使用说明</a:t>
            </a: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5717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添加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03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版本选择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视图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】——【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母版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】——【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幻灯片母版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下调整；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07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版本选择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视图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】——【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幻灯片母版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在模板中添加您的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图片。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字体格式的设置：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本模板默认标题字体为“方正粗倩简体”，文本字体为“微软雅黑”，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如需修改字体请在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视图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母版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幻灯片母版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下调整。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下载使用须知：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转载时请注明原创作者，请勿私自改动后提供该模板的下载，免费模板设计素材来自网络共享资源，请勿将模板应用于任何商业行为。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12700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粗倩简体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1FF2-2CC0-48E6-B4DD-142D3F2CAA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71600" y="2500200"/>
            <a:ext cx="5143320" cy="13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粗倩简体"/>
              </a:rPr>
              <a:t>       </a:t>
            </a:r>
            <a:r>
              <a:rPr b="0" i="1" lang="zh-CN" sz="4800" spc="-1" strike="noStrike">
                <a:solidFill>
                  <a:srgbClr val="ffffff"/>
                </a:solidFill>
                <a:latin typeface="方正粗倩简体"/>
              </a:rPr>
              <a:t>感谢聆听！</a:t>
            </a:r>
            <a:endParaRPr b="0" lang="en-US" sz="48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1640" y="3571560"/>
            <a:ext cx="4714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微软雅黑"/>
              </a:rPr>
              <a:t>Thanks for your time!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6T02:12:04Z</dcterms:created>
  <dc:creator>pc</dc:creator>
  <dc:description>www.eeppt.com;</dc:description>
  <cp:keywords>www.eeppt.com</cp:keywords>
  <dc:language>en-US</dc:language>
  <cp:lastModifiedBy>jccook</cp:lastModifiedBy>
  <dcterms:modified xsi:type="dcterms:W3CDTF">2015-09-18T13:22:20Z</dcterms:modified>
  <cp:revision>14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