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DEC6-F39F-40BB-908A-6AB46820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E802-BC4C-4171-8DAD-62CBB771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5E55-1776-4964-8105-4C17CE6B0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953B-10FD-425A-AF91-46044F1E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2E70-EE1A-4B0D-B45F-1C2E75A3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629A-8EFA-449B-9518-CC148FCA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4B16-BACD-46F5-B24C-D3E5DB45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9D55-708B-4A1E-B317-8E78E2D9E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5E58-83A7-48AE-9F98-E0EAAB27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E023-73A8-4C4C-BA1A-BE95BB99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185F-7BC4-4DF0-B115-6C122F95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9A8C-68EB-4796-A306-67B0C06E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D11C-BA28-4391-8F0B-71E2407492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51pptmoban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51pptmoban.com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51pptmoban.com/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071880" y="4078440"/>
            <a:ext cx="52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143160" y="465300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情人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932840" y="9261360"/>
            <a:ext cx="32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51 pptmoban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53840" y="4428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满满爱心浪漫情人节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1935360" y="9261360"/>
            <a:ext cx="32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搜集 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1932840" y="9261360"/>
            <a:ext cx="32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51pptmo ban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6F91-DB29-4DB7-B3A4-2AF1C405B5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pc</dc:creator>
  <dc:description>www.eeppt.com;</dc:description>
  <cp:keywords>www.eeppt.com</cp:keywords>
  <dc:language>en-US</dc:language>
  <cp:lastModifiedBy>YANGS</cp:lastModifiedBy>
  <dcterms:modified xsi:type="dcterms:W3CDTF">2015-09-18T13:21:56Z</dcterms:modified>
  <cp:revision>83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