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53E-B26A-4718-8BC6-591C1A16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0D7-ECE1-4C36-8472-140B8D2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ED3-5BA4-4D90-9E23-759D0CE4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A40-20EC-417E-A112-D6AB79FB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EA9-E05B-4038-9FE3-2E446DD3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779-BB9E-4A2F-9937-CA0D0A07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66D-8079-4418-8148-8865124F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8D8-0B53-4AFF-831B-1898F4E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5CD-2260-47F8-8754-9DAB1104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CB3-B8FD-4427-95A9-061A29E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241-852A-4CE7-9CD1-B640FD6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23C-E20C-41BD-A0BC-E003CEF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DEBD-1CF3-4CDF-8489-11618EB55A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0211-F20B-44A1-876C-96CDAAC52D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0" r="0" b="1876"/>
          <a:stretch/>
        </p:blipFill>
        <p:spPr>
          <a:xfrm>
            <a:off x="111240" y="109440"/>
            <a:ext cx="8921520" cy="492444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111240" y="2592360"/>
            <a:ext cx="8921520" cy="1871640"/>
          </a:xfrm>
          <a:prstGeom prst="rect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7"/>
          <p:cNvSpPr/>
          <p:nvPr/>
        </p:nvSpPr>
        <p:spPr>
          <a:xfrm>
            <a:off x="990720" y="3076560"/>
            <a:ext cx="720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934920" y="27367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18thCentury"/>
              </a:rPr>
              <a:t>FACING BUSINESS CHALLENGES  AT HOLIDAY WORLDWIDE SENDING INVITATIONS ACR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2"/>
          <p:cNvSpPr/>
          <p:nvPr/>
        </p:nvSpPr>
        <p:spPr>
          <a:xfrm>
            <a:off x="990720" y="3889440"/>
            <a:ext cx="720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787320" y="30160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unkFive"/>
              </a:rPr>
              <a:t>THE TITLE 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954000" y="38671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18thCentury"/>
              </a:rPr>
              <a:t>FACING BUSINESS CHALLENGES  AT HOLIDAY WORLDWIDE SENDING INVITATIONS ACR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6609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7280" y="3398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女简约复古欧美风格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108000" y="108000"/>
            <a:ext cx="4464000" cy="4927680"/>
          </a:xfrm>
          <a:prstGeom prst="rect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912960" y="1338120"/>
            <a:ext cx="29509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hunkFive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hunkFive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568760" y="1438200"/>
            <a:ext cx="36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In the eternal universe, every hu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being has a one-off chanc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live --his existence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unique and irretrievab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or the mold with which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as made, as Rousseau said.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ull awareness of this will point ou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7C9-9736-4377-AFED-B38219F11E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8432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7560" y="339840"/>
            <a:ext cx="83534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2f22"/>
                </a:solidFill>
                <a:latin typeface="ChunkFiv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UR</a:t>
            </a:r>
            <a:r>
              <a:rPr b="0" lang="en-US" sz="2800" spc="-1" strike="noStrike">
                <a:solidFill>
                  <a:srgbClr val="dc2f22"/>
                </a:solidFill>
                <a:latin typeface="ChunkFive"/>
              </a:rPr>
              <a:t> </a:t>
            </a:r>
            <a:r>
              <a:rPr b="0" lang="en-US" sz="4000" spc="-1" strike="noStrike">
                <a:solidFill>
                  <a:srgbClr val="dc2f22"/>
                </a:solidFill>
                <a:latin typeface="ChunkFive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EAD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ldine721 Lt BT"/>
              </a:rPr>
              <a:t>There is many a person in the world who is ordinary  in our lif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030320" y="3633840"/>
            <a:ext cx="51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8"/>
          <p:cNvSpPr/>
          <p:nvPr/>
        </p:nvSpPr>
        <p:spPr>
          <a:xfrm>
            <a:off x="2755800" y="1946160"/>
            <a:ext cx="1258920" cy="1260720"/>
          </a:xfrm>
          <a:prstGeom prst="diamond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9"/>
          <p:cNvSpPr/>
          <p:nvPr/>
        </p:nvSpPr>
        <p:spPr>
          <a:xfrm>
            <a:off x="4257720" y="2046240"/>
            <a:ext cx="1176120" cy="1150920"/>
          </a:xfrm>
          <a:prstGeom prst="diamond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10"/>
          <p:cNvSpPr/>
          <p:nvPr/>
        </p:nvSpPr>
        <p:spPr>
          <a:xfrm>
            <a:off x="6080040" y="2490840"/>
            <a:ext cx="1619280" cy="1620720"/>
          </a:xfrm>
          <a:prstGeom prst="diamond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14"/>
          <p:cNvSpPr/>
          <p:nvPr/>
        </p:nvSpPr>
        <p:spPr>
          <a:xfrm>
            <a:off x="6367320" y="1347840"/>
            <a:ext cx="1043280" cy="1042920"/>
          </a:xfrm>
          <a:prstGeom prst="diamond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菱形 15"/>
          <p:cNvSpPr/>
          <p:nvPr/>
        </p:nvSpPr>
        <p:spPr>
          <a:xfrm>
            <a:off x="7102440" y="1685880"/>
            <a:ext cx="1403280" cy="1403280"/>
          </a:xfrm>
          <a:prstGeom prst="diamond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4"/>
          <p:cNvSpPr/>
          <p:nvPr/>
        </p:nvSpPr>
        <p:spPr>
          <a:xfrm>
            <a:off x="2673360" y="2622600"/>
            <a:ext cx="679320" cy="6793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6"/>
          <p:cNvSpPr/>
          <p:nvPr/>
        </p:nvSpPr>
        <p:spPr>
          <a:xfrm flipV="1">
            <a:off x="3349800" y="2571840"/>
            <a:ext cx="728640" cy="7300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8"/>
          <p:cNvSpPr/>
          <p:nvPr/>
        </p:nvSpPr>
        <p:spPr>
          <a:xfrm>
            <a:off x="4076640" y="2565360"/>
            <a:ext cx="736560" cy="7365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>
            <a:off x="6273720" y="1844640"/>
            <a:ext cx="574920" cy="5745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4"/>
          <p:cNvSpPr/>
          <p:nvPr/>
        </p:nvSpPr>
        <p:spPr>
          <a:xfrm flipH="1">
            <a:off x="5985000" y="2421000"/>
            <a:ext cx="868320" cy="8650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4"/>
          <p:cNvSpPr/>
          <p:nvPr/>
        </p:nvSpPr>
        <p:spPr>
          <a:xfrm flipV="1">
            <a:off x="4811760" y="1839600"/>
            <a:ext cx="1461960" cy="14619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42"/>
          <p:cNvSpPr/>
          <p:nvPr/>
        </p:nvSpPr>
        <p:spPr>
          <a:xfrm>
            <a:off x="5987880" y="3281400"/>
            <a:ext cx="905040" cy="90324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44"/>
          <p:cNvSpPr/>
          <p:nvPr/>
        </p:nvSpPr>
        <p:spPr>
          <a:xfrm>
            <a:off x="573120" y="1593720"/>
            <a:ext cx="1944720" cy="1944720"/>
          </a:xfrm>
          <a:prstGeom prst="diamond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860400" y="2343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6226200" y="307656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7480440" y="2052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1030320" y="4110120"/>
            <a:ext cx="51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2768760" y="23781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0"/>
          <p:cNvSpPr/>
          <p:nvPr/>
        </p:nvSpPr>
        <p:spPr>
          <a:xfrm>
            <a:off x="4259160" y="2438280"/>
            <a:ext cx="137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D56-15B5-4EC7-81B9-E09E326FF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6"/>
          <p:cNvSpPr/>
          <p:nvPr/>
        </p:nvSpPr>
        <p:spPr>
          <a:xfrm>
            <a:off x="3333600" y="461880"/>
            <a:ext cx="2648160" cy="4906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3308400" y="43164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4"/>
          <p:cNvSpPr/>
          <p:nvPr/>
        </p:nvSpPr>
        <p:spPr>
          <a:xfrm>
            <a:off x="2482920" y="1387440"/>
            <a:ext cx="5832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504720" y="135108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unkFive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9"/>
          <p:cNvSpPr/>
          <p:nvPr/>
        </p:nvSpPr>
        <p:spPr>
          <a:xfrm flipV="1">
            <a:off x="2444760" y="1501560"/>
            <a:ext cx="0" cy="431640"/>
          </a:xfrm>
          <a:prstGeom prst="line">
            <a:avLst/>
          </a:prstGeom>
          <a:ln w="28440">
            <a:solidFill>
              <a:srgbClr val="dc2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504800" y="2355840"/>
            <a:ext cx="6739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          </a:t>
            </a: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 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                   </a:t>
            </a: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ABA-96EB-4052-9A5B-57AC9B164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" descr=""/>
          <p:cNvPicPr/>
          <p:nvPr/>
        </p:nvPicPr>
        <p:blipFill>
          <a:blip r:embed="rId1"/>
          <a:srcRect l="18501" t="14867" r="25036" b="28893"/>
          <a:stretch/>
        </p:blipFill>
        <p:spPr>
          <a:xfrm>
            <a:off x="426960" y="3600360"/>
            <a:ext cx="2148120" cy="12034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2"/>
          <a:srcRect l="0" t="0" r="5213" b="16053"/>
          <a:stretch/>
        </p:blipFill>
        <p:spPr>
          <a:xfrm>
            <a:off x="426960" y="2327400"/>
            <a:ext cx="2148120" cy="11890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3"/>
          <a:srcRect l="0" t="15519" r="4673" b="0"/>
          <a:stretch/>
        </p:blipFill>
        <p:spPr>
          <a:xfrm>
            <a:off x="415800" y="1050840"/>
            <a:ext cx="2159280" cy="1197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5"/>
          <p:cNvSpPr/>
          <p:nvPr/>
        </p:nvSpPr>
        <p:spPr>
          <a:xfrm>
            <a:off x="2666880" y="118728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5"/>
          <p:cNvSpPr/>
          <p:nvPr/>
        </p:nvSpPr>
        <p:spPr>
          <a:xfrm>
            <a:off x="2666880" y="246708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7"/>
          <p:cNvSpPr/>
          <p:nvPr/>
        </p:nvSpPr>
        <p:spPr>
          <a:xfrm>
            <a:off x="2666880" y="371160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1"/>
          <p:cNvSpPr/>
          <p:nvPr/>
        </p:nvSpPr>
        <p:spPr>
          <a:xfrm>
            <a:off x="108000" y="105084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108000" y="232740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108000" y="360684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 rot="10800000">
            <a:off x="-3600" y="1303560"/>
            <a:ext cx="43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4"/>
          <p:cNvSpPr/>
          <p:nvPr/>
        </p:nvSpPr>
        <p:spPr>
          <a:xfrm rot="10800000">
            <a:off x="-3240" y="261936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 rot="10800000">
            <a:off x="-360" y="384192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2303640" y="247680"/>
            <a:ext cx="45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OUR</a:t>
            </a:r>
            <a:r>
              <a:rPr b="0" lang="en-US" sz="2800" spc="-1" strike="noStrike">
                <a:solidFill>
                  <a:srgbClr val="dc2f22"/>
                </a:solidFill>
                <a:latin typeface="ChunkFiv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HEAD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773-6B30-46A7-A0BE-3141F9923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 flipV="1">
            <a:off x="2168640" y="1275840"/>
            <a:ext cx="0" cy="251964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7"/>
          <p:cNvSpPr/>
          <p:nvPr/>
        </p:nvSpPr>
        <p:spPr>
          <a:xfrm flipV="1">
            <a:off x="2247840" y="1275840"/>
            <a:ext cx="1800" cy="2519640"/>
          </a:xfrm>
          <a:prstGeom prst="line">
            <a:avLst/>
          </a:prstGeom>
          <a:ln w="38160">
            <a:solidFill>
              <a:srgbClr val="3f3f3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2392200" y="139212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hunkFive"/>
              </a:rPr>
              <a:t>THERE IS MANG A PERSON IN THE WORLD WHO IS ORDINARY IN OUR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6"/>
          <p:cNvSpPr/>
          <p:nvPr/>
        </p:nvSpPr>
        <p:spPr>
          <a:xfrm rot="16200000">
            <a:off x="605520" y="219744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163-8DCD-4CBB-BC80-1B13D98E36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18B-89F4-4386-BB3A-6366406C59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2700360" y="1987560"/>
            <a:ext cx="1871640" cy="5842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2700360" y="19875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THANK  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6E1-583E-48B6-97EA-DD62DBF89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2625840" y="992160"/>
            <a:ext cx="3892320" cy="71604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664000" y="979560"/>
            <a:ext cx="38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95560" y="2282760"/>
            <a:ext cx="49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IN THE ETERNAL UNIVERSE, EVERU HUMAN BEING HAS A ONE-OFF CHANCE TO LIVE—HIS EXISTENCE IS UNIQUE AND IRRETRIEVA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7"/>
          <p:cNvSpPr/>
          <p:nvPr/>
        </p:nvSpPr>
        <p:spPr>
          <a:xfrm>
            <a:off x="2446200" y="1924200"/>
            <a:ext cx="4251600" cy="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3"/>
          <p:cNvSpPr/>
          <p:nvPr/>
        </p:nvSpPr>
        <p:spPr>
          <a:xfrm>
            <a:off x="2446200" y="1995480"/>
            <a:ext cx="4251600" cy="1440"/>
          </a:xfrm>
          <a:prstGeom prst="line">
            <a:avLst/>
          </a:prstGeom>
          <a:ln w="38160">
            <a:solidFill>
              <a:srgbClr val="3f3f3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F0F-9471-4A22-8DA0-401768174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108000" y="114480"/>
            <a:ext cx="8928000" cy="492732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1089000" y="577800"/>
            <a:ext cx="2647800" cy="4888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95480" y="54612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012680" y="1185840"/>
            <a:ext cx="540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WAS BROKEN BY G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IMMEDIATELY AFTERWR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047600" y="2716200"/>
            <a:ext cx="712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67280" y="411120"/>
            <a:ext cx="423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ldine721 Lt BT"/>
              </a:rPr>
              <a:t>Marilyn Monr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459240" y="9237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Aldine721 Lt BT"/>
              </a:rPr>
              <a:t>the act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353960" y="1625760"/>
            <a:ext cx="3894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Marilyn Monroe personified Hollywood glamour with an unparalleled glow and energy that enamored the world. Although she was an alluring beauty with voluptuous curves and a generous pout, Marilyn was more than a '50s sex godd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949320" y="3222720"/>
            <a:ext cx="79423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unkFive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unkFive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E WOMAN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STARTED IT A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682560" y="3079800"/>
            <a:ext cx="1152720" cy="1150920"/>
          </a:xfrm>
          <a:prstGeom prst="ellipse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6588000" y="1042920"/>
            <a:ext cx="1343160" cy="1317600"/>
          </a:xfrm>
          <a:prstGeom prst="rect">
            <a:avLst/>
          </a:prstGeom>
          <a:ln w="0">
            <a:noFill/>
          </a:ln>
        </p:spPr>
      </p:pic>
      <p:sp>
        <p:nvSpPr>
          <p:cNvPr id="68" name="椭圆 11"/>
          <p:cNvSpPr/>
          <p:nvPr/>
        </p:nvSpPr>
        <p:spPr>
          <a:xfrm>
            <a:off x="5994360" y="1701720"/>
            <a:ext cx="1368360" cy="136836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2"/>
          <p:cNvSpPr/>
          <p:nvPr/>
        </p:nvSpPr>
        <p:spPr>
          <a:xfrm>
            <a:off x="7093080" y="1738440"/>
            <a:ext cx="1368360" cy="136836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"/>
          <p:cNvSpPr/>
          <p:nvPr/>
        </p:nvSpPr>
        <p:spPr>
          <a:xfrm>
            <a:off x="6575400" y="1041480"/>
            <a:ext cx="1368360" cy="1319040"/>
          </a:xfrm>
          <a:prstGeom prst="ellipse">
            <a:avLst/>
          </a:prstGeom>
          <a:solidFill>
            <a:srgbClr val="b9cd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126120" y="225432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FAM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7213680" y="225576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BEAUTI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FFB-8560-4C3A-8C4A-5B3884D9B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136440" y="108000"/>
            <a:ext cx="892836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8"/>
          <p:cNvSpPr/>
          <p:nvPr/>
        </p:nvSpPr>
        <p:spPr>
          <a:xfrm>
            <a:off x="2538360" y="635040"/>
            <a:ext cx="2222640" cy="648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9"/>
          <p:cNvSpPr/>
          <p:nvPr/>
        </p:nvSpPr>
        <p:spPr>
          <a:xfrm>
            <a:off x="907920" y="1693800"/>
            <a:ext cx="2184480" cy="180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1008000" y="63036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THEY MAKE TH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4908600" y="1851120"/>
            <a:ext cx="3384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955800" y="2282760"/>
            <a:ext cx="3609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6156360" y="782640"/>
            <a:ext cx="720720" cy="71928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7292880" y="768240"/>
            <a:ext cx="735120" cy="73368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4"/>
          <p:cNvSpPr/>
          <p:nvPr/>
        </p:nvSpPr>
        <p:spPr>
          <a:xfrm>
            <a:off x="5003640" y="760320"/>
            <a:ext cx="735120" cy="7430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con-Discussion"/>
          <p:cNvSpPr/>
          <p:nvPr/>
        </p:nvSpPr>
        <p:spPr>
          <a:xfrm>
            <a:off x="5065560" y="934920"/>
            <a:ext cx="59544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C:\Users\v-jtobey.REDMOND\AppData\Local\MetroStyleAddIn\Icons\Data Download.wmf"/>
          <p:cNvPicPr/>
          <p:nvPr/>
        </p:nvPicPr>
        <p:blipFill>
          <a:blip r:embed="rId1"/>
          <a:stretch/>
        </p:blipFill>
        <p:spPr>
          <a:xfrm>
            <a:off x="7400880" y="920880"/>
            <a:ext cx="519120" cy="44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\\MAGNUM\Projects\Microsoft\Cloud Power FY12\Design\Icons\PNGs\Pooled.pn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6167520" y="809640"/>
            <a:ext cx="703080" cy="70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6A6-BC33-498A-9397-7B976D1E5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260360" y="1563840"/>
            <a:ext cx="35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THE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625920" y="2055960"/>
            <a:ext cx="3610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4575240" y="1930320"/>
            <a:ext cx="144360" cy="144720"/>
          </a:xfrm>
          <a:prstGeom prst="ellipse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F29-8440-4A97-BA0A-8ED814548B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108000" y="339840"/>
            <a:ext cx="199800" cy="4888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56520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335268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605628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601560" y="1576440"/>
            <a:ext cx="828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778320" y="11970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hunkFive"/>
              </a:rPr>
              <a:t>THEY MAK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24000" y="25884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5"/>
          <p:cNvGrpSpPr/>
          <p:nvPr/>
        </p:nvGrpSpPr>
        <p:grpSpPr>
          <a:xfrm>
            <a:off x="988920" y="2212920"/>
            <a:ext cx="1584360" cy="960480"/>
            <a:chOff x="988920" y="2212920"/>
            <a:chExt cx="1584360" cy="960480"/>
          </a:xfrm>
        </p:grpSpPr>
        <p:sp>
          <p:nvSpPr>
            <p:cNvPr id="98" name="圆角矩形 26"/>
            <p:cNvSpPr/>
            <p:nvPr/>
          </p:nvSpPr>
          <p:spPr>
            <a:xfrm>
              <a:off x="98892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7"/>
            <p:cNvSpPr/>
            <p:nvPr/>
          </p:nvSpPr>
          <p:spPr>
            <a:xfrm>
              <a:off x="988920" y="2474640"/>
              <a:ext cx="1202040" cy="69876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8"/>
            <p:cNvSpPr/>
            <p:nvPr/>
          </p:nvSpPr>
          <p:spPr>
            <a:xfrm>
              <a:off x="1371240" y="2212920"/>
              <a:ext cx="1202040" cy="69876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9"/>
          <p:cNvGrpSpPr/>
          <p:nvPr/>
        </p:nvGrpSpPr>
        <p:grpSpPr>
          <a:xfrm>
            <a:off x="3716280" y="2212920"/>
            <a:ext cx="1584360" cy="960480"/>
            <a:chOff x="3716280" y="2212920"/>
            <a:chExt cx="1584360" cy="960480"/>
          </a:xfrm>
        </p:grpSpPr>
        <p:sp>
          <p:nvSpPr>
            <p:cNvPr id="102" name="圆角矩形 30"/>
            <p:cNvSpPr/>
            <p:nvPr/>
          </p:nvSpPr>
          <p:spPr>
            <a:xfrm>
              <a:off x="371628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31"/>
            <p:cNvSpPr/>
            <p:nvPr/>
          </p:nvSpPr>
          <p:spPr>
            <a:xfrm>
              <a:off x="3716280" y="2474640"/>
              <a:ext cx="1202040" cy="69876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2"/>
            <p:cNvSpPr/>
            <p:nvPr/>
          </p:nvSpPr>
          <p:spPr>
            <a:xfrm>
              <a:off x="4098600" y="2212920"/>
              <a:ext cx="1202040" cy="69876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33"/>
          <p:cNvGrpSpPr/>
          <p:nvPr/>
        </p:nvGrpSpPr>
        <p:grpSpPr>
          <a:xfrm>
            <a:off x="6443640" y="2212920"/>
            <a:ext cx="1584360" cy="960480"/>
            <a:chOff x="6443640" y="2212920"/>
            <a:chExt cx="1584360" cy="960480"/>
          </a:xfrm>
        </p:grpSpPr>
        <p:sp>
          <p:nvSpPr>
            <p:cNvPr id="106" name="圆角矩形 34"/>
            <p:cNvSpPr/>
            <p:nvPr/>
          </p:nvSpPr>
          <p:spPr>
            <a:xfrm>
              <a:off x="644364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35"/>
            <p:cNvSpPr/>
            <p:nvPr/>
          </p:nvSpPr>
          <p:spPr>
            <a:xfrm>
              <a:off x="6443640" y="2474640"/>
              <a:ext cx="1202040" cy="6987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6"/>
            <p:cNvSpPr/>
            <p:nvPr/>
          </p:nvSpPr>
          <p:spPr>
            <a:xfrm>
              <a:off x="6825960" y="2212920"/>
              <a:ext cx="1202040" cy="6987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8"/>
          <p:cNvSpPr/>
          <p:nvPr/>
        </p:nvSpPr>
        <p:spPr>
          <a:xfrm>
            <a:off x="407196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7"/>
          <p:cNvSpPr/>
          <p:nvPr/>
        </p:nvSpPr>
        <p:spPr>
          <a:xfrm>
            <a:off x="124344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8"/>
          <p:cNvSpPr/>
          <p:nvPr/>
        </p:nvSpPr>
        <p:spPr>
          <a:xfrm>
            <a:off x="680400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720" y="844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30B-038F-4CDF-AB82-BBC24CA6A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2" descr=""/>
          <p:cNvPicPr/>
          <p:nvPr/>
        </p:nvPicPr>
        <p:blipFill>
          <a:blip r:embed="rId1"/>
          <a:srcRect l="-7244" t="0" r="21266" b="2539"/>
          <a:stretch/>
        </p:blipFill>
        <p:spPr>
          <a:xfrm>
            <a:off x="3247920" y="122400"/>
            <a:ext cx="5772240" cy="49068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4"/>
          <p:cNvSpPr/>
          <p:nvPr/>
        </p:nvSpPr>
        <p:spPr>
          <a:xfrm>
            <a:off x="372960" y="-452520"/>
            <a:ext cx="576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Hancock"/>
                <a:ea typeface="宋体"/>
              </a:rPr>
              <a:t>kel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"/>
          <p:cNvSpPr/>
          <p:nvPr/>
        </p:nvSpPr>
        <p:spPr>
          <a:xfrm flipV="1">
            <a:off x="3825720" y="1901520"/>
            <a:ext cx="0" cy="3136680"/>
          </a:xfrm>
          <a:prstGeom prst="line">
            <a:avLst/>
          </a:prstGeom>
          <a:ln w="20304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042920" y="134784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WHY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STILL HAVEN’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MARRIEO BILLY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81080" y="2500200"/>
            <a:ext cx="34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033560" y="3233880"/>
            <a:ext cx="1233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349360" y="3233880"/>
            <a:ext cx="125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8B7-A42A-4C16-99D4-C84B31C3F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716360" y="55548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IT IS NOT EAS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BE </a:t>
            </a: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ONE </a:t>
            </a: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REALLY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819680" y="2279520"/>
            <a:ext cx="34257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971640" y="627120"/>
            <a:ext cx="3024000" cy="67932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1082520" y="703440"/>
            <a:ext cx="30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"/>
          <p:cNvSpPr/>
          <p:nvPr/>
        </p:nvSpPr>
        <p:spPr>
          <a:xfrm>
            <a:off x="682560" y="2643120"/>
            <a:ext cx="1501920" cy="150012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9"/>
          <p:cNvSpPr/>
          <p:nvPr/>
        </p:nvSpPr>
        <p:spPr>
          <a:xfrm>
            <a:off x="1851120" y="2935440"/>
            <a:ext cx="1280880" cy="128088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2832120" y="3270240"/>
            <a:ext cx="1019160" cy="101916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971640" y="2994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2050920" y="3282840"/>
            <a:ext cx="10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2987640" y="35496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11280" y="1852560"/>
            <a:ext cx="14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3156120" y="2643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1901880" y="22114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s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646-AED2-4266-B39C-2D79EFBD7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1:48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6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