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90E4-6E79-4769-8C14-676EC28BB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E6D1-161C-4DFA-BFE8-4967D375B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F2A1-D5C3-4ED4-850C-D41BF119B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2247-4D65-4EAE-9389-61FE0B022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A794-FB8A-4113-97BE-1199D65A2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5242-D596-4450-B9A4-333D976D1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6540-61DC-4EB7-ABD2-082B4AE55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95E9-9D68-48CC-AAD2-991D686FE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F3ED-CABE-4D4E-9295-79AE30386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15C0-129B-45A2-8C2B-3BD49B7E5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E7EE-2F1F-4824-9A7D-C5BBAFF2A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46C2-355A-4AF0-9085-9FD566268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53B564A-93C2-48C7-A8EC-1DF9A7C8878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3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41416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母亲节幻灯片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80600" y="349380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DE7C65E-566D-409F-9AD4-292BCC03A26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括标题和文本格式（包括字体，字体大小，对齐方式等）的设置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1D84-327E-41C0-A1D5-FBE35EA8A0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6B52FC4-F24F-41F7-9A94-8EB4CC001AD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bg1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468360" y="2233440"/>
            <a:ext cx="82072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1:19Z</dcterms:modified>
  <cp:revision>16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