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E20-64E1-430A-80F8-93F56A44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49A-714F-4352-BDF2-77AF19F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7F1-DF7C-43C3-92E3-8D0E0F64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69-0327-48F5-9FF0-BA2D900C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75B-1CA8-4206-AA28-E77282C8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998-67C8-4800-A374-3FFAB1A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720-050C-44AD-A0BF-59FEA7F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958-431B-4279-8521-9EFCCA6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CB8-7DCC-4555-9EA5-A507EB8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38B-6EDD-4D90-AE5C-7D36804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D26-919C-489F-9B6A-A880D3D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18B-1B3F-47D0-BD30-2CF79FB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644-06C2-4401-9CD4-BB9DB1C6F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jieri/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4" descr="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6516720" y="4076640"/>
            <a:ext cx="208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ff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1080" y="836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母亲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1.png"/>
          <p:cNvPicPr/>
          <p:nvPr/>
        </p:nvPicPr>
        <p:blipFill>
          <a:blip r:embed="rId2"/>
          <a:srcRect l="18705" t="7777" r="19908" b="12344"/>
          <a:stretch/>
        </p:blipFill>
        <p:spPr>
          <a:xfrm>
            <a:off x="1692360" y="614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2.png"/>
          <p:cNvPicPr/>
          <p:nvPr/>
        </p:nvPicPr>
        <p:blipFill>
          <a:blip r:embed="rId3"/>
          <a:srcRect l="26668" t="17035" r="27129" b="21110"/>
          <a:stretch/>
        </p:blipFill>
        <p:spPr>
          <a:xfrm>
            <a:off x="2411280" y="1197000"/>
            <a:ext cx="42246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ext"/>
          <p:cNvPicPr/>
          <p:nvPr/>
        </p:nvPicPr>
        <p:blipFill>
          <a:blip r:embed="rId4"/>
          <a:stretch/>
        </p:blipFill>
        <p:spPr>
          <a:xfrm>
            <a:off x="3397320" y="2284560"/>
            <a:ext cx="232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2" dur="2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998080" y="3259080"/>
            <a:ext cx="31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1917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99A-0F95-4E42-86DC-6778AB741A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8:23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1:18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