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EE91-F723-4BF8-B90C-F90A84830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3699-1CF2-4685-9AC5-C7484E8F7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41BE-0903-4935-98C8-C7B9F750A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EF05-3153-4A0F-A272-950F74356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162E-D130-4ADC-8CFC-64CF0B546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1BB4-98CD-4C45-BF6B-E225A4EB1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EC4B-8B96-4572-9A9E-8E38754B3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9F20-6F55-4FEA-A512-373C6B216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ECF7-45E7-4958-AC28-895D59C74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2009-C2A0-4F22-BC96-3B9FCFA0E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8760-1C68-44E2-9606-CEC6DF8DB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A3BD-FDBB-4A07-BF7D-27F01886B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DF825C8-FED6-437F-8BA7-DC0425B1D5FF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3" descr="1"/>
          <p:cNvPicPr/>
          <p:nvPr/>
        </p:nvPicPr>
        <p:blipFill>
          <a:blip r:embed="rId3"/>
          <a:stretch/>
        </p:blipFill>
        <p:spPr>
          <a:xfrm>
            <a:off x="7097760" y="333360"/>
            <a:ext cx="15778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节系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80600" y="529236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1"/>
          <p:cNvPicPr/>
          <p:nvPr/>
        </p:nvPicPr>
        <p:blipFill>
          <a:blip r:embed="rId1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2AF8C00-4D1A-4D38-A4A8-156020D889F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5800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3319-B0D6-4BB7-9370-5EF5A17CE2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99A672C-C086-4F61-95D8-838C616D9C1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468360" y="31640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1"/>
          <p:cNvPicPr/>
          <p:nvPr/>
        </p:nvPicPr>
        <p:blipFill>
          <a:blip r:embed="rId2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SUNNY-PC</cp:lastModifiedBy>
  <dcterms:modified xsi:type="dcterms:W3CDTF">2015-09-18T13:21:20Z</dcterms:modified>
  <cp:revision>16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