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F542-88C7-4BF1-9D1A-662061A2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71600" y="54601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5192-DCB5-4E60-B41D-77D5B86C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5156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22C-F7BD-40C9-A46D-D6F9ADB8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35560" y="51814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99880" y="51814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71600" y="54601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35560" y="54601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699880" y="54601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3C7F-C550-41AD-8703-DE0BD3D8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C05D-55E0-4A1A-BF05-732052CD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59C2-EFE4-4692-BEEB-1A1D1E54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D1D9-93DD-4A61-AA52-B6EF6163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3046-7269-45F7-AED1-2B325994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136E-C70F-417A-9125-23C4E17E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42FC-7B93-4F85-B2FC-AEB212E2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FBEB-C1B8-4532-87D8-F9374AD1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F1D-8540-42C9-B0B9-7DF99991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5156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2924-4372-4E19-8CC7-2547D59E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54601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3405-5D3B-4362-A0E0-4465FD17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371600" y="54601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175D-4898-4561-82B3-69D60258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5156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D92B-113D-4DAA-A757-C01D64F4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35560" y="51814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699880" y="51814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371600" y="54601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35560" y="54601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699880" y="54601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8DC4-D384-49B5-814B-554C9AED3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1DA-F5D3-4B8E-9E4E-40C3FC01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A151-027B-47AC-A282-AD118EEE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1D6-E628-4B39-96A8-A4DA19AF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299-50F0-4D5C-9D7E-8501FCA1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1D7-9F56-49CF-A5FB-672162DB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51560" y="54601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8BD-5678-490B-B13E-C2377345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51814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54601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709-11D0-40F8-9781-F870CD56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"/>
            <a:ext cx="9165960" cy="1044720"/>
            <a:chOff x="0" y="228600"/>
            <a:chExt cx="9165960" cy="1044720"/>
          </a:xfrm>
        </p:grpSpPr>
        <p:sp>
          <p:nvSpPr>
            <p:cNvPr id="1" name=""/>
            <p:cNvSpPr/>
            <p:nvPr/>
          </p:nvSpPr>
          <p:spPr>
            <a:xfrm>
              <a:off x="0" y="816120"/>
              <a:ext cx="9144000" cy="45720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5972040" y="228600"/>
              <a:ext cx="3193920" cy="874800"/>
              <a:chOff x="5972040" y="228600"/>
              <a:chExt cx="3193920" cy="874800"/>
            </a:xfrm>
          </p:grpSpPr>
          <p:sp>
            <p:nvSpPr>
              <p:cNvPr id="3" name=""/>
              <p:cNvSpPr/>
              <p:nvPr/>
            </p:nvSpPr>
            <p:spPr>
              <a:xfrm>
                <a:off x="5972040" y="231840"/>
                <a:ext cx="1445760" cy="871560"/>
              </a:xfrm>
              <a:prstGeom prst="parallelogram">
                <a:avLst>
                  <a:gd name="adj" fmla="val 43321"/>
                </a:avLst>
              </a:pr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0800000">
                <a:off x="7114680" y="231120"/>
                <a:ext cx="1479240" cy="871560"/>
              </a:xfrm>
              <a:custGeom>
                <a:avLst/>
                <a:gdLst>
                  <a:gd name="textAreaLeft" fmla="*/ 325080 w 1479240"/>
                  <a:gd name="textAreaRight" fmla="*/ 1154160 w 1479240"/>
                  <a:gd name="textAreaTop" fmla="*/ 191520 h 871560"/>
                  <a:gd name="textAreaBottom" fmla="*/ 680040 h 87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920" y="228600"/>
                <a:ext cx="878040" cy="871920"/>
              </a:xfrm>
              <a:custGeom>
                <a:avLst/>
                <a:gdLst/>
                <a:ahLst/>
                <a:rect l="l" t="t" r="r" b="b"/>
                <a:pathLst>
                  <a:path w="1254" h="1270">
                    <a:moveTo>
                      <a:pt x="0" y="0"/>
                    </a:moveTo>
                    <a:lnTo>
                      <a:pt x="514" y="1269"/>
                    </a:lnTo>
                    <a:lnTo>
                      <a:pt x="1254" y="1270"/>
                    </a:lnTo>
                    <a:lnTo>
                      <a:pt x="125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380520"/>
              <a:ext cx="9144000" cy="754560"/>
              <a:chOff x="0" y="380520"/>
              <a:chExt cx="9144000" cy="75456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384120"/>
                <a:ext cx="9144000" cy="750960"/>
              </a:xfrm>
              <a:prstGeom prst="rect">
                <a:avLst/>
              </a:prstGeom>
              <a:solidFill>
                <a:srgbClr val="7cd8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72200" y="380880"/>
                <a:ext cx="1143000" cy="746280"/>
              </a:xfrm>
              <a:prstGeom prst="parallelogram">
                <a:avLst>
                  <a:gd name="adj" fmla="val 46352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rot="10800000">
                <a:off x="7086600" y="380520"/>
                <a:ext cx="1324080" cy="746280"/>
              </a:xfrm>
              <a:custGeom>
                <a:avLst/>
                <a:gdLst>
                  <a:gd name="textAreaLeft" fmla="*/ 291240 w 1324080"/>
                  <a:gd name="textAreaRight" fmla="*/ 1032840 w 1324080"/>
                  <a:gd name="textAreaTop" fmla="*/ 164160 h 746280"/>
                  <a:gd name="textAreaBottom" fmla="*/ 582120 h 74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36B8-465A-45A2-B5E4-B4CD8D39CA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150400" y="380880"/>
            <a:ext cx="993600" cy="746280"/>
          </a:xfrm>
          <a:custGeom>
            <a:avLst/>
            <a:gdLst/>
            <a:ahLst/>
            <a:rect l="l" t="t" r="r" b="b"/>
            <a:pathLst>
              <a:path w="793" h="672">
                <a:moveTo>
                  <a:pt x="0" y="0"/>
                </a:moveTo>
                <a:lnTo>
                  <a:pt x="265" y="672"/>
                </a:lnTo>
                <a:lnTo>
                  <a:pt x="793" y="672"/>
                </a:lnTo>
                <a:lnTo>
                  <a:pt x="793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" name="" descr=""/>
          <p:cNvPicPr/>
          <p:nvPr/>
        </p:nvPicPr>
        <p:blipFill>
          <a:blip r:embed="rId5"/>
          <a:srcRect l="0" t="0" r="7126" b="0"/>
          <a:stretch/>
        </p:blipFill>
        <p:spPr>
          <a:xfrm>
            <a:off x="3352680" y="1292400"/>
            <a:ext cx="5791320" cy="556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9ebe"/>
            </a:gs>
            <a:gs pos="100000">
              <a:srgbClr val="9192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86120"/>
            <a:ext cx="9144000" cy="200808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044800" y="2438280"/>
            <a:ext cx="7108200" cy="2022480"/>
            <a:chOff x="2044800" y="2438280"/>
            <a:chExt cx="7108200" cy="2022480"/>
          </a:xfrm>
        </p:grpSpPr>
        <p:sp>
          <p:nvSpPr>
            <p:cNvPr id="55" name=""/>
            <p:cNvSpPr/>
            <p:nvPr/>
          </p:nvSpPr>
          <p:spPr>
            <a:xfrm>
              <a:off x="2044800" y="2446200"/>
              <a:ext cx="3217680" cy="2014560"/>
            </a:xfrm>
            <a:prstGeom prst="parallelogram">
              <a:avLst>
                <a:gd name="adj" fmla="val 41712"/>
              </a:avLst>
            </a:prstGeom>
            <a:solidFill>
              <a:srgbClr val="ffffff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4588560" y="2445840"/>
              <a:ext cx="3292200" cy="2014560"/>
            </a:xfrm>
            <a:custGeom>
              <a:avLst/>
              <a:gdLst>
                <a:gd name="textAreaLeft" fmla="*/ 723960 w 3292200"/>
                <a:gd name="textAreaRight" fmla="*/ 2568240 w 3292200"/>
                <a:gd name="textAreaTop" fmla="*/ 442800 h 2014560"/>
                <a:gd name="textAreaBottom" fmla="*/ 1571760 h 20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ffff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98560" y="2438280"/>
              <a:ext cx="1954440" cy="2016000"/>
            </a:xfrm>
            <a:custGeom>
              <a:avLst/>
              <a:gdLst/>
              <a:ahLst/>
              <a:rect l="l" t="t" r="r" b="b"/>
              <a:pathLst>
                <a:path w="1254" h="1270">
                  <a:moveTo>
                    <a:pt x="0" y="0"/>
                  </a:moveTo>
                  <a:lnTo>
                    <a:pt x="514" y="1269"/>
                  </a:lnTo>
                  <a:lnTo>
                    <a:pt x="1254" y="1270"/>
                  </a:lnTo>
                  <a:lnTo>
                    <a:pt x="125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0" y="2716200"/>
            <a:ext cx="8991720" cy="2008080"/>
          </a:xfrm>
          <a:prstGeom prst="rect">
            <a:avLst/>
          </a:prstGeom>
          <a:solidFill>
            <a:srgbClr val="7cd8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14480" y="2705040"/>
            <a:ext cx="3233880" cy="2014560"/>
          </a:xfrm>
          <a:prstGeom prst="parallelogram">
            <a:avLst>
              <a:gd name="adj" fmla="val 4192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CA8F-767E-4A16-9E69-7BA6376B44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708280"/>
            <a:ext cx="1985760" cy="2011320"/>
          </a:xfrm>
          <a:custGeom>
            <a:avLst/>
            <a:gdLst/>
            <a:ahLst/>
            <a:rect l="l" t="t" r="r" b="b"/>
            <a:pathLst>
              <a:path w="1251" h="1274">
                <a:moveTo>
                  <a:pt x="0" y="0"/>
                </a:moveTo>
                <a:lnTo>
                  <a:pt x="530" y="1274"/>
                </a:lnTo>
                <a:lnTo>
                  <a:pt x="1248" y="1274"/>
                </a:lnTo>
                <a:lnTo>
                  <a:pt x="1251" y="1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19440" y="2711520"/>
            <a:ext cx="3329280" cy="2017800"/>
          </a:xfrm>
          <a:custGeom>
            <a:avLst/>
            <a:gdLst/>
            <a:ahLst/>
            <a:rect l="l" t="t" r="r" b="b"/>
            <a:pathLst>
              <a:path w="2097" h="1271">
                <a:moveTo>
                  <a:pt x="503" y="0"/>
                </a:moveTo>
                <a:lnTo>
                  <a:pt x="1566" y="0"/>
                </a:lnTo>
                <a:lnTo>
                  <a:pt x="2097" y="1268"/>
                </a:lnTo>
                <a:lnTo>
                  <a:pt x="0" y="1271"/>
                </a:lnTo>
                <a:lnTo>
                  <a:pt x="503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9ebe"/>
            </a:gs>
            <a:gs pos="100000">
              <a:srgbClr val="9192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美容医疗幻灯片打包下载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38080" y="2209680"/>
            <a:ext cx="7397640" cy="2895480"/>
            <a:chOff x="838080" y="2209680"/>
            <a:chExt cx="7397640" cy="2895480"/>
          </a:xfrm>
        </p:grpSpPr>
        <p:sp>
          <p:nvSpPr>
            <p:cNvPr id="266" name=""/>
            <p:cNvSpPr/>
            <p:nvPr/>
          </p:nvSpPr>
          <p:spPr>
            <a:xfrm>
              <a:off x="2932200" y="296640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83240" y="2966400"/>
              <a:ext cx="488880" cy="54612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cd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4160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cd8e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4160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cd8e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78760" y="2349360"/>
              <a:ext cx="1819800" cy="1780560"/>
            </a:xfrm>
            <a:prstGeom prst="ellipse">
              <a:avLst/>
            </a:prstGeom>
            <a:gradFill rotWithShape="0">
              <a:gsLst>
                <a:gs pos="0">
                  <a:srgbClr val="427480"/>
                </a:gs>
                <a:gs pos="50000">
                  <a:srgbClr val="7cd8ee"/>
                </a:gs>
                <a:gs pos="100000">
                  <a:srgbClr val="4274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09360" y="236016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7cd8ee">
                    <a:alpha val="0"/>
                  </a:srgbClr>
                </a:gs>
                <a:gs pos="100000">
                  <a:srgbClr val="4e88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77040" y="2438280"/>
              <a:ext cx="16383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8080" y="2209680"/>
              <a:ext cx="2094120" cy="204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49eb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8080" y="2209680"/>
              <a:ext cx="2094120" cy="2048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149eb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74520" y="234324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0a5566"/>
                </a:gs>
                <a:gs pos="50000">
                  <a:srgbClr val="149ebe"/>
                </a:gs>
                <a:gs pos="100000">
                  <a:srgbClr val="0a55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76320" y="234648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149ebe">
                    <a:alpha val="0"/>
                  </a:srgbClr>
                </a:gs>
                <a:gs pos="100000">
                  <a:srgbClr val="0c63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5600" y="2432520"/>
              <a:ext cx="16383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1091880" y="2456280"/>
              <a:ext cx="1586160" cy="1551960"/>
              <a:chOff x="1091880" y="2456280"/>
              <a:chExt cx="1586160" cy="1551960"/>
            </a:xfrm>
          </p:grpSpPr>
          <p:sp>
            <p:nvSpPr>
              <p:cNvPr id="279" name=""/>
              <p:cNvSpPr/>
              <p:nvPr/>
            </p:nvSpPr>
            <p:spPr>
              <a:xfrm>
                <a:off x="109188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11204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2860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1464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349056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90560" y="2215800"/>
              <a:ext cx="2094120" cy="2048040"/>
            </a:xfrm>
            <a:prstGeom prst="ellipse">
              <a:avLst/>
            </a:prstGeom>
            <a:gradFill rotWithShape="0">
              <a:gsLst>
                <a:gs pos="0">
                  <a:srgbClr val="005e46"/>
                </a:gs>
                <a:gs pos="100000">
                  <a:srgbClr val="00cc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27720" y="234936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006d52"/>
                </a:gs>
                <a:gs pos="50000">
                  <a:srgbClr val="00cc99"/>
                </a:gs>
                <a:gs pos="100000">
                  <a:srgbClr val="006d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29160" y="2352600"/>
              <a:ext cx="1820160" cy="1780560"/>
            </a:xfrm>
            <a:prstGeom prst="ellipse">
              <a:avLst/>
            </a:prstGeom>
            <a:gradFill rotWithShape="0">
              <a:gsLst>
                <a:gs pos="0">
                  <a:srgbClr val="00cc99">
                    <a:alpha val="0"/>
                  </a:srgbClr>
                </a:gs>
                <a:gs pos="100000">
                  <a:srgbClr val="0081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18440" y="2438280"/>
              <a:ext cx="16383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3744360" y="2456280"/>
              <a:ext cx="1586160" cy="1551960"/>
              <a:chOff x="3744360" y="2456280"/>
              <a:chExt cx="1586160" cy="1551960"/>
            </a:xfrm>
          </p:grpSpPr>
          <p:sp>
            <p:nvSpPr>
              <p:cNvPr id="289" name=""/>
              <p:cNvSpPr/>
              <p:nvPr/>
            </p:nvSpPr>
            <p:spPr>
              <a:xfrm>
                <a:off x="374436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6452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8108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6712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406560" y="2456280"/>
              <a:ext cx="1586160" cy="1551960"/>
              <a:chOff x="6406560" y="2456280"/>
              <a:chExt cx="1586160" cy="1551960"/>
            </a:xfrm>
          </p:grpSpPr>
          <p:sp>
            <p:nvSpPr>
              <p:cNvPr id="294" name=""/>
              <p:cNvSpPr/>
              <p:nvPr/>
            </p:nvSpPr>
            <p:spPr>
              <a:xfrm>
                <a:off x="6406560" y="2456280"/>
                <a:ext cx="15861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26720" y="2464920"/>
                <a:ext cx="154800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443280" y="2479680"/>
                <a:ext cx="14720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29320" y="2519280"/>
                <a:ext cx="1308600" cy="1147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88560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3520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3520" y="4616280"/>
              <a:ext cx="199404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008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598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1948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cd8ee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295280" y="1523880"/>
            <a:ext cx="6858000" cy="4495680"/>
            <a:chOff x="1295280" y="1523880"/>
            <a:chExt cx="6858000" cy="4495680"/>
          </a:xfrm>
        </p:grpSpPr>
        <p:sp>
          <p:nvSpPr>
            <p:cNvPr id="307" name=""/>
            <p:cNvSpPr/>
            <p:nvPr/>
          </p:nvSpPr>
          <p:spPr>
            <a:xfrm>
              <a:off x="129528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7281f4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33760" y="335268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467160" y="3733560"/>
              <a:ext cx="1704960" cy="2028960"/>
              <a:chOff x="3467160" y="3733560"/>
              <a:chExt cx="1704960" cy="2028960"/>
            </a:xfrm>
          </p:grpSpPr>
          <p:sp>
            <p:nvSpPr>
              <p:cNvPr id="310" name=""/>
              <p:cNvSpPr/>
              <p:nvPr/>
            </p:nvSpPr>
            <p:spPr>
              <a:xfrm rot="20876400">
                <a:off x="3535560" y="49528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67160" y="37335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87680" y="37429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5320" y="37591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97480" y="38034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884760" y="43606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630080" y="3352680"/>
              <a:ext cx="1371240" cy="1718640"/>
              <a:chOff x="1630080" y="3352680"/>
              <a:chExt cx="1371240" cy="1718640"/>
            </a:xfrm>
          </p:grpSpPr>
          <p:sp>
            <p:nvSpPr>
              <p:cNvPr id="317" name=""/>
              <p:cNvSpPr/>
              <p:nvPr/>
            </p:nvSpPr>
            <p:spPr>
              <a:xfrm rot="20826600">
                <a:off x="1706400" y="43430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1630080" y="3352680"/>
                <a:ext cx="1371240" cy="1441080"/>
                <a:chOff x="1630080" y="3352680"/>
                <a:chExt cx="1371240" cy="14410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630080" y="33526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648080" y="33609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61040" y="33742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732680" y="34110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910520" y="38588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4" name=""/>
            <p:cNvGrpSpPr/>
            <p:nvPr/>
          </p:nvGrpSpPr>
          <p:grpSpPr>
            <a:xfrm>
              <a:off x="1444680" y="1981080"/>
              <a:ext cx="1099440" cy="1139760"/>
              <a:chOff x="1444680" y="1981080"/>
              <a:chExt cx="1099440" cy="1139760"/>
            </a:xfrm>
          </p:grpSpPr>
          <p:sp>
            <p:nvSpPr>
              <p:cNvPr id="325" name=""/>
              <p:cNvSpPr/>
              <p:nvPr/>
            </p:nvSpPr>
            <p:spPr>
              <a:xfrm>
                <a:off x="1444680" y="258768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20640" y="198108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33240" y="198576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44400" y="199692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98400" y="202248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17560" y="23302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2849400" y="1523880"/>
              <a:ext cx="804960" cy="762120"/>
              <a:chOff x="2849400" y="1523880"/>
              <a:chExt cx="804960" cy="762120"/>
            </a:xfrm>
          </p:grpSpPr>
          <p:sp>
            <p:nvSpPr>
              <p:cNvPr id="332" name=""/>
              <p:cNvSpPr/>
              <p:nvPr/>
            </p:nvSpPr>
            <p:spPr>
              <a:xfrm>
                <a:off x="2849400" y="205740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71800" y="15238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81160" y="152712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87640" y="153324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024000" y="155232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042000" y="17478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789200" y="1873080"/>
            <a:ext cx="5800680" cy="42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990720" y="2016000"/>
            <a:ext cx="6887520" cy="3165480"/>
            <a:chOff x="990720" y="2016000"/>
            <a:chExt cx="6887520" cy="3165480"/>
          </a:xfrm>
        </p:grpSpPr>
        <p:sp>
          <p:nvSpPr>
            <p:cNvPr id="342" name=""/>
            <p:cNvSpPr/>
            <p:nvPr/>
          </p:nvSpPr>
          <p:spPr>
            <a:xfrm>
              <a:off x="990720" y="23238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23840" y="2332080"/>
              <a:ext cx="2098080" cy="2803320"/>
            </a:xfrm>
            <a:custGeom>
              <a:avLst/>
              <a:gdLst>
                <a:gd name="textAreaLeft" fmla="*/ 102240 w 2098080"/>
                <a:gd name="textAreaRight" fmla="*/ 1995840 w 209808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9">
                  <a:moveTo>
                    <a:pt x="3600" y="0"/>
                  </a:moveTo>
                  <a:arcTo wR="3600" hR="3600" stAng="16200000" swAng="-5400000"/>
                  <a:lnTo>
                    <a:pt x="0" y="25259"/>
                  </a:lnTo>
                  <a:arcTo wR="3600" hR="3600" stAng="10800000" swAng="-5400000"/>
                  <a:lnTo>
                    <a:pt x="18000" y="28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41120" y="4395600"/>
              <a:ext cx="20696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41120" y="2354040"/>
              <a:ext cx="20696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734840" y="2016000"/>
              <a:ext cx="642600" cy="642960"/>
              <a:chOff x="1734840" y="2016000"/>
              <a:chExt cx="642600" cy="642960"/>
            </a:xfrm>
          </p:grpSpPr>
          <p:sp>
            <p:nvSpPr>
              <p:cNvPr id="347" name=""/>
              <p:cNvSpPr/>
              <p:nvPr/>
            </p:nvSpPr>
            <p:spPr>
              <a:xfrm>
                <a:off x="1734840" y="2016000"/>
                <a:ext cx="64260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741320" y="2020680"/>
                <a:ext cx="62136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748880" y="202464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755720" y="203040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89560" y="204588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1874880" y="21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66680" y="2778120"/>
              <a:ext cx="2057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14640" y="2323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48120" y="2332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65400" y="4395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65400" y="2354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59120" y="2016000"/>
              <a:ext cx="642600" cy="642960"/>
              <a:chOff x="6459120" y="2016000"/>
              <a:chExt cx="642600" cy="642960"/>
            </a:xfrm>
          </p:grpSpPr>
          <p:sp>
            <p:nvSpPr>
              <p:cNvPr id="359" name=""/>
              <p:cNvSpPr/>
              <p:nvPr/>
            </p:nvSpPr>
            <p:spPr>
              <a:xfrm>
                <a:off x="6459120" y="2016000"/>
                <a:ext cx="64260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465600" y="2020680"/>
                <a:ext cx="62136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473160" y="202464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480000" y="203040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513840" y="204588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599160" y="21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90960" y="2778120"/>
              <a:ext cx="2057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52680" y="2323800"/>
              <a:ext cx="2163240" cy="2857680"/>
            </a:xfrm>
            <a:custGeom>
              <a:avLst/>
              <a:gdLst>
                <a:gd name="textAreaLeft" fmla="*/ 110880 w 2163240"/>
                <a:gd name="textAreaRight" fmla="*/ 2052360 w 216324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33">
                  <a:moveTo>
                    <a:pt x="3782" y="0"/>
                  </a:moveTo>
                  <a:arcTo wR="3782" hR="3782" stAng="16200000" swAng="-5400000"/>
                  <a:lnTo>
                    <a:pt x="0" y="24751"/>
                  </a:lnTo>
                  <a:arcTo wR="3782" hR="3782" stAng="10800000" swAng="-5400000"/>
                  <a:lnTo>
                    <a:pt x="17818" y="2853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85800" y="2332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03440" y="4395600"/>
              <a:ext cx="20696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03440" y="2354040"/>
              <a:ext cx="20696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97160" y="2016000"/>
              <a:ext cx="64260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03280" y="20206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11560" y="2023920"/>
              <a:ext cx="60732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17680" y="20304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2600" y="20462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36840" y="21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28640" y="2778120"/>
              <a:ext cx="20570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0" y="1905120"/>
            <a:ext cx="9144000" cy="3883320"/>
            <a:chOff x="0" y="1905120"/>
            <a:chExt cx="9144000" cy="3883320"/>
          </a:xfrm>
        </p:grpSpPr>
        <p:grpSp>
          <p:nvGrpSpPr>
            <p:cNvPr id="379" name=""/>
            <p:cNvGrpSpPr/>
            <p:nvPr/>
          </p:nvGrpSpPr>
          <p:grpSpPr>
            <a:xfrm>
              <a:off x="0" y="3140280"/>
              <a:ext cx="9144000" cy="147240"/>
              <a:chOff x="0" y="3140280"/>
              <a:chExt cx="9144000" cy="147240"/>
            </a:xfrm>
          </p:grpSpPr>
          <p:sp>
            <p:nvSpPr>
              <p:cNvPr id="380" name=""/>
              <p:cNvSpPr/>
              <p:nvPr/>
            </p:nvSpPr>
            <p:spPr>
              <a:xfrm>
                <a:off x="0" y="3140280"/>
                <a:ext cx="9144000" cy="40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0" y="3179880"/>
                <a:ext cx="9144000" cy="1076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762120" y="2522520"/>
              <a:ext cx="1891800" cy="3265920"/>
              <a:chOff x="762120" y="2522520"/>
              <a:chExt cx="1891800" cy="326592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1148760" y="3398760"/>
                <a:ext cx="1505160" cy="2389680"/>
                <a:chOff x="1148760" y="3398760"/>
                <a:chExt cx="1505160" cy="2389680"/>
              </a:xfrm>
            </p:grpSpPr>
            <p:grpSp>
              <p:nvGrpSpPr>
                <p:cNvPr id="384" name=""/>
                <p:cNvGrpSpPr/>
                <p:nvPr/>
              </p:nvGrpSpPr>
              <p:grpSpPr>
                <a:xfrm>
                  <a:off x="1148760" y="3554640"/>
                  <a:ext cx="1400040" cy="2233800"/>
                  <a:chOff x="1148760" y="3554640"/>
                  <a:chExt cx="1400040" cy="2233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3876600">
                    <a:off x="727560" y="44283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3876600">
                    <a:off x="2075040" y="529452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1579680" y="3398760"/>
                  <a:ext cx="1074240" cy="1713960"/>
                  <a:chOff x="1579680" y="3398760"/>
                  <a:chExt cx="1074240" cy="17139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 flipV="1" rot="3876600">
                    <a:off x="1256400" y="406872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V="1" rot="3876600">
                    <a:off x="2274840" y="474084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" name=""/>
              <p:cNvGrpSpPr/>
              <p:nvPr/>
            </p:nvGrpSpPr>
            <p:grpSpPr>
              <a:xfrm>
                <a:off x="762120" y="2522520"/>
                <a:ext cx="1289520" cy="1288440"/>
                <a:chOff x="762120" y="2522520"/>
                <a:chExt cx="1289520" cy="128844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62120" y="25225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62120" y="2522520"/>
                  <a:ext cx="128952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847440" y="260604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847440" y="2608920"/>
                  <a:ext cx="111852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902880" y="2663280"/>
                  <a:ext cx="100764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"/>
                <p:cNvGrpSpPr/>
                <p:nvPr/>
              </p:nvGrpSpPr>
              <p:grpSpPr>
                <a:xfrm>
                  <a:off x="918360" y="2678400"/>
                  <a:ext cx="976680" cy="977040"/>
                  <a:chOff x="918360" y="2678400"/>
                  <a:chExt cx="976680" cy="977040"/>
                </a:xfrm>
              </p:grpSpPr>
              <p:sp>
                <p:nvSpPr>
                  <p:cNvPr id="397" name=""/>
                  <p:cNvSpPr/>
                  <p:nvPr/>
                </p:nvSpPr>
                <p:spPr>
                  <a:xfrm>
                    <a:off x="918360" y="2678400"/>
                    <a:ext cx="97668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930600" y="2683800"/>
                    <a:ext cx="95328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940680" y="2693160"/>
                    <a:ext cx="90648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993960" y="2718000"/>
                    <a:ext cx="80568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1" name=""/>
              <p:cNvSpPr/>
              <p:nvPr/>
            </p:nvSpPr>
            <p:spPr>
              <a:xfrm rot="3925800">
                <a:off x="1147320" y="4380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3925800">
                <a:off x="1630440" y="4106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2644920" y="2522520"/>
              <a:ext cx="1977840" cy="3195720"/>
              <a:chOff x="2644920" y="2522520"/>
              <a:chExt cx="1977840" cy="319572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3117960" y="3328920"/>
                <a:ext cx="1504800" cy="2389320"/>
                <a:chOff x="3117960" y="3328920"/>
                <a:chExt cx="1504800" cy="23893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3117960" y="3484440"/>
                  <a:ext cx="1400040" cy="2233800"/>
                  <a:chOff x="3117960" y="3484440"/>
                  <a:chExt cx="1400040" cy="223380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rot="3876600">
                    <a:off x="2696760" y="43581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rot="3876600">
                    <a:off x="4044240" y="52246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3548520" y="3328920"/>
                  <a:ext cx="1074240" cy="1713960"/>
                  <a:chOff x="3548520" y="3328920"/>
                  <a:chExt cx="1074240" cy="17139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flipV="1" rot="3876600">
                    <a:off x="3225240" y="39988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V="1" rot="3876600">
                    <a:off x="4243680" y="46710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2644920" y="2522520"/>
                <a:ext cx="1290960" cy="1288440"/>
                <a:chOff x="2644920" y="2522520"/>
                <a:chExt cx="1290960" cy="12884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2644920" y="25225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644920" y="2522520"/>
                  <a:ext cx="12909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730240" y="260604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730240" y="2608920"/>
                  <a:ext cx="111960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785680" y="2663280"/>
                  <a:ext cx="100872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2801160" y="2678400"/>
                  <a:ext cx="977760" cy="977040"/>
                  <a:chOff x="2801160" y="2678400"/>
                  <a:chExt cx="977760" cy="97704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801160" y="2678400"/>
                    <a:ext cx="97776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813400" y="2683800"/>
                    <a:ext cx="95436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2823480" y="2693160"/>
                    <a:ext cx="90756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2876760" y="2718000"/>
                    <a:ext cx="80676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 rot="3925800">
                <a:off x="3053880" y="4309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3925800">
                <a:off x="3534840" y="4034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4591080" y="2522520"/>
              <a:ext cx="1976400" cy="3195720"/>
              <a:chOff x="4591080" y="2522520"/>
              <a:chExt cx="1976400" cy="319572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5062680" y="3328920"/>
                <a:ext cx="1504800" cy="2389320"/>
                <a:chOff x="5062680" y="3328920"/>
                <a:chExt cx="1504800" cy="238932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5062680" y="3484440"/>
                  <a:ext cx="1400040" cy="2233800"/>
                  <a:chOff x="5062680" y="3484440"/>
                  <a:chExt cx="1400040" cy="22338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rot="3876600">
                    <a:off x="4641480" y="4358160"/>
                    <a:ext cx="224208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3876600">
                    <a:off x="5988960" y="5224680"/>
                    <a:ext cx="35244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5493240" y="3328920"/>
                  <a:ext cx="1074240" cy="1713960"/>
                  <a:chOff x="5493240" y="3328920"/>
                  <a:chExt cx="1074240" cy="171396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 rot="3876600">
                    <a:off x="5169960" y="3998880"/>
                    <a:ext cx="1720440" cy="37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 rot="3876600">
                    <a:off x="6188400" y="4671000"/>
                    <a:ext cx="270360" cy="30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4591080" y="2522520"/>
                <a:ext cx="1289160" cy="1288440"/>
                <a:chOff x="4591080" y="2522520"/>
                <a:chExt cx="1289160" cy="1288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591080" y="25225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591080" y="2522520"/>
                  <a:ext cx="1289160" cy="128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676400" y="260604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676400" y="2608920"/>
                  <a:ext cx="1118160" cy="11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731840" y="2663280"/>
                  <a:ext cx="1007280" cy="1006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4747320" y="2678400"/>
                  <a:ext cx="976320" cy="977040"/>
                  <a:chOff x="4747320" y="2678400"/>
                  <a:chExt cx="976320" cy="9770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4747320" y="2678400"/>
                    <a:ext cx="976320" cy="977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4759560" y="2683800"/>
                    <a:ext cx="952920" cy="95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4769640" y="2693160"/>
                    <a:ext cx="906120" cy="8902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822920" y="2718000"/>
                    <a:ext cx="805320" cy="72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" name=""/>
              <p:cNvSpPr/>
              <p:nvPr/>
            </p:nvSpPr>
            <p:spPr>
              <a:xfrm rot="3925800">
                <a:off x="5037120" y="43110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3925800">
                <a:off x="5515920" y="4034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6519960" y="2381400"/>
              <a:ext cx="2168280" cy="3402360"/>
              <a:chOff x="6519960" y="2381400"/>
              <a:chExt cx="2168280" cy="340236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7185960" y="3398040"/>
                <a:ext cx="1502280" cy="2385720"/>
                <a:chOff x="7185960" y="3398040"/>
                <a:chExt cx="1502280" cy="238572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7185960" y="3553560"/>
                  <a:ext cx="1397880" cy="2230200"/>
                  <a:chOff x="7185960" y="3553560"/>
                  <a:chExt cx="1397880" cy="223020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rot="3876600">
                    <a:off x="6765480" y="4425840"/>
                    <a:ext cx="2238480" cy="48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rot="3876600">
                    <a:off x="8110080" y="5291280"/>
                    <a:ext cx="351720" cy="39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7615800" y="3398040"/>
                  <a:ext cx="1072440" cy="1711440"/>
                  <a:chOff x="7615800" y="3398040"/>
                  <a:chExt cx="1072440" cy="171144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 flipV="1" rot="3876600">
                    <a:off x="7292880" y="4067640"/>
                    <a:ext cx="1717920" cy="37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 rot="3876600">
                    <a:off x="8309520" y="4738680"/>
                    <a:ext cx="270000" cy="3045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3" name=""/>
              <p:cNvSpPr/>
              <p:nvPr/>
            </p:nvSpPr>
            <p:spPr>
              <a:xfrm>
                <a:off x="6519960" y="23814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19960" y="2381400"/>
                <a:ext cx="1549440" cy="1544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616800" y="24829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618240" y="2484720"/>
                <a:ext cx="1344600" cy="13413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80160" y="2549520"/>
                <a:ext cx="1211400" cy="1208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6697800" y="2568600"/>
                <a:ext cx="1173240" cy="1171800"/>
                <a:chOff x="6697800" y="2568600"/>
                <a:chExt cx="1173240" cy="117180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697800" y="2568600"/>
                  <a:ext cx="1173240" cy="117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2560" y="2575080"/>
                  <a:ext cx="1144800" cy="1142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24800" y="2586240"/>
                  <a:ext cx="1089000" cy="106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788520" y="2616120"/>
                  <a:ext cx="968040" cy="86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"/>
              <p:cNvSpPr/>
              <p:nvPr/>
            </p:nvSpPr>
            <p:spPr>
              <a:xfrm rot="3925800">
                <a:off x="7140240" y="43650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925800">
                <a:off x="7647480" y="41544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04616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3688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17880" y="194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64760" y="19051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69" name=""/>
            <p:cNvCxnSpPr>
              <a:stCxn id="465" idx="3"/>
              <a:endCxn id="466" idx="1"/>
            </p:cNvCxnSpPr>
            <p:nvPr/>
          </p:nvCxnSpPr>
          <p:spPr>
            <a:xfrm>
              <a:off x="1743120" y="2107800"/>
              <a:ext cx="11624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6" idx="3"/>
              <a:endCxn id="467" idx="1"/>
            </p:cNvCxnSpPr>
            <p:nvPr/>
          </p:nvCxnSpPr>
          <p:spPr>
            <a:xfrm>
              <a:off x="3634920" y="2107800"/>
              <a:ext cx="115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7" idx="3"/>
              <a:endCxn id="468" idx="1"/>
            </p:cNvCxnSpPr>
            <p:nvPr/>
          </p:nvCxnSpPr>
          <p:spPr>
            <a:xfrm>
              <a:off x="5516280" y="2107800"/>
              <a:ext cx="1159560" cy="25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86400" y="274320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7281f4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2743200"/>
            <a:ext cx="2590920" cy="266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149ebe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295280" y="2743200"/>
            <a:ext cx="2667240" cy="266688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3028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597120" y="1905120"/>
            <a:ext cx="1846440" cy="533160"/>
          </a:xfrm>
          <a:prstGeom prst="roundRect">
            <a:avLst>
              <a:gd name="adj" fmla="val 50000"/>
            </a:avLst>
          </a:prstGeom>
          <a:solidFill>
            <a:srgbClr val="149ebe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638680" y="1905120"/>
            <a:ext cx="184644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3b70"/>
              </a:gs>
              <a:gs pos="100000">
                <a:srgbClr val="7281f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477120" y="3200400"/>
            <a:ext cx="1511280" cy="2514600"/>
          </a:xfrm>
          <a:custGeom>
            <a:avLst/>
            <a:gdLst>
              <a:gd name="textAreaLeft" fmla="*/ 60840 w 1511280"/>
              <a:gd name="textAreaRight" fmla="*/ 1450440 w 1511280"/>
              <a:gd name="textAreaTop" fmla="*/ 60840 h 2514600"/>
              <a:gd name="textAreaBottom" fmla="*/ 2453760 h 2514600"/>
            </a:gdLst>
            <a:ahLst/>
            <a:rect l="textAreaLeft" t="textAreaTop" r="textAreaRight" b="textAreaBottom"/>
            <a:pathLst>
              <a:path w="21600" h="35937">
                <a:moveTo>
                  <a:pt x="2969" y="0"/>
                </a:moveTo>
                <a:arcTo wR="2969" hR="2969" stAng="16200000" swAng="-5400000"/>
                <a:lnTo>
                  <a:pt x="0" y="32968"/>
                </a:lnTo>
                <a:arcTo wR="2969" hR="2969" stAng="10800000" swAng="-5400000"/>
                <a:lnTo>
                  <a:pt x="18631" y="3593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9160" y="3200400"/>
            <a:ext cx="1525320" cy="2514600"/>
          </a:xfrm>
          <a:custGeom>
            <a:avLst/>
            <a:gdLst>
              <a:gd name="textAreaLeft" fmla="*/ 61200 w 1525320"/>
              <a:gd name="textAreaRight" fmla="*/ 1464120 w 1525320"/>
              <a:gd name="textAreaTop" fmla="*/ 61200 h 2514600"/>
              <a:gd name="textAreaBottom" fmla="*/ 2453400 h 2514600"/>
            </a:gdLst>
            <a:ahLst/>
            <a:rect l="textAreaLeft" t="textAreaTop" r="textAreaRight" b="textAreaBottom"/>
            <a:pathLst>
              <a:path w="21600" h="35606">
                <a:moveTo>
                  <a:pt x="2969" y="0"/>
                </a:moveTo>
                <a:arcTo wR="2969" hR="2969" stAng="16200000" swAng="-5400000"/>
                <a:lnTo>
                  <a:pt x="0" y="32637"/>
                </a:lnTo>
                <a:arcTo wR="2969" hR="2969" stAng="10800000" swAng="-5400000"/>
                <a:lnTo>
                  <a:pt x="18631" y="356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48120" y="3200400"/>
            <a:ext cx="1595160" cy="2514600"/>
          </a:xfrm>
          <a:custGeom>
            <a:avLst/>
            <a:gdLst>
              <a:gd name="textAreaLeft" fmla="*/ 64080 w 1595160"/>
              <a:gd name="textAreaRight" fmla="*/ 1531080 w 1595160"/>
              <a:gd name="textAreaTop" fmla="*/ 64080 h 2514600"/>
              <a:gd name="textAreaBottom" fmla="*/ 2450520 h 2514600"/>
            </a:gdLst>
            <a:ahLst/>
            <a:rect l="textAreaLeft" t="textAreaTop" r="textAreaRight" b="textAreaBottom"/>
            <a:pathLst>
              <a:path w="21600" h="34047">
                <a:moveTo>
                  <a:pt x="2969" y="0"/>
                </a:moveTo>
                <a:arcTo wR="2969" hR="2969" stAng="16200000" swAng="-5400000"/>
                <a:lnTo>
                  <a:pt x="0" y="31078"/>
                </a:lnTo>
                <a:arcTo wR="2969" hR="2969" stAng="10800000" swAng="-5400000"/>
                <a:lnTo>
                  <a:pt x="18631" y="3404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5280" y="3200400"/>
            <a:ext cx="1676520" cy="251460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14600"/>
              <a:gd name="textAreaBottom" fmla="*/ 2447280 h 2514600"/>
            </a:gdLst>
            <a:ahLst/>
            <a:rect l="textAreaLeft" t="textAreaTop" r="textAreaRight" b="textAreaBottom"/>
            <a:pathLst>
              <a:path w="21600" h="32395">
                <a:moveTo>
                  <a:pt x="2969" y="0"/>
                </a:moveTo>
                <a:arcTo wR="2969" hR="2969" stAng="16200000" swAng="-5400000"/>
                <a:lnTo>
                  <a:pt x="0" y="29426"/>
                </a:lnTo>
                <a:arcTo wR="2969" hR="2969" stAng="10800000" swAng="-5400000"/>
                <a:lnTo>
                  <a:pt x="18631" y="3239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519920" y="1718280"/>
            <a:ext cx="6014520" cy="1287720"/>
            <a:chOff x="1519920" y="1718280"/>
            <a:chExt cx="6014520" cy="1287720"/>
          </a:xfrm>
        </p:grpSpPr>
        <p:grpSp>
          <p:nvGrpSpPr>
            <p:cNvPr id="485" name=""/>
            <p:cNvGrpSpPr/>
            <p:nvPr/>
          </p:nvGrpSpPr>
          <p:grpSpPr>
            <a:xfrm>
              <a:off x="1519920" y="1718280"/>
              <a:ext cx="6014520" cy="1287720"/>
              <a:chOff x="1519920" y="1718280"/>
              <a:chExt cx="6014520" cy="1287720"/>
            </a:xfrm>
          </p:grpSpPr>
          <p:sp>
            <p:nvSpPr>
              <p:cNvPr id="486" name=""/>
              <p:cNvSpPr/>
              <p:nvPr/>
            </p:nvSpPr>
            <p:spPr>
              <a:xfrm rot="3418800">
                <a:off x="1719360" y="192312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7cd8ee"/>
                  </a:gs>
                  <a:gs pos="100000">
                    <a:srgbClr val="39636d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2615400" y="2088000"/>
                <a:ext cx="871560" cy="121320"/>
                <a:chOff x="2615400" y="2088000"/>
                <a:chExt cx="871560" cy="1213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615400" y="208800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698920" y="208872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354840" y="208980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4344"/>
                    </a:gs>
                    <a:gs pos="50000">
                      <a:srgbClr val="919295"/>
                    </a:gs>
                    <a:gs pos="100000">
                      <a:srgbClr val="424344"/>
                    </a:gs>
                  </a:gsLst>
                  <a:lin ang="5400000"/>
                </a:gradFill>
                <a:ln w="12600">
                  <a:solidFill>
                    <a:srgbClr val="91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425400" y="212796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4344"/>
                    </a:gs>
                    <a:gs pos="50000">
                      <a:srgbClr val="919295"/>
                    </a:gs>
                    <a:gs pos="100000">
                      <a:srgbClr val="4243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 rot="3418800">
                <a:off x="3329280" y="1862280"/>
                <a:ext cx="853200" cy="938880"/>
              </a:xfrm>
              <a:prstGeom prst="rect">
                <a:avLst/>
              </a:prstGeom>
              <a:gradFill rotWithShape="0">
                <a:gsLst>
                  <a:gs pos="0">
                    <a:srgbClr val="7281f4"/>
                  </a:gs>
                  <a:gs pos="100000">
                    <a:srgbClr val="343b70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4225320" y="2088000"/>
                <a:ext cx="871560" cy="121320"/>
                <a:chOff x="4225320" y="2088000"/>
                <a:chExt cx="871560" cy="1213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225320" y="2088000"/>
                  <a:ext cx="14688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308840" y="2088720"/>
                  <a:ext cx="72252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964760" y="2089800"/>
                  <a:ext cx="13212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4344"/>
                    </a:gs>
                    <a:gs pos="50000">
                      <a:srgbClr val="919295"/>
                    </a:gs>
                    <a:gs pos="100000">
                      <a:srgbClr val="424344"/>
                    </a:gs>
                  </a:gsLst>
                  <a:lin ang="5400000"/>
                </a:gradFill>
                <a:ln w="12600">
                  <a:solidFill>
                    <a:srgbClr val="91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035320" y="2127960"/>
                  <a:ext cx="3708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4344"/>
                    </a:gs>
                    <a:gs pos="50000">
                      <a:srgbClr val="919295"/>
                    </a:gs>
                    <a:gs pos="100000">
                      <a:srgbClr val="4243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 rot="3418800">
                <a:off x="4871520" y="1861920"/>
                <a:ext cx="853200" cy="939240"/>
              </a:xfrm>
              <a:prstGeom prst="rect">
                <a:avLst/>
              </a:prstGeom>
              <a:gradFill rotWithShape="0">
                <a:gsLst>
                  <a:gs pos="0">
                    <a:srgbClr val="7cd8ee"/>
                  </a:gs>
                  <a:gs pos="100000">
                    <a:srgbClr val="39636d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5835240" y="2088000"/>
                <a:ext cx="1140120" cy="121320"/>
                <a:chOff x="5835240" y="2088000"/>
                <a:chExt cx="1140120" cy="1213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835240" y="2088000"/>
                  <a:ext cx="192240" cy="120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944320" y="2088720"/>
                  <a:ext cx="945000" cy="12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757575"/>
                    </a:gs>
                    <a:gs pos="50000">
                      <a:srgbClr val="ffffff"/>
                    </a:gs>
                    <a:gs pos="100000">
                      <a:srgbClr val="757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802560" y="2089800"/>
                  <a:ext cx="172800" cy="11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4344"/>
                    </a:gs>
                    <a:gs pos="50000">
                      <a:srgbClr val="919295"/>
                    </a:gs>
                    <a:gs pos="100000">
                      <a:srgbClr val="424344"/>
                    </a:gs>
                  </a:gsLst>
                  <a:lin ang="5400000"/>
                </a:gradFill>
                <a:ln w="12600">
                  <a:solidFill>
                    <a:srgbClr val="91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894720" y="2127960"/>
                  <a:ext cx="48600" cy="3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4344"/>
                    </a:gs>
                    <a:gs pos="50000">
                      <a:srgbClr val="919295"/>
                    </a:gs>
                    <a:gs pos="100000">
                      <a:srgbClr val="42434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 rot="3418800">
                <a:off x="6481440" y="1861920"/>
                <a:ext cx="853200" cy="939240"/>
              </a:xfrm>
              <a:prstGeom prst="rect">
                <a:avLst/>
              </a:prstGeom>
              <a:gradFill rotWithShape="0">
                <a:gsLst>
                  <a:gs pos="0">
                    <a:srgbClr val="7281f4"/>
                  </a:gs>
                  <a:gs pos="100000">
                    <a:srgbClr val="343b70"/>
                  </a:gs>
                </a:gsLst>
                <a:lin ang="198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182628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6500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6152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602040" y="22010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67112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360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10012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52600" y="32878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084320" y="2503440"/>
          <a:ext cx="7053120" cy="2982960"/>
        </p:xfrm>
        <a:graphic>
          <a:graphicData uri="http://schemas.openxmlformats.org/drawingml/2006/table">
            <a:tbl>
              <a:tblPr/>
              <a:tblGrid>
                <a:gridCol w="1590840"/>
                <a:gridCol w="1110960"/>
                <a:gridCol w="1087560"/>
                <a:gridCol w="1085760"/>
                <a:gridCol w="1090800"/>
                <a:gridCol w="1087200"/>
              </a:tblGrid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929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929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9295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3b70"/>
                        </a:gs>
                        <a:gs pos="100000">
                          <a:srgbClr val="7281f4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3b70"/>
                        </a:gs>
                        <a:gs pos="100000">
                          <a:srgbClr val="7281f4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3b70"/>
                        </a:gs>
                        <a:gs pos="100000">
                          <a:srgbClr val="7281f4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3b70"/>
                        </a:gs>
                        <a:gs pos="100000">
                          <a:srgbClr val="7281f4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3b70"/>
                        </a:gs>
                        <a:gs pos="100000">
                          <a:srgbClr val="7281f4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3b70"/>
                        </a:gs>
                        <a:gs pos="100000">
                          <a:srgbClr val="7281f4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133280" y="1252800"/>
            <a:ext cx="6701040" cy="4630680"/>
            <a:chOff x="1133280" y="1252800"/>
            <a:chExt cx="6701040" cy="4630680"/>
          </a:xfrm>
        </p:grpSpPr>
        <p:sp>
          <p:nvSpPr>
            <p:cNvPr id="517" name=""/>
            <p:cNvSpPr/>
            <p:nvPr/>
          </p:nvSpPr>
          <p:spPr>
            <a:xfrm>
              <a:off x="2189160" y="4301640"/>
              <a:ext cx="5205240" cy="1184400"/>
            </a:xfrm>
            <a:prstGeom prst="ellipse">
              <a:avLst/>
            </a:prstGeom>
            <a:solidFill>
              <a:srgbClr val="000066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0601600">
              <a:off x="1458360" y="2246040"/>
              <a:ext cx="5623200" cy="289260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601600">
              <a:off x="1514160" y="2090880"/>
              <a:ext cx="5428080" cy="28029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601600">
              <a:off x="1429200" y="2084040"/>
              <a:ext cx="5563440" cy="28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20602200">
              <a:off x="1410480" y="2099520"/>
              <a:ext cx="5613480" cy="27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601600">
              <a:off x="1436400" y="2091600"/>
              <a:ext cx="5541480" cy="271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20602200">
              <a:off x="1418040" y="2088720"/>
              <a:ext cx="5561640" cy="270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20601600">
              <a:off x="2939400" y="2775600"/>
              <a:ext cx="2630160" cy="1284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61160" y="2989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0200" y="21121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57480" y="2550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81560" y="3062160"/>
              <a:ext cx="1264320" cy="16412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539200">
              <a:off x="1438200" y="2112480"/>
              <a:ext cx="6106680" cy="285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22320" y="3523680"/>
              <a:ext cx="1716480" cy="11858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757480" y="350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047120" y="42314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188440" y="40852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01600">
              <a:off x="3038400" y="3017880"/>
              <a:ext cx="2523240" cy="1045800"/>
            </a:xfrm>
            <a:prstGeom prst="ellipse">
              <a:avLst/>
            </a:prstGeom>
            <a:gradFill rotWithShape="0">
              <a:gsLst>
                <a:gs pos="0">
                  <a:srgbClr val="919295"/>
                </a:gs>
                <a:gs pos="100000">
                  <a:srgbClr val="2b2b2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94400" y="3902760"/>
              <a:ext cx="1251720" cy="986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cd8ee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599840" y="1752480"/>
            <a:ext cx="6297840" cy="3878280"/>
            <a:chOff x="1599840" y="1752480"/>
            <a:chExt cx="6297840" cy="3878280"/>
          </a:xfrm>
        </p:grpSpPr>
        <p:sp>
          <p:nvSpPr>
            <p:cNvPr id="539" name=""/>
            <p:cNvSpPr/>
            <p:nvPr/>
          </p:nvSpPr>
          <p:spPr>
            <a:xfrm flipH="1">
              <a:off x="1599840" y="5626080"/>
              <a:ext cx="166068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1599840" y="4844880"/>
              <a:ext cx="2143080" cy="180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1599840" y="4035240"/>
              <a:ext cx="2516040" cy="180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1600200" y="3238560"/>
              <a:ext cx="294480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1599840" y="2436840"/>
              <a:ext cx="337356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1599840" y="1752480"/>
              <a:ext cx="3747960" cy="1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12960" y="1752480"/>
              <a:ext cx="1440" cy="68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12960" y="2436840"/>
              <a:ext cx="1440" cy="80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12960" y="3246480"/>
              <a:ext cx="1440" cy="809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12960" y="4056120"/>
              <a:ext cx="1440" cy="80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12960" y="4865400"/>
              <a:ext cx="1440" cy="74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866240" y="1942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66240" y="2735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66240" y="3524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66240" y="4316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66240" y="51069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94520" y="4440240"/>
              <a:ext cx="803160" cy="118908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11600" y="4440240"/>
              <a:ext cx="3738600" cy="5061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48000" y="4944960"/>
              <a:ext cx="4127400" cy="68580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76920" y="3767040"/>
              <a:ext cx="708120" cy="107640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37120" y="3767040"/>
              <a:ext cx="2808360" cy="3794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781440" y="4144680"/>
              <a:ext cx="3260880" cy="698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57880" y="3101760"/>
              <a:ext cx="620640" cy="9352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59400" y="3101760"/>
              <a:ext cx="1874880" cy="25236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97240" y="3352680"/>
              <a:ext cx="2427480" cy="6843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34160" y="2427120"/>
              <a:ext cx="533160" cy="812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987800" y="2427120"/>
              <a:ext cx="936720" cy="12240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19520" y="2547720"/>
              <a:ext cx="1581120" cy="69228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07200" y="1752480"/>
              <a:ext cx="450720" cy="689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40360" y="1752480"/>
              <a:ext cx="733320" cy="689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46920" y="21193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46920" y="28447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46920" y="3635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46920" y="44258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46920" y="5216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905120" y="1981080"/>
            <a:ext cx="5333400" cy="634680"/>
            <a:chOff x="1905120" y="1981080"/>
            <a:chExt cx="5333400" cy="634680"/>
          </a:xfrm>
        </p:grpSpPr>
        <p:sp>
          <p:nvSpPr>
            <p:cNvPr id="108" name=""/>
            <p:cNvSpPr/>
            <p:nvPr/>
          </p:nvSpPr>
          <p:spPr>
            <a:xfrm>
              <a:off x="2438280" y="261288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95480" y="207936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905120" y="1981080"/>
              <a:ext cx="685080" cy="634680"/>
              <a:chOff x="1905120" y="1981080"/>
              <a:chExt cx="685080" cy="634680"/>
            </a:xfrm>
          </p:grpSpPr>
          <p:sp>
            <p:nvSpPr>
              <p:cNvPr id="111" name=""/>
              <p:cNvSpPr/>
              <p:nvPr/>
            </p:nvSpPr>
            <p:spPr>
              <a:xfrm>
                <a:off x="1910520" y="19915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05120" y="19810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44720" y="201852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343b70"/>
                  </a:gs>
                  <a:gs pos="50000">
                    <a:srgbClr val="7281f4"/>
                  </a:gs>
                  <a:gs pos="100000">
                    <a:srgbClr val="343b7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065320" y="2074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05120" y="2809800"/>
            <a:ext cx="5333400" cy="634680"/>
            <a:chOff x="1905120" y="2809800"/>
            <a:chExt cx="5333400" cy="634680"/>
          </a:xfrm>
        </p:grpSpPr>
        <p:sp>
          <p:nvSpPr>
            <p:cNvPr id="116" name=""/>
            <p:cNvSpPr/>
            <p:nvPr/>
          </p:nvSpPr>
          <p:spPr>
            <a:xfrm>
              <a:off x="2438280" y="343224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289872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905120" y="2809800"/>
              <a:ext cx="685080" cy="634680"/>
              <a:chOff x="1905120" y="2809800"/>
              <a:chExt cx="685080" cy="634680"/>
            </a:xfrm>
          </p:grpSpPr>
          <p:sp>
            <p:nvSpPr>
              <p:cNvPr id="119" name=""/>
              <p:cNvSpPr/>
              <p:nvPr/>
            </p:nvSpPr>
            <p:spPr>
              <a:xfrm>
                <a:off x="1910520" y="282024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05120" y="280980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44720" y="284724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065320" y="29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05120" y="3668760"/>
            <a:ext cx="5333400" cy="634680"/>
            <a:chOff x="1905120" y="3668760"/>
            <a:chExt cx="5333400" cy="634680"/>
          </a:xfrm>
        </p:grpSpPr>
        <p:sp>
          <p:nvSpPr>
            <p:cNvPr id="124" name=""/>
            <p:cNvSpPr/>
            <p:nvPr/>
          </p:nvSpPr>
          <p:spPr>
            <a:xfrm>
              <a:off x="2438280" y="427032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95480" y="371484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905120" y="3668760"/>
              <a:ext cx="685080" cy="634680"/>
              <a:chOff x="1905120" y="3668760"/>
              <a:chExt cx="685080" cy="634680"/>
            </a:xfrm>
          </p:grpSpPr>
          <p:sp>
            <p:nvSpPr>
              <p:cNvPr id="127" name=""/>
              <p:cNvSpPr/>
              <p:nvPr/>
            </p:nvSpPr>
            <p:spPr>
              <a:xfrm>
                <a:off x="1910520" y="367920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905120" y="366876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44720" y="370620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343b70"/>
                  </a:gs>
                  <a:gs pos="50000">
                    <a:srgbClr val="7281f4"/>
                  </a:gs>
                  <a:gs pos="100000">
                    <a:srgbClr val="343b7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065320" y="3737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905120" y="4495680"/>
            <a:ext cx="5333400" cy="634680"/>
            <a:chOff x="1905120" y="4495680"/>
            <a:chExt cx="5333400" cy="634680"/>
          </a:xfrm>
        </p:grpSpPr>
        <p:sp>
          <p:nvSpPr>
            <p:cNvPr id="132" name=""/>
            <p:cNvSpPr/>
            <p:nvPr/>
          </p:nvSpPr>
          <p:spPr>
            <a:xfrm>
              <a:off x="2438280" y="510840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95480" y="4574880"/>
              <a:ext cx="38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905120" y="4495680"/>
              <a:ext cx="685080" cy="634680"/>
              <a:chOff x="1905120" y="4495680"/>
              <a:chExt cx="685080" cy="634680"/>
            </a:xfrm>
          </p:grpSpPr>
          <p:sp>
            <p:nvSpPr>
              <p:cNvPr id="135" name=""/>
              <p:cNvSpPr/>
              <p:nvPr/>
            </p:nvSpPr>
            <p:spPr>
              <a:xfrm>
                <a:off x="1910520" y="450612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905120" y="4495680"/>
                <a:ext cx="679680" cy="624240"/>
              </a:xfrm>
              <a:prstGeom prst="hexagon">
                <a:avLst>
                  <a:gd name="adj" fmla="val 2722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44720" y="4533120"/>
                <a:ext cx="597240" cy="549000"/>
              </a:xfrm>
              <a:prstGeom prst="hexagon">
                <a:avLst>
                  <a:gd name="adj" fmla="val 27197"/>
                  <a:gd name="vf" fmla="val 115470"/>
                </a:avLst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065320" y="458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cd8ee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95C-A796-4D0E-98AC-695E6F3D16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9ebe"/>
            </a:gs>
            <a:gs pos="100000">
              <a:srgbClr val="9192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2057400" y="1752480"/>
            <a:ext cx="5029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281f4"/>
                    </a:gs>
                    <a:gs pos="100000">
                      <a:srgbClr val="7cd8ee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281f4"/>
                  </a:gs>
                  <a:gs pos="100000">
                    <a:srgbClr val="7cd8ee"/>
                  </a:gs>
                </a:gsLst>
                <a:lin ang="108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1920" y="1819080"/>
            <a:ext cx="79167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7cd8ee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7cd8ee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then click [Slide Master] or </a:t>
            </a:r>
            <a:r>
              <a:rPr b="0" lang="en-US" sz="2400" spc="-1" strike="noStrike">
                <a:solidFill>
                  <a:srgbClr val="7cd8ee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5791320"/>
            <a:ext cx="6324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cd8ee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10080" y="2971800"/>
            <a:ext cx="2286000" cy="2666880"/>
            <a:chOff x="5410080" y="2971800"/>
            <a:chExt cx="2286000" cy="2666880"/>
          </a:xfrm>
        </p:grpSpPr>
        <p:sp>
          <p:nvSpPr>
            <p:cNvPr id="145" name=""/>
            <p:cNvSpPr/>
            <p:nvPr/>
          </p:nvSpPr>
          <p:spPr>
            <a:xfrm>
              <a:off x="541008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360" y="3166920"/>
              <a:ext cx="20574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295280" y="2971800"/>
            <a:ext cx="2286000" cy="2666880"/>
            <a:chOff x="1295280" y="2971800"/>
            <a:chExt cx="2286000" cy="2666880"/>
          </a:xfrm>
        </p:grpSpPr>
        <p:sp>
          <p:nvSpPr>
            <p:cNvPr id="148" name=""/>
            <p:cNvSpPr/>
            <p:nvPr/>
          </p:nvSpPr>
          <p:spPr>
            <a:xfrm>
              <a:off x="1295280" y="297180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e2f0f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90680" y="31719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222720" y="28749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bdbdc"/>
              </a:gs>
              <a:gs pos="100000">
                <a:srgbClr val="91929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874400" y="287496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eddd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8120" y="1476360"/>
            <a:ext cx="2998440" cy="1601280"/>
            <a:chOff x="3048120" y="1476360"/>
            <a:chExt cx="2998440" cy="1601280"/>
          </a:xfrm>
        </p:grpSpPr>
        <p:grpSp>
          <p:nvGrpSpPr>
            <p:cNvPr id="153" name=""/>
            <p:cNvGrpSpPr/>
            <p:nvPr/>
          </p:nvGrpSpPr>
          <p:grpSpPr>
            <a:xfrm>
              <a:off x="3048120" y="1476360"/>
              <a:ext cx="2998440" cy="1601280"/>
              <a:chOff x="3048120" y="1476360"/>
              <a:chExt cx="2998440" cy="160128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3048120" y="1619280"/>
                <a:ext cx="2998440" cy="1458360"/>
                <a:chOff x="3048120" y="1619280"/>
                <a:chExt cx="2998440" cy="1458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080880" y="16657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6873"/>
                    </a:gs>
                    <a:gs pos="100000">
                      <a:srgbClr val="7cd8e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048120" y="161928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d8ee"/>
                    </a:gs>
                    <a:gs pos="100000">
                      <a:srgbClr val="c4ecf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89240" y="147636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24160" y="148428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a5ecda"/>
                  </a:gs>
                  <a:gs pos="100000">
                    <a:srgbClr val="00cc99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51160" y="149688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00cc99">
                      <a:alpha val="48235"/>
                    </a:srgbClr>
                  </a:gs>
                  <a:gs pos="100000">
                    <a:srgbClr val="00a07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382920" y="152388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00cc99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882960" y="16765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906120" y="1494360"/>
            <a:ext cx="7554600" cy="4800960"/>
            <a:chOff x="906120" y="1494360"/>
            <a:chExt cx="7554600" cy="4800960"/>
          </a:xfrm>
        </p:grpSpPr>
        <p:sp>
          <p:nvSpPr>
            <p:cNvPr id="164" name=""/>
            <p:cNvSpPr/>
            <p:nvPr/>
          </p:nvSpPr>
          <p:spPr>
            <a:xfrm rot="20241600">
              <a:off x="1485720" y="2628360"/>
              <a:ext cx="6400800" cy="2532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7cd8ee"/>
                </a:gs>
                <a:gs pos="100000">
                  <a:srgbClr val="f1fafc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056200">
              <a:off x="4749840" y="2538000"/>
              <a:ext cx="995400" cy="27612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20056200">
              <a:off x="7453440" y="2814480"/>
              <a:ext cx="996840" cy="2746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0056200">
              <a:off x="3040200" y="5599080"/>
              <a:ext cx="996840" cy="2746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056200">
              <a:off x="5816520" y="4878000"/>
              <a:ext cx="997200" cy="27612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056200">
              <a:off x="2400480" y="3914280"/>
              <a:ext cx="996840" cy="276480"/>
            </a:xfrm>
            <a:prstGeom prst="ellipse">
              <a:avLst/>
            </a:prstGeom>
            <a:solidFill>
              <a:srgbClr val="000066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38480" y="1851120"/>
              <a:ext cx="1198800" cy="1150920"/>
            </a:xfrm>
            <a:prstGeom prst="ellipse">
              <a:avLst/>
            </a:prstGeom>
            <a:gradFill rotWithShape="0">
              <a:gsLst>
                <a:gs pos="0">
                  <a:srgbClr val="7cd8ee"/>
                </a:gs>
                <a:gs pos="100000">
                  <a:srgbClr val="2a4a5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89120" y="3227400"/>
              <a:ext cx="1200240" cy="11509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3f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3160" y="4829040"/>
              <a:ext cx="1198440" cy="1150920"/>
            </a:xfrm>
            <a:prstGeom prst="ellipse">
              <a:avLst/>
            </a:prstGeom>
            <a:gradFill rotWithShape="0">
              <a:gsLst>
                <a:gs pos="0">
                  <a:srgbClr val="7281f4"/>
                </a:gs>
                <a:gs pos="100000">
                  <a:srgbClr val="282d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520" y="4191120"/>
              <a:ext cx="1199880" cy="115092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931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13720" y="2057400"/>
              <a:ext cx="1131840" cy="1150920"/>
            </a:xfrm>
            <a:prstGeom prst="ellipse">
              <a:avLst/>
            </a:prstGeom>
            <a:gradFill rotWithShape="0">
              <a:gsLst>
                <a:gs pos="0">
                  <a:srgbClr val="149ebe"/>
                </a:gs>
                <a:gs pos="100000">
                  <a:srgbClr val="06364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74960" y="36291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46640" y="2263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86600" y="25146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13320" y="46036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79920" y="52354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1360" y="3645000"/>
              <a:ext cx="242100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89280" y="2109600"/>
              <a:ext cx="1676520" cy="14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/>
            <p:nvPr/>
          </p:nvCxnSpPr>
          <p:spPr>
            <a:xfrm flipH="1">
              <a:off x="906120" y="2109240"/>
              <a:ext cx="18835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83" name=""/>
            <p:cNvSpPr/>
            <p:nvPr/>
          </p:nvSpPr>
          <p:spPr>
            <a:xfrm>
              <a:off x="981720" y="1712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19320" y="1811160"/>
            <a:ext cx="6629400" cy="4056840"/>
            <a:chOff x="1219320" y="1811160"/>
            <a:chExt cx="6629400" cy="4056840"/>
          </a:xfrm>
        </p:grpSpPr>
        <p:sp>
          <p:nvSpPr>
            <p:cNvPr id="186" name=""/>
            <p:cNvSpPr/>
            <p:nvPr/>
          </p:nvSpPr>
          <p:spPr>
            <a:xfrm>
              <a:off x="3741120" y="4078080"/>
              <a:ext cx="1585080" cy="567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4857"/>
                </a:gs>
                <a:gs pos="50000">
                  <a:srgbClr val="149ebe"/>
                </a:gs>
                <a:gs pos="100000">
                  <a:srgbClr val="0948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41120" y="358236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4857"/>
                </a:gs>
                <a:gs pos="50000">
                  <a:srgbClr val="149ebe"/>
                </a:gs>
                <a:gs pos="100000">
                  <a:srgbClr val="0948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41120" y="3086280"/>
              <a:ext cx="1585080" cy="566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94857"/>
                </a:gs>
                <a:gs pos="50000">
                  <a:srgbClr val="149ebe"/>
                </a:gs>
                <a:gs pos="100000">
                  <a:srgbClr val="0948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36480" y="3300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36480" y="3796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36480" y="42922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92760" y="2873880"/>
              <a:ext cx="504360" cy="1912680"/>
            </a:xfrm>
            <a:prstGeom prst="leftArrow">
              <a:avLst>
                <a:gd name="adj1" fmla="val 65583"/>
                <a:gd name="adj2" fmla="val 65181"/>
              </a:avLst>
            </a:prstGeom>
            <a:solidFill>
              <a:srgbClr val="7cd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237780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f7c95"/>
                </a:gs>
                <a:gs pos="100000">
                  <a:srgbClr val="149eb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1320" y="25902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19280" y="2377800"/>
              <a:ext cx="1729440" cy="290484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04840"/>
                <a:gd name="textAreaBottom" fmla="*/ 2820600 h 2904840"/>
              </a:gdLst>
              <a:ahLst/>
              <a:rect l="textAreaLeft" t="textAreaTop" r="textAreaRight" b="textAreaBottom"/>
              <a:pathLst>
                <a:path w="21600" h="36277">
                  <a:moveTo>
                    <a:pt x="3600" y="0"/>
                  </a:moveTo>
                  <a:arcTo wR="3600" hR="3600" stAng="16200000" swAng="-5400000"/>
                  <a:lnTo>
                    <a:pt x="0" y="32677"/>
                  </a:lnTo>
                  <a:arcTo wR="3600" hR="3600" stAng="10800000" swAng="-5400000"/>
                  <a:lnTo>
                    <a:pt x="18000" y="36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0e7087"/>
                </a:gs>
                <a:gs pos="100000">
                  <a:srgbClr val="149eb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91280" y="25902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73800" y="2873880"/>
              <a:ext cx="501120" cy="1912680"/>
            </a:xfrm>
            <a:prstGeom prst="rightArrow">
              <a:avLst>
                <a:gd name="adj1" fmla="val 67750"/>
                <a:gd name="adj2" fmla="val 66167"/>
              </a:avLst>
            </a:prstGeom>
            <a:solidFill>
              <a:srgbClr val="7cd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20760" y="1811160"/>
              <a:ext cx="2882160" cy="56664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24344"/>
                </a:gs>
                <a:gs pos="50000">
                  <a:srgbClr val="919295"/>
                </a:gs>
                <a:gs pos="100000">
                  <a:srgbClr val="4243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09800" y="2519640"/>
              <a:ext cx="1657080" cy="495720"/>
            </a:xfrm>
            <a:prstGeom prst="upArrow">
              <a:avLst>
                <a:gd name="adj1" fmla="val 68380"/>
                <a:gd name="adj2" fmla="val 70833"/>
              </a:avLst>
            </a:prstGeom>
            <a:solidFill>
              <a:srgbClr val="7cd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14160" y="202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92760" y="5282640"/>
              <a:ext cx="2882160" cy="56664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14160" y="5499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88560" y="4715640"/>
              <a:ext cx="1660320" cy="488520"/>
            </a:xfrm>
            <a:prstGeom prst="downArrow">
              <a:avLst>
                <a:gd name="adj1" fmla="val 67093"/>
                <a:gd name="adj2" fmla="val 64051"/>
              </a:avLst>
            </a:prstGeom>
            <a:solidFill>
              <a:srgbClr val="7cd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38080" y="2057400"/>
            <a:ext cx="7391520" cy="3581280"/>
            <a:chOff x="838080" y="2057400"/>
            <a:chExt cx="7391520" cy="3581280"/>
          </a:xfrm>
        </p:grpSpPr>
        <p:sp>
          <p:nvSpPr>
            <p:cNvPr id="206" name=""/>
            <p:cNvSpPr/>
            <p:nvPr/>
          </p:nvSpPr>
          <p:spPr>
            <a:xfrm>
              <a:off x="838080" y="365760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3b70"/>
                </a:gs>
                <a:gs pos="50000">
                  <a:srgbClr val="7281f4"/>
                </a:gs>
                <a:gs pos="100000">
                  <a:srgbClr val="343b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312408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3b70"/>
                </a:gs>
                <a:gs pos="50000">
                  <a:srgbClr val="7281f4"/>
                </a:gs>
                <a:gs pos="100000">
                  <a:srgbClr val="343b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8080" y="2590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43b70"/>
                </a:gs>
                <a:gs pos="50000">
                  <a:srgbClr val="7281f4"/>
                </a:gs>
                <a:gs pos="100000">
                  <a:srgbClr val="343b7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24480" y="365760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24480" y="312408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24480" y="2590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895480" y="2057400"/>
              <a:ext cx="3196800" cy="2841480"/>
              <a:chOff x="2895480" y="2057400"/>
              <a:chExt cx="3196800" cy="2841480"/>
            </a:xfrm>
          </p:grpSpPr>
          <p:sp>
            <p:nvSpPr>
              <p:cNvPr id="213" name=""/>
              <p:cNvSpPr/>
              <p:nvPr/>
            </p:nvSpPr>
            <p:spPr>
              <a:xfrm flipH="1" rot="16200000">
                <a:off x="2813400" y="317088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ead6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5400000">
                <a:off x="5683320" y="3116520"/>
                <a:ext cx="49068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ead6"/>
                  </a:gs>
                  <a:gs pos="100000">
                    <a:srgbClr val="00cc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0800000">
                <a:off x="4250520" y="4572000"/>
                <a:ext cx="489600" cy="3268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ead6"/>
                  </a:gs>
                  <a:gs pos="100000">
                    <a:srgbClr val="00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222360" y="2057400"/>
                <a:ext cx="2566440" cy="2563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368880" y="2201760"/>
                <a:ext cx="2272320" cy="227016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7cd8ee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502440" y="2336760"/>
                <a:ext cx="2005200" cy="200664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427480"/>
                  </a:gs>
                  <a:gs pos="50000">
                    <a:srgbClr val="7cd8ee"/>
                  </a:gs>
                  <a:gs pos="100000">
                    <a:srgbClr val="4274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34560" y="2468520"/>
                <a:ext cx="1741320" cy="174312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13480" y="31240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557440" y="510552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49ebe"/>
                </a:gs>
                <a:gs pos="50000">
                  <a:srgbClr val="afdde8"/>
                </a:gs>
                <a:gs pos="100000">
                  <a:srgbClr val="149eb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730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730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730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92640" y="2747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92640" y="3281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92640" y="3814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4920" y="1981080"/>
            <a:ext cx="7086600" cy="3581280"/>
            <a:chOff x="1294920" y="1981080"/>
            <a:chExt cx="7086600" cy="3581280"/>
          </a:xfrm>
        </p:grpSpPr>
        <p:sp>
          <p:nvSpPr>
            <p:cNvPr id="232" name=""/>
            <p:cNvSpPr/>
            <p:nvPr/>
          </p:nvSpPr>
          <p:spPr>
            <a:xfrm>
              <a:off x="7792560" y="1981080"/>
              <a:ext cx="582840" cy="9039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02560" y="1981080"/>
              <a:ext cx="3378960" cy="5778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06840" y="2879280"/>
              <a:ext cx="581400" cy="8978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3400" y="2870280"/>
              <a:ext cx="3632040" cy="5850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19320" y="3767400"/>
              <a:ext cx="579960" cy="9039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36120" y="4658400"/>
              <a:ext cx="582840" cy="9039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94080" y="4662720"/>
              <a:ext cx="4124880" cy="5778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295280" y="5556600"/>
              <a:ext cx="119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294920" y="4658400"/>
              <a:ext cx="2036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295280" y="3772080"/>
              <a:ext cx="2875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1294920" y="2886840"/>
              <a:ext cx="3714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295280" y="1986840"/>
              <a:ext cx="4552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76000" y="1981080"/>
              <a:ext cx="0" cy="93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76000" y="2912760"/>
              <a:ext cx="0" cy="87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76000" y="3784680"/>
              <a:ext cx="0" cy="87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76000" y="4658400"/>
              <a:ext cx="0" cy="87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92400" y="2154960"/>
              <a:ext cx="1857240" cy="29098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8680" y="2558880"/>
              <a:ext cx="2797560" cy="324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65200" y="3455640"/>
              <a:ext cx="3047400" cy="31860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0720" y="3767400"/>
              <a:ext cx="3874320" cy="5821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31800" y="4349520"/>
              <a:ext cx="3300840" cy="317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93000" y="5241960"/>
              <a:ext cx="3550320" cy="317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13440" y="2327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13440" y="3209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13440" y="4133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13440" y="4995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9295"/>
            </a:gs>
            <a:gs pos="100000">
              <a:srgbClr val="149eb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6172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600200"/>
            <a:ext cx="5562720" cy="4191120"/>
          </a:xfrm>
          <a:prstGeom prst="rightArrow">
            <a:avLst>
              <a:gd name="adj1" fmla="val 79306"/>
              <a:gd name="adj2" fmla="val 32874"/>
            </a:avLst>
          </a:prstGeom>
          <a:solidFill>
            <a:srgbClr val="66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2280" y="216864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49ebe"/>
              </a:gs>
              <a:gs pos="100000">
                <a:srgbClr val="09485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2280" y="323388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2280" y="4299120"/>
            <a:ext cx="3732120" cy="9237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281f4"/>
              </a:gs>
              <a:gs pos="100000">
                <a:srgbClr val="343b7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62720" y="2971800"/>
            <a:ext cx="27432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04:45:0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19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