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70A1-B556-43F9-BA7D-293C9EFF7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0" y="1600200"/>
            <a:ext cx="67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0" y="3964320"/>
            <a:ext cx="67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B666-C61C-496B-81D8-9C6B7B1A4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6108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76108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B578-20EE-48E9-8419-F48115D50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0" y="160020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8840" y="160020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72040" y="160020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0" y="396432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78840" y="396432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872040" y="396432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AF22-6A69-4BF7-924F-CF3D0ACA9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80133-4AC8-44F2-A4C4-75A592258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40CA6-A130-40D5-8C39-72D2C4800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C43AB-060D-46B5-A7C4-9169834CB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76108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0479B-555C-4956-9D1C-33DBB4365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C4B1D-263E-4291-85A4-E0936ED18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0" y="274320"/>
            <a:ext cx="6781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CEA17-1412-41C0-9A73-A3EBF6C99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76108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24AC1-D214-447C-88D5-5BF87589D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D62C-73E8-4B74-AB95-0B207CB1C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6108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76108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E4EE0-A51C-4FED-84BC-A44F7A3C4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6108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0" y="3964320"/>
            <a:ext cx="67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46BC4-B82B-4B5F-9C26-473999A12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0" y="1600200"/>
            <a:ext cx="67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0" y="3964320"/>
            <a:ext cx="67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0DA66-0FB8-4E6F-8DCE-A30227636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76108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76108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FBC87-066C-477B-8BFB-7E13BAE61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0" y="160020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8840" y="160020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72040" y="160020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0" y="396432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578840" y="396432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872040" y="396432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DCAAE-66BE-4D15-BF06-E37A92833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6462-BB45-4F0D-8B96-4B7A0F752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76108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C6A4-0009-45D8-AF99-91A5BF369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E7AF-173A-433D-998B-C20282FE1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0" y="274320"/>
            <a:ext cx="6781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55B0-F1BB-4392-B3B6-ACFD3D4C8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6108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B031-D505-43EF-85D8-B4ECA45F8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6108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6108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FC9F-DB75-44A8-AD47-1FAF6D6AD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6108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0" y="3964320"/>
            <a:ext cx="67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E59E-CB36-4F5A-9ABD-682F6924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D9795-C317-4801-9662-0AC5A76148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09320" y="1523880"/>
            <a:ext cx="6782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E9FC7-CCA8-4837-A2F3-1FC102F9E5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8"/>
          <p:cNvSpPr/>
          <p:nvPr/>
        </p:nvSpPr>
        <p:spPr>
          <a:xfrm>
            <a:off x="685800" y="1285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女子排球体育运动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1371600" y="2886120"/>
            <a:ext cx="64008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单击添加副标题或公司署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ad652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ad652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ad6521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GB" sz="1200" spc="-1" strike="noStrike" u="sng">
                <a:solidFill>
                  <a:srgbClr val="ad6521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ad6521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ad6521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GB" sz="1200" spc="-1" strike="noStrike" u="sng">
                <a:solidFill>
                  <a:srgbClr val="ad6521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ad6521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GB" sz="1200" spc="-1" strike="noStrike" u="sng">
                <a:solidFill>
                  <a:srgbClr val="ad6521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ad6521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GB" sz="1200" spc="-1" strike="noStrike" u="sng">
                <a:solidFill>
                  <a:srgbClr val="ad6521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ad6521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GB" sz="1200" spc="-1" strike="noStrike" u="sng">
                <a:solidFill>
                  <a:srgbClr val="ad6521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ad6521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GB" sz="1200" spc="-1" strike="noStrike" u="sng">
                <a:solidFill>
                  <a:srgbClr val="ad6521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ad6521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ad6521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ad6521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ad6521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ad6521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ad6521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ad6521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ad6521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ad6521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ad6521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F276D-CA65-46E0-900F-AEEE54D4997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90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ad6521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6T05:40:35Z</dcterms:created>
  <dc:creator>幻灯片之家：www.eeppt.com</dc:creator>
  <dc:description>幻灯片之家：www.eeppt.com</dc:description>
  <cp:keywords>幻灯片之家：www.eeppt.com</cp:keywords>
  <dc:language>en-US</dc:language>
  <cp:lastModifiedBy> </cp:lastModifiedBy>
  <dcterms:modified xsi:type="dcterms:W3CDTF">2015-09-18T13:19:07Z</dcterms:modified>
  <cp:revision>4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