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7E3-D394-4D5A-9F51-72C70230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CAD-1072-4528-97DB-DA01324B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2F8-B676-425A-BEC6-4386F35D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392-FE22-423B-AAC7-3322FE84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5DF-E5D9-4909-A9DE-66989D16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4C3-416E-42C3-A99D-A8F1FC8F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40B-EF06-42C8-9D00-330A2C72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E8E-FCAA-43E5-B41F-74E3F318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304-7BEC-4D41-B586-A2E4248B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8B3-6695-4E4D-9A1E-82FE9B27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1F6-8836-4404-AB28-3F307A5A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15E-0107-4468-954F-8E382F78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6B57-132B-4452-A31C-D94CD875749F}" type="slidenum">
              <a:rPr b="0" lang="zh-CN" sz="4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9960" y="634680"/>
            <a:ext cx="77292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欧风花纹背景足球主题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93920" y="1701720"/>
            <a:ext cx="742608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7C7-064F-466E-AB9F-39E6102D06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ackslash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301680" y="559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05:56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16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